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8381A-9190-4355-B90F-3BA8B6C57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66DF4-401D-4A22-9242-C8CE739A6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AD912-A894-461A-931C-5B5F9DCE2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7ABEE-4E3B-43D2-8B2D-1B9A66F45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F5615-1707-4C61-89EC-88F9A310E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E790B-5794-4375-8A80-9CC0C12B1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F0D77-98BC-417C-A30A-4BEE774D2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DE3AA-0F6B-4F56-A836-3CAABBC04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FE5E6-42A2-45D9-B2AC-8C50D6BD88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93F62-344D-422E-BE95-4801DBA3B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073F6-F73B-4141-BB5A-ECC69948E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A38DF-74A7-426C-AE25-80C620236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63F36-1EB1-4245-BD9D-C40A0D867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C4545-AFEE-4E3F-986D-E86DA7C2C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01AF7-CD8F-4ED0-9C6C-7DB3B6762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66118-0D96-494F-9772-9380FAADF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7E663-B0A2-426A-9C9C-E94B111F6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D69AA-5FF8-4770-9514-50E67D6BB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96200-FCA6-4D57-8CE8-336F737F4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19264-EB48-4A0D-BEFF-A18A79DBD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ED019-A677-4E11-93F9-42ADE61C4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76FD7-F11A-4159-8DB0-4731B213B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B68EB-8F8E-4BD3-8B05-2613FD838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F72BD-21D9-492E-9BB1-DD22E48DB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AA1DE-3EB6-4F6C-BF7D-8BAFCF0AA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C8F60-27F9-4523-9E02-1BFC8AAD5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5415C-01A3-4A28-9545-8A2AE6E4A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CD1-2652-402E-B85C-FE75B141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2BD-F696-41D9-90F7-40668B71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D1DBA-EE82-45FC-A34A-F35EEF52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2ACA6-3CE5-4C18-BA70-DB28CF2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6D94E-63A9-4304-B846-32A0C5BD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B5693-E86D-41C3-85AC-BD70136B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2D949-4ED4-4221-81FC-05D242B6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7F1CA-7796-4643-8BF5-9B02BF6E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E4320-B087-4A3F-B0FF-BC218488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2BA7A-18E5-41AF-BB83-43A438A0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20F1C-273B-4782-AB04-C85195D8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107D4-95B1-422C-B107-C56AA6D6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B56-8E45-4F31-8F95-BCD010C1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A2B5B-503C-482B-9915-59F852B0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EAFC7-B862-4436-9DB1-8EB440F5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6BD0D-26DD-4A59-8D3C-E1193E3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B237A-9D3D-44BA-B906-2EB91348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AA20B-B01E-4A3D-9872-E2964993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BF049-2AD1-4A04-BFD2-2A7AB1E2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5266D-91BC-4C31-9DDE-50426FB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43E0D-1725-4973-801D-00F6FD0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F3C2F-B9E2-4AB1-B4B4-87D776EC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AA7C3-F287-4BC0-9BB9-10B3B355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8E1-CFD0-48AC-90D8-97AE58AE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4B652-9482-4C53-B5A0-BA1DF87D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16E60-AC1A-4FAC-9E7E-11FCFFBF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52E57-C79D-4954-B17C-95E05071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1161-3F76-49C9-A927-831996C3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EECE8-0176-429C-89A4-FF39B633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B4069-7622-42FC-98AB-6A2441A6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90E80-D496-4CD8-85F3-A035D1DE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01463-2B3B-40DC-8A5D-A974CD92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8BB94-79CC-4DD0-8971-BB0C82A6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ED64D-45F0-45D6-B9EB-E1721202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DBD1-49D0-4892-AF5B-EDA479BE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519CE-1170-480D-A230-8E02312E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3D615-1214-47DF-8220-8A290CC3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03749-EF55-41A8-9F70-D450D88B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A3CDC-5639-40A5-8F84-7BAB02AF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F0AE4-019E-4241-9719-E5E96375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9B598-AC1D-44C0-B282-66C51D9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A07FB-1617-4591-BA8B-D1170FE9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8018D-2952-4A98-802D-C6A7B2F8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77AAE-02E5-4292-9504-25ADE1DE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1EA58-A65F-4BB1-ADB6-79AEBC0C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7E2C-3461-4787-BD27-6DBC9B37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5E2D1-4328-4BB4-97AC-B6B9E48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29F84-116C-40E9-AAA9-71F33EEE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0E037-034E-487C-A17B-3DF64A77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7CC38-9684-4C35-A6E4-BDF2967A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56282-68CD-4A48-8B11-7978DE77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17C1A-9EE6-4405-A3E6-840E8291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03CD3-184C-4AC9-9E55-3994A752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5F9F4-2DFD-4B22-8C2F-0419D956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1056D-41F3-4F92-9610-66313F92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6D237-3A4A-4E86-80EA-892E639C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6CBC-56B9-4BD1-9819-DD5D9D43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20C81-F7DF-4AAF-B1C8-0EA8E50E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A76C6-5A3E-47A9-8CB3-39C73991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6DD76-A6F9-4966-8248-8B4828D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07D7A-A496-492B-B1DD-9B061A28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E038E-9294-465D-9C4F-E82A1AB2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D4A2A-2DBE-4B56-AAD0-FC45E8E6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CD3AC-475B-44E8-8EF6-2FD6B13B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2BBA7-4110-4624-B520-EEB17D3A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1AA10-E43C-4778-BE26-F1051A88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ABDF0-FDD0-40D6-BE4D-C1B2402B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7AFC-7FA0-4415-BA62-96E9A507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0DA42F-76A2-4CDC-9FB7-4F3328E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0A63F-BEB3-468A-A52F-3F37F754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C60AA-26C2-439A-977C-84DB6863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1F661-8AD7-4BDD-93D7-EFF0447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1A0DA-B6D1-438D-BFB1-BCAC1B8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9B0C2-5A39-4C04-91E8-0830A906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23264-AD00-4A3A-9F6C-ADF35656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666A1-D124-4DF3-A81E-5710E35B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59237-BF27-43A8-B635-3AF48FE2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565F-6C1E-4947-AD0C-134CD88E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6593-25B9-4157-9AFE-FC99AFA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B30E-40C5-489A-8EE3-0F453C7E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562-3EC7-4D78-88ED-6179F5B4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BA80-1A0D-4F53-B865-CAB47F0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7453-E436-4067-A1C4-83012E2A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DAA-693E-41F0-9526-A11B9F0E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E367-14CA-46EB-9BD8-D78CFE23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06DE-A8A1-4808-9729-0B65E085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14AB-E441-4126-8A10-8AFFD060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BC89-4360-43EF-BD3D-9562428C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6AC6-E9DE-4203-92DF-C5065C97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EF30-5A4A-4B4C-A5B6-62905136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A869-894C-4C03-BCB4-E2DABB71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6BD-16DF-4247-AFE4-9ED46C12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4B7E-6170-46E6-AB4A-22086587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2BEA-B0CA-4384-92CC-A8009862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9AED-D5EA-49FF-8E66-72EE507D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789F-0DF8-4257-88D2-D97FC28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1D761-0BCD-4615-A5AD-B7AC1488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50D4-9B04-4780-9F82-169DBA18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8CAA-3F3C-433A-AF29-A66C989B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E62D-6630-4FA4-A74A-0ACC10FE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20AD-2FD5-4304-8EE4-87F0D06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40CD-4FEC-4B19-BE2F-3ADA0E16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63A-1088-4959-BD1C-854E0129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6EA1B-2170-49F3-84AA-6BC37832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22D1-2E0E-40D1-8B89-3449632A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B7735-A164-47B7-A570-9AF174D0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31C7-EE38-471B-9DD7-02A26AD7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2C363-AE1C-4B12-9603-86885CA5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DDF6-FAC9-4AB5-8E1D-BDA4A178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4C9B-6F4B-4865-9CA3-F86AE071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27FC-2320-4CD3-A4F6-ED723745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566B-3230-4F6B-B190-291A8B1C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EC2B-4D0C-4477-A55D-49A838A8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92B-53DC-4B9F-8E9E-48BC21FE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2BA4-24F1-45C5-AB79-AFD071CD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13B6-7188-4886-88AC-067B1DB5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0DB4-9ADE-4AAA-8D9C-9BE4C9EF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121F7-545A-489A-8A54-B2815A76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620D3-E2AF-4A29-8C67-B265A512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7CD3-7011-4228-B77F-D8108335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BAD8F-5A12-436B-9B0C-0EFD095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E4E26-067D-49B0-9C35-7EEC964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A2CE7-E1BE-4808-917C-C25FF304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9361-94FC-4D08-8366-8FE75B61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347-26A9-40EF-9778-2B2EFA7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AA1CE-C2A9-4264-97E2-5E14BB75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011D-DCF8-4C02-8F29-3611C9CC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59393-0100-4E36-B5F5-0AB6D92E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4316B-9F55-4365-B321-1F19DFB2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09126-42DA-41E2-BB16-CCCA0678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682CE-E11A-4826-AC6B-A49939C9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76572-A7FA-45A4-B90C-7271852E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02DB-962A-4FF3-8A40-FFCE24D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A8A86-40F7-4A34-8951-1B78637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CCF0-AEEE-415C-96D5-E6053B36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DB0-CD04-41F8-BEE0-01CEFC0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061AA-70C5-4503-A245-2C0C56CF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D230-901B-48AD-ACE2-8529CFB9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554B-6C21-426E-B260-EE94BE87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F1C4C-EC87-4ED5-A916-0D505110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7F247-DA5B-42E0-82BC-8E358540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1B19-3CA8-4B08-A878-F47F703F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6738D-2F27-4210-A984-7958E944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6251F-8956-4B1E-90AB-F054BA88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4839-FAFE-415A-A682-C6CFB799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9C16-28BA-4B61-8B17-426BB0C2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78F-D68F-45AA-9224-915D7988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B2C1E-AEFA-4C7C-A2BE-DD3E0D8A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4FE63-8A5B-4C2D-B970-B5950B96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0334B-A998-4AB0-8E93-43C79543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CF68-0500-4EE6-A105-2A48CACD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EAA51-938B-4A14-90CC-B4BD726D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F039-7611-470A-AD86-DC09AFFD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14CFE-7F49-4D9F-B8E7-044BF6DD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CEFF5-09D6-409C-979D-5B55FE75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3D3A-BA85-4B72-844D-FCD16F86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64312-5EED-43AE-BF51-FAE491A8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32A-DE7A-4FA0-A51A-2AEF65D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2F491-19A4-4233-97DB-7D3CC15A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04C80-3E29-4192-84FD-747C1F7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BAEBD-BDBF-464F-A6FC-21FE010A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5527-24B2-4FE0-83A2-3433324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FFA16-48CC-4565-8303-D4FAF1E1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FBF9-F0FF-45F1-A1A7-AF071BB2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D17BC-734A-44F0-BB61-F5BC009E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5B5AD-2F2F-4AF4-B982-F831D344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3553F-3580-4ADC-A311-78B5CD42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D8E4A-D49C-4088-B20D-69856637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24200" y="6476760"/>
            <a:ext cx="28954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7532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914F5522-2D6C-4916-B795-4A50CD0B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FF99378-DA0E-41FC-A1DB-5C15CD63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71F362F-93B5-4AF5-B882-61DDFB8EE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5405D48-DF74-451F-A110-897B484F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3DAC1F3-EDAF-407B-B54D-0B6FCAD2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95DBB3A-7727-4283-8EE4-DC394BAE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902AAE9-F18D-42EC-853F-8AA56D8E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2977296-F770-4E39-9FA6-2441C7FDB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E8D5FF2-CA22-4F6E-82F6-EEBB6D72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C9AEA1A-66AB-416B-B490-B56619F8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69D6E2E-9A04-4031-8431-54B6A0C1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0D6FC5F-C600-4455-8C22-8F9878CC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92F3774-5155-4243-80A7-2A77BB869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705C856-5399-4BCD-B987-56E2A1ABC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358920" y="1370160"/>
            <a:ext cx="545292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9</a:t>
            </a:r>
            <a:br>
              <a:rPr sz="4800"/>
            </a:br>
            <a:r>
              <a:rPr b="0" lang="en-US" sz="4400" spc="-1" strike="noStrike">
                <a:solidFill>
                  <a:srgbClr val="000090"/>
                </a:solidFill>
                <a:latin typeface="Gill Sans MT"/>
                <a:ea typeface="Arial"/>
              </a:rPr>
              <a:t>Networ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6184800" y="3078000"/>
            <a:ext cx="288144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Gill Sans MT"/>
                <a:ea typeface="Arial"/>
              </a:rPr>
              <a:t>Computer Networking: A Top Down Approach 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6</a:t>
            </a:r>
            <a:r>
              <a:rPr b="0" lang="en-US" sz="2000" spc="-1" strike="noStrike" baseline="30000">
                <a:solidFill>
                  <a:srgbClr val="008000"/>
                </a:solidFill>
                <a:latin typeface="Gill Sans MT"/>
                <a:ea typeface="Arial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 edition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Jim Kurose, Keith Ross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Addison-Wesley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March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69720" y="3268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ote on the use of these ppt sli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making these slides freely available to all (faculty, students, readers). The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72960" y="4267080"/>
            <a:ext cx="537840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material copyright 1996-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8" descr=""/>
          <p:cNvPicPr/>
          <p:nvPr/>
        </p:nvPicPr>
        <p:blipFill>
          <a:blip r:embed="rId1"/>
          <a:stretch/>
        </p:blipFill>
        <p:spPr>
          <a:xfrm>
            <a:off x="482760" y="5942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" descr="6e_cover.jpg"/>
          <p:cNvPicPr/>
          <p:nvPr/>
        </p:nvPicPr>
        <p:blipFill>
          <a:blip r:embed="rId2"/>
          <a:stretch/>
        </p:blipFill>
        <p:spPr>
          <a:xfrm>
            <a:off x="6232680" y="511200"/>
            <a:ext cx="2306520" cy="2773440"/>
          </a:xfrm>
          <a:prstGeom prst="rect">
            <a:avLst/>
          </a:prstGeom>
          <a:ln w="0">
            <a:noFill/>
          </a:ln>
        </p:spPr>
      </p:pic>
      <p:sp>
        <p:nvSpPr>
          <p:cNvPr id="587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75D710AD-394E-43EA-8F47-7433EB96A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23" descr="underline_base"/>
          <p:cNvPicPr/>
          <p:nvPr/>
        </p:nvPicPr>
        <p:blipFill>
          <a:blip r:embed="rId3"/>
          <a:stretch/>
        </p:blipFill>
        <p:spPr>
          <a:xfrm>
            <a:off x="406440" y="2884320"/>
            <a:ext cx="523872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B2E14DE-F92A-4FEA-BB27-4064A0F8D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1090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NMP MIB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Oval 6"/>
          <p:cNvSpPr/>
          <p:nvPr/>
        </p:nvSpPr>
        <p:spPr>
          <a:xfrm>
            <a:off x="3274920" y="3348000"/>
            <a:ext cx="2351160" cy="642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567960" y="338760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000680" y="378468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013280" y="384192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4025880" y="389880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12"/>
          <p:cNvSpPr/>
          <p:nvPr/>
        </p:nvSpPr>
        <p:spPr>
          <a:xfrm>
            <a:off x="2023920" y="3722760"/>
            <a:ext cx="2351160" cy="642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2316960" y="37623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14"/>
          <p:cNvSpPr/>
          <p:nvPr/>
        </p:nvSpPr>
        <p:spPr>
          <a:xfrm>
            <a:off x="2749680" y="415908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15"/>
          <p:cNvSpPr/>
          <p:nvPr/>
        </p:nvSpPr>
        <p:spPr>
          <a:xfrm>
            <a:off x="2762280" y="421632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16"/>
          <p:cNvSpPr/>
          <p:nvPr/>
        </p:nvSpPr>
        <p:spPr>
          <a:xfrm>
            <a:off x="2774880" y="427356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18"/>
          <p:cNvSpPr/>
          <p:nvPr/>
        </p:nvSpPr>
        <p:spPr>
          <a:xfrm>
            <a:off x="3541680" y="3830760"/>
            <a:ext cx="2351160" cy="642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834360" y="38703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20"/>
          <p:cNvSpPr/>
          <p:nvPr/>
        </p:nvSpPr>
        <p:spPr>
          <a:xfrm>
            <a:off x="4267080" y="426708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21"/>
          <p:cNvSpPr/>
          <p:nvPr/>
        </p:nvSpPr>
        <p:spPr>
          <a:xfrm>
            <a:off x="4280040" y="432432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22"/>
          <p:cNvSpPr/>
          <p:nvPr/>
        </p:nvSpPr>
        <p:spPr>
          <a:xfrm>
            <a:off x="4292640" y="438156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23"/>
          <p:cNvSpPr/>
          <p:nvPr/>
        </p:nvSpPr>
        <p:spPr>
          <a:xfrm>
            <a:off x="1746360" y="3222720"/>
            <a:ext cx="4924440" cy="1400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25"/>
          <p:cNvSpPr/>
          <p:nvPr/>
        </p:nvSpPr>
        <p:spPr>
          <a:xfrm>
            <a:off x="4416480" y="5018040"/>
            <a:ext cx="39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s specified via S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BJECT-TY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26"/>
          <p:cNvSpPr/>
          <p:nvPr/>
        </p:nvSpPr>
        <p:spPr>
          <a:xfrm>
            <a:off x="477720" y="1389240"/>
            <a:ext cx="49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27"/>
          <p:cNvSpPr/>
          <p:nvPr/>
        </p:nvSpPr>
        <p:spPr>
          <a:xfrm>
            <a:off x="422280" y="1405080"/>
            <a:ext cx="70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B module specified via S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MODULE-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00 standardized MIBs, more vendor-specif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28"/>
          <p:cNvSpPr/>
          <p:nvPr/>
        </p:nvSpPr>
        <p:spPr>
          <a:xfrm>
            <a:off x="2478240" y="2174760"/>
            <a:ext cx="172800" cy="1181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29"/>
          <p:cNvSpPr/>
          <p:nvPr/>
        </p:nvSpPr>
        <p:spPr>
          <a:xfrm flipH="1" flipV="1">
            <a:off x="3231720" y="4424040"/>
            <a:ext cx="738360" cy="10573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30"/>
          <p:cNvSpPr/>
          <p:nvPr/>
        </p:nvSpPr>
        <p:spPr>
          <a:xfrm flipV="1">
            <a:off x="3979800" y="4163760"/>
            <a:ext cx="7920" cy="131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31"/>
          <p:cNvSpPr/>
          <p:nvPr/>
        </p:nvSpPr>
        <p:spPr>
          <a:xfrm flipH="1" flipV="1">
            <a:off x="3632040" y="3610080"/>
            <a:ext cx="333360" cy="1885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32"/>
          <p:cNvSpPr/>
          <p:nvPr/>
        </p:nvSpPr>
        <p:spPr>
          <a:xfrm>
            <a:off x="3960720" y="5486400"/>
            <a:ext cx="527040" cy="125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35"/>
          <p:cNvGrpSpPr/>
          <p:nvPr/>
        </p:nvGrpSpPr>
        <p:grpSpPr>
          <a:xfrm>
            <a:off x="1690560" y="3247920"/>
            <a:ext cx="1483920" cy="459720"/>
            <a:chOff x="1690560" y="3247920"/>
            <a:chExt cx="1483920" cy="459720"/>
          </a:xfrm>
        </p:grpSpPr>
        <p:sp>
          <p:nvSpPr>
            <p:cNvPr id="790" name="Rectangle 34"/>
            <p:cNvSpPr/>
            <p:nvPr/>
          </p:nvSpPr>
          <p:spPr>
            <a:xfrm>
              <a:off x="1722240" y="3316320"/>
              <a:ext cx="13813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33"/>
            <p:cNvSpPr/>
            <p:nvPr/>
          </p:nvSpPr>
          <p:spPr>
            <a:xfrm>
              <a:off x="1690560" y="324792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Arial"/>
                </a:rPr>
                <a:t>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2" name="Picture 24" descr="underline_base"/>
          <p:cNvPicPr/>
          <p:nvPr/>
        </p:nvPicPr>
        <p:blipFill>
          <a:blip r:embed="rId1"/>
          <a:stretch/>
        </p:blipFill>
        <p:spPr>
          <a:xfrm>
            <a:off x="581040" y="839880"/>
            <a:ext cx="2914560" cy="1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16" descr="underline_base"/>
          <p:cNvPicPr/>
          <p:nvPr/>
        </p:nvPicPr>
        <p:blipFill>
          <a:blip r:embed="rId1"/>
          <a:stretch/>
        </p:blipFill>
        <p:spPr>
          <a:xfrm>
            <a:off x="452520" y="96192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794" name="Footer Placeholder 5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Slide Number Placeholder 6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6A5CC79-7840-4134-ACA7-9E6D5E28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33440" y="2347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I: object, module exampl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37600" y="1562040"/>
            <a:ext cx="4179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OBJECT-TYPE: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InDeli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57600" y="1550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MODULE-IDENTITY: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MI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380880" y="2460600"/>
            <a:ext cx="3738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InDelivers OBJ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      Counter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-ACCESS   read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 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number of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successfu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ed to IP us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(including ICMP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{ ip   9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8"/>
          <p:cNvSpPr/>
          <p:nvPr/>
        </p:nvSpPr>
        <p:spPr>
          <a:xfrm>
            <a:off x="4714920" y="2212920"/>
            <a:ext cx="3967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MIB MODULE-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-UPDATED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1101000Z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ZATIO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SNP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-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 McClogh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B module for managing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CMP implementations, 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luding their managemen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routes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9331000Z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{mib-2 4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18" descr="underline_base"/>
          <p:cNvPicPr/>
          <p:nvPr/>
        </p:nvPicPr>
        <p:blipFill>
          <a:blip r:embed="rId1"/>
          <a:stretch/>
        </p:blipFill>
        <p:spPr>
          <a:xfrm>
            <a:off x="592200" y="8539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802" name="Footer Placeholder 3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4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E9729A25-F6DE-4706-A6C1-9665F7AB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3520" y="15732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IB example: UDP modu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390600" y="1479600"/>
            <a:ext cx="851544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Object ID          Name                 Type            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3.6.1.2.1.7.1     UDPInDatagrams  Counter32      total # datagrams deli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is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3.6.1.2.1.7.2    UDPNoPorts          Counter32       # underliverable datagra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application a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3.6.1.2.1.7.3    UDInErrors             Counter32       # undeliverable datagra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ther rea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3.6.1.2.1.7.4    UDPOutDatagrams Counter32       # datagrams 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3.6.1.2.1.7.5    udp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one entry for each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use by app, gives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4" descr="underline_base"/>
          <p:cNvPicPr/>
          <p:nvPr/>
        </p:nvPicPr>
        <p:blipFill>
          <a:blip r:embed="rId1"/>
          <a:stretch/>
        </p:blipFill>
        <p:spPr>
          <a:xfrm>
            <a:off x="581040" y="919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807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2487FA04-3C83-4716-A364-56C24C11F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3520" y="173160"/>
            <a:ext cx="777240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NMP nam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28280" y="1420560"/>
            <a:ext cx="80326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name every possible standard object (protocol, data, more..) in every possible network standar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nswer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SO Object Identifier tre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erarchical naming of all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branchpoint has name, numb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Text Box 35"/>
          <p:cNvSpPr/>
          <p:nvPr/>
        </p:nvSpPr>
        <p:spPr>
          <a:xfrm>
            <a:off x="3225240" y="44845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1.3.6.1.2.1.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36"/>
          <p:cNvSpPr/>
          <p:nvPr/>
        </p:nvSpPr>
        <p:spPr>
          <a:xfrm>
            <a:off x="104760" y="5052960"/>
            <a:ext cx="189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-ident. O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 D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Group 42"/>
          <p:cNvGrpSpPr/>
          <p:nvPr/>
        </p:nvGrpSpPr>
        <p:grpSpPr>
          <a:xfrm>
            <a:off x="2914560" y="4888080"/>
            <a:ext cx="1251000" cy="1504800"/>
            <a:chOff x="2914560" y="4888080"/>
            <a:chExt cx="1251000" cy="1504800"/>
          </a:xfrm>
        </p:grpSpPr>
        <p:sp>
          <p:nvSpPr>
            <p:cNvPr id="814" name="Freeform 37"/>
            <p:cNvSpPr/>
            <p:nvPr/>
          </p:nvSpPr>
          <p:spPr>
            <a:xfrm>
              <a:off x="2933640" y="4932360"/>
              <a:ext cx="330120" cy="33660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0" y="212"/>
                  </a:moveTo>
                  <a:lnTo>
                    <a:pt x="100" y="212"/>
                  </a:ln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38"/>
            <p:cNvSpPr/>
            <p:nvPr/>
          </p:nvSpPr>
          <p:spPr>
            <a:xfrm>
              <a:off x="2914560" y="4888080"/>
              <a:ext cx="647640" cy="79380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0" y="500"/>
                  </a:moveTo>
                  <a:lnTo>
                    <a:pt x="160" y="500"/>
                  </a:lnTo>
                  <a:lnTo>
                    <a:pt x="4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39"/>
            <p:cNvSpPr/>
            <p:nvPr/>
          </p:nvSpPr>
          <p:spPr>
            <a:xfrm>
              <a:off x="2933640" y="4938840"/>
              <a:ext cx="882720" cy="1092240"/>
            </a:xfrm>
            <a:custGeom>
              <a:avLst/>
              <a:gdLst/>
              <a:ahLst/>
              <a:rect l="l" t="t" r="r" b="b"/>
              <a:pathLst>
                <a:path w="556" h="688">
                  <a:moveTo>
                    <a:pt x="0" y="688"/>
                  </a:moveTo>
                  <a:lnTo>
                    <a:pt x="200" y="688"/>
                  </a:lnTo>
                  <a:lnTo>
                    <a:pt x="5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40"/>
            <p:cNvSpPr/>
            <p:nvPr/>
          </p:nvSpPr>
          <p:spPr>
            <a:xfrm>
              <a:off x="2921040" y="4951440"/>
              <a:ext cx="1244520" cy="1441440"/>
            </a:xfrm>
            <a:custGeom>
              <a:avLst/>
              <a:gdLst/>
              <a:ahLst/>
              <a:rect l="l" t="t" r="r" b="b"/>
              <a:pathLst>
                <a:path w="784" h="908">
                  <a:moveTo>
                    <a:pt x="0" y="908"/>
                  </a:moveTo>
                  <a:lnTo>
                    <a:pt x="260" y="908"/>
                  </a:lnTo>
                  <a:lnTo>
                    <a:pt x="7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Group 43"/>
          <p:cNvGrpSpPr/>
          <p:nvPr/>
        </p:nvGrpSpPr>
        <p:grpSpPr>
          <a:xfrm>
            <a:off x="4425480" y="4913280"/>
            <a:ext cx="1251000" cy="1504800"/>
            <a:chOff x="4425480" y="4913280"/>
            <a:chExt cx="1251000" cy="1504800"/>
          </a:xfrm>
        </p:grpSpPr>
        <p:sp>
          <p:nvSpPr>
            <p:cNvPr id="819" name="Freeform 44"/>
            <p:cNvSpPr/>
            <p:nvPr/>
          </p:nvSpPr>
          <p:spPr>
            <a:xfrm flipH="1">
              <a:off x="5326920" y="4957560"/>
              <a:ext cx="330120" cy="33660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0" y="212"/>
                  </a:moveTo>
                  <a:lnTo>
                    <a:pt x="100" y="212"/>
                  </a:ln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45"/>
            <p:cNvSpPr/>
            <p:nvPr/>
          </p:nvSpPr>
          <p:spPr>
            <a:xfrm flipH="1">
              <a:off x="5028480" y="4913280"/>
              <a:ext cx="647640" cy="79380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0" y="500"/>
                  </a:moveTo>
                  <a:lnTo>
                    <a:pt x="160" y="500"/>
                  </a:lnTo>
                  <a:lnTo>
                    <a:pt x="4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Freeform 46"/>
            <p:cNvSpPr/>
            <p:nvPr/>
          </p:nvSpPr>
          <p:spPr>
            <a:xfrm flipH="1">
              <a:off x="4774680" y="4964040"/>
              <a:ext cx="882720" cy="1092240"/>
            </a:xfrm>
            <a:custGeom>
              <a:avLst/>
              <a:gdLst/>
              <a:ahLst/>
              <a:rect l="l" t="t" r="r" b="b"/>
              <a:pathLst>
                <a:path w="556" h="688">
                  <a:moveTo>
                    <a:pt x="0" y="688"/>
                  </a:moveTo>
                  <a:lnTo>
                    <a:pt x="200" y="688"/>
                  </a:lnTo>
                  <a:lnTo>
                    <a:pt x="5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47"/>
            <p:cNvSpPr/>
            <p:nvPr/>
          </p:nvSpPr>
          <p:spPr>
            <a:xfrm flipH="1">
              <a:off x="4425120" y="4976640"/>
              <a:ext cx="1244520" cy="1441440"/>
            </a:xfrm>
            <a:custGeom>
              <a:avLst/>
              <a:gdLst/>
              <a:ahLst/>
              <a:rect l="l" t="t" r="r" b="b"/>
              <a:pathLst>
                <a:path w="784" h="908">
                  <a:moveTo>
                    <a:pt x="0" y="908"/>
                  </a:moveTo>
                  <a:lnTo>
                    <a:pt x="260" y="908"/>
                  </a:lnTo>
                  <a:lnTo>
                    <a:pt x="7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Text Box 48"/>
          <p:cNvSpPr/>
          <p:nvPr/>
        </p:nvSpPr>
        <p:spPr>
          <a:xfrm>
            <a:off x="5694840" y="5033880"/>
            <a:ext cx="206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InDat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ooter Placeholder 3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Slide Number Placeholder 4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C842F7E4-2231-448B-BCA2-1CCCC168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1" descr=""/>
          <p:cNvPicPr/>
          <p:nvPr/>
        </p:nvPicPr>
        <p:blipFill>
          <a:blip r:embed="rId1"/>
          <a:stretch/>
        </p:blipFill>
        <p:spPr>
          <a:xfrm>
            <a:off x="1892160" y="1301760"/>
            <a:ext cx="7251840" cy="485136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160" y="509400"/>
            <a:ext cx="269244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OSI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Object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dentifier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e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828" name="Picture 24" descr="underline_base"/>
          <p:cNvPicPr/>
          <p:nvPr/>
        </p:nvPicPr>
        <p:blipFill>
          <a:blip r:embed="rId2"/>
          <a:stretch/>
        </p:blipFill>
        <p:spPr>
          <a:xfrm>
            <a:off x="581040" y="2784600"/>
            <a:ext cx="189540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199"/>
          <p:cNvGrpSpPr/>
          <p:nvPr/>
        </p:nvGrpSpPr>
        <p:grpSpPr>
          <a:xfrm>
            <a:off x="6033600" y="1720800"/>
            <a:ext cx="2694600" cy="3848040"/>
            <a:chOff x="6033600" y="1720800"/>
            <a:chExt cx="2694600" cy="3848040"/>
          </a:xfrm>
        </p:grpSpPr>
        <p:sp>
          <p:nvSpPr>
            <p:cNvPr id="830" name="Freeform 7"/>
            <p:cNvSpPr/>
            <p:nvPr/>
          </p:nvSpPr>
          <p:spPr>
            <a:xfrm>
              <a:off x="6221160" y="1720800"/>
              <a:ext cx="2218320" cy="3848040"/>
            </a:xfrm>
            <a:custGeom>
              <a:avLst/>
              <a:gdLst/>
              <a:ahLst/>
              <a:rect l="l" t="t" r="r" b="b"/>
              <a:pathLst>
                <a:path w="1476" h="2122">
                  <a:moveTo>
                    <a:pt x="61" y="516"/>
                  </a:moveTo>
                  <a:cubicBezTo>
                    <a:pt x="122" y="291"/>
                    <a:pt x="304" y="237"/>
                    <a:pt x="403" y="156"/>
                  </a:cubicBezTo>
                  <a:cubicBezTo>
                    <a:pt x="502" y="75"/>
                    <a:pt x="553" y="46"/>
                    <a:pt x="655" y="30"/>
                  </a:cubicBezTo>
                  <a:cubicBezTo>
                    <a:pt x="757" y="14"/>
                    <a:pt x="890" y="0"/>
                    <a:pt x="1015" y="60"/>
                  </a:cubicBezTo>
                  <a:cubicBezTo>
                    <a:pt x="1140" y="120"/>
                    <a:pt x="1334" y="251"/>
                    <a:pt x="1405" y="390"/>
                  </a:cubicBezTo>
                  <a:cubicBezTo>
                    <a:pt x="1476" y="529"/>
                    <a:pt x="1437" y="728"/>
                    <a:pt x="1441" y="894"/>
                  </a:cubicBezTo>
                  <a:cubicBezTo>
                    <a:pt x="1445" y="1060"/>
                    <a:pt x="1440" y="1242"/>
                    <a:pt x="1429" y="1386"/>
                  </a:cubicBezTo>
                  <a:cubicBezTo>
                    <a:pt x="1418" y="1530"/>
                    <a:pt x="1422" y="1668"/>
                    <a:pt x="1375" y="1758"/>
                  </a:cubicBezTo>
                  <a:cubicBezTo>
                    <a:pt x="1328" y="1848"/>
                    <a:pt x="1252" y="1880"/>
                    <a:pt x="1147" y="1926"/>
                  </a:cubicBezTo>
                  <a:cubicBezTo>
                    <a:pt x="1042" y="1972"/>
                    <a:pt x="907" y="2016"/>
                    <a:pt x="745" y="2034"/>
                  </a:cubicBezTo>
                  <a:cubicBezTo>
                    <a:pt x="583" y="2052"/>
                    <a:pt x="293" y="2122"/>
                    <a:pt x="175" y="2034"/>
                  </a:cubicBezTo>
                  <a:cubicBezTo>
                    <a:pt x="57" y="1946"/>
                    <a:pt x="56" y="1759"/>
                    <a:pt x="37" y="1506"/>
                  </a:cubicBezTo>
                  <a:cubicBezTo>
                    <a:pt x="18" y="1253"/>
                    <a:pt x="0" y="741"/>
                    <a:pt x="61" y="516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Group 210"/>
            <p:cNvGrpSpPr/>
            <p:nvPr/>
          </p:nvGrpSpPr>
          <p:grpSpPr>
            <a:xfrm>
              <a:off x="7741800" y="3436560"/>
              <a:ext cx="650520" cy="282600"/>
              <a:chOff x="7741800" y="3436560"/>
              <a:chExt cx="650520" cy="282600"/>
            </a:xfrm>
          </p:grpSpPr>
          <p:sp>
            <p:nvSpPr>
              <p:cNvPr id="832" name="Oval 211"/>
              <p:cNvSpPr/>
              <p:nvPr/>
            </p:nvSpPr>
            <p:spPr>
              <a:xfrm>
                <a:off x="7746840" y="3562560"/>
                <a:ext cx="645480" cy="156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12"/>
              <p:cNvSpPr/>
              <p:nvPr/>
            </p:nvSpPr>
            <p:spPr>
              <a:xfrm>
                <a:off x="7746840" y="3549240"/>
                <a:ext cx="0" cy="9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13"/>
              <p:cNvSpPr/>
              <p:nvPr/>
            </p:nvSpPr>
            <p:spPr>
              <a:xfrm>
                <a:off x="8392320" y="3549240"/>
                <a:ext cx="0" cy="9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Rectangle 214"/>
              <p:cNvSpPr/>
              <p:nvPr/>
            </p:nvSpPr>
            <p:spPr>
              <a:xfrm>
                <a:off x="7746840" y="3549240"/>
                <a:ext cx="639720" cy="95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Oval 215"/>
              <p:cNvSpPr/>
              <p:nvPr/>
            </p:nvSpPr>
            <p:spPr>
              <a:xfrm>
                <a:off x="7741800" y="3436560"/>
                <a:ext cx="644760" cy="182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" name="Group 216"/>
              <p:cNvGrpSpPr/>
              <p:nvPr/>
            </p:nvGrpSpPr>
            <p:grpSpPr>
              <a:xfrm>
                <a:off x="7896960" y="3476520"/>
                <a:ext cx="319680" cy="106920"/>
                <a:chOff x="7896960" y="3476520"/>
                <a:chExt cx="319680" cy="106920"/>
              </a:xfrm>
            </p:grpSpPr>
            <p:sp>
              <p:nvSpPr>
                <p:cNvPr id="838" name="Line 217"/>
                <p:cNvSpPr/>
                <p:nvPr/>
              </p:nvSpPr>
              <p:spPr>
                <a:xfrm flipV="1">
                  <a:off x="7896960" y="3476520"/>
                  <a:ext cx="1137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Line 218"/>
                <p:cNvSpPr/>
                <p:nvPr/>
              </p:nvSpPr>
              <p:spPr>
                <a:xfrm>
                  <a:off x="8116200" y="3583440"/>
                  <a:ext cx="100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Line 219"/>
                <p:cNvSpPr/>
                <p:nvPr/>
              </p:nvSpPr>
              <p:spPr>
                <a:xfrm>
                  <a:off x="7997400" y="3477960"/>
                  <a:ext cx="120960" cy="103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Group 220"/>
              <p:cNvGrpSpPr/>
              <p:nvPr/>
            </p:nvGrpSpPr>
            <p:grpSpPr>
              <a:xfrm>
                <a:off x="7896960" y="3475440"/>
                <a:ext cx="319680" cy="106560"/>
                <a:chOff x="7896960" y="3475440"/>
                <a:chExt cx="319680" cy="106560"/>
              </a:xfrm>
            </p:grpSpPr>
            <p:sp>
              <p:nvSpPr>
                <p:cNvPr id="842" name="Line 221"/>
                <p:cNvSpPr/>
                <p:nvPr/>
              </p:nvSpPr>
              <p:spPr>
                <a:xfrm>
                  <a:off x="7896960" y="3581280"/>
                  <a:ext cx="1137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Line 222"/>
                <p:cNvSpPr/>
                <p:nvPr/>
              </p:nvSpPr>
              <p:spPr>
                <a:xfrm>
                  <a:off x="8116200" y="3475440"/>
                  <a:ext cx="100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223"/>
                <p:cNvSpPr/>
                <p:nvPr/>
              </p:nvSpPr>
              <p:spPr>
                <a:xfrm flipV="1">
                  <a:off x="7997400" y="3475800"/>
                  <a:ext cx="120960" cy="103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5" name="Line 252"/>
            <p:cNvSpPr/>
            <p:nvPr/>
          </p:nvSpPr>
          <p:spPr>
            <a:xfrm flipV="1">
              <a:off x="7246440" y="2711880"/>
              <a:ext cx="326880" cy="96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254"/>
            <p:cNvSpPr/>
            <p:nvPr/>
          </p:nvSpPr>
          <p:spPr>
            <a:xfrm flipV="1">
              <a:off x="7567560" y="3592800"/>
              <a:ext cx="181800" cy="19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55"/>
            <p:cNvSpPr/>
            <p:nvPr/>
          </p:nvSpPr>
          <p:spPr>
            <a:xfrm flipV="1">
              <a:off x="8389080" y="3575880"/>
              <a:ext cx="3391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56"/>
            <p:cNvSpPr/>
            <p:nvPr/>
          </p:nvSpPr>
          <p:spPr>
            <a:xfrm flipV="1">
              <a:off x="7061400" y="5144040"/>
              <a:ext cx="3391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71"/>
            <p:cNvSpPr/>
            <p:nvPr/>
          </p:nvSpPr>
          <p:spPr>
            <a:xfrm flipV="1">
              <a:off x="6175080" y="5138280"/>
              <a:ext cx="3391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72"/>
            <p:cNvSpPr/>
            <p:nvPr/>
          </p:nvSpPr>
          <p:spPr>
            <a:xfrm>
              <a:off x="7363800" y="3983760"/>
              <a:ext cx="468000" cy="57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1" name="Picture 3" descr=""/>
            <p:cNvPicPr/>
            <p:nvPr/>
          </p:nvPicPr>
          <p:blipFill>
            <a:blip r:embed="rId1"/>
            <a:stretch/>
          </p:blipFill>
          <p:spPr>
            <a:xfrm>
              <a:off x="6893640" y="3681720"/>
              <a:ext cx="712800" cy="30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2" name="Group 906"/>
            <p:cNvGrpSpPr/>
            <p:nvPr/>
          </p:nvGrpSpPr>
          <p:grpSpPr>
            <a:xfrm>
              <a:off x="7707600" y="4551840"/>
              <a:ext cx="354240" cy="534600"/>
              <a:chOff x="7707600" y="4551840"/>
              <a:chExt cx="354240" cy="534600"/>
            </a:xfrm>
          </p:grpSpPr>
          <p:sp>
            <p:nvSpPr>
              <p:cNvPr id="853" name="Freeform 907"/>
              <p:cNvSpPr/>
              <p:nvPr/>
            </p:nvSpPr>
            <p:spPr>
              <a:xfrm>
                <a:off x="7988400" y="4552560"/>
                <a:ext cx="70200" cy="510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908"/>
              <p:cNvSpPr/>
              <p:nvPr/>
            </p:nvSpPr>
            <p:spPr>
              <a:xfrm>
                <a:off x="7724520" y="4551840"/>
                <a:ext cx="259560" cy="5097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Freeform 909"/>
              <p:cNvSpPr/>
              <p:nvPr/>
            </p:nvSpPr>
            <p:spPr>
              <a:xfrm>
                <a:off x="8001720" y="4583160"/>
                <a:ext cx="41760" cy="4719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Freeform 910"/>
              <p:cNvSpPr/>
              <p:nvPr/>
            </p:nvSpPr>
            <p:spPr>
              <a:xfrm>
                <a:off x="7992360" y="4822200"/>
                <a:ext cx="65160" cy="421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911"/>
              <p:cNvSpPr/>
              <p:nvPr/>
            </p:nvSpPr>
            <p:spPr>
              <a:xfrm>
                <a:off x="7725960" y="4610520"/>
                <a:ext cx="14724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Group 912"/>
              <p:cNvGrpSpPr/>
              <p:nvPr/>
            </p:nvGrpSpPr>
            <p:grpSpPr>
              <a:xfrm>
                <a:off x="7859160" y="4605120"/>
                <a:ext cx="144360" cy="32040"/>
                <a:chOff x="7859160" y="4605120"/>
                <a:chExt cx="144360" cy="32040"/>
              </a:xfrm>
            </p:grpSpPr>
            <p:sp>
              <p:nvSpPr>
                <p:cNvPr id="859" name="AutoShape 913"/>
                <p:cNvSpPr/>
                <p:nvPr/>
              </p:nvSpPr>
              <p:spPr>
                <a:xfrm>
                  <a:off x="7859160" y="4605120"/>
                  <a:ext cx="1443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AutoShape 914"/>
                <p:cNvSpPr/>
                <p:nvPr/>
              </p:nvSpPr>
              <p:spPr>
                <a:xfrm>
                  <a:off x="7862040" y="4609440"/>
                  <a:ext cx="138240" cy="24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Rectangle 915"/>
              <p:cNvSpPr/>
              <p:nvPr/>
            </p:nvSpPr>
            <p:spPr>
              <a:xfrm>
                <a:off x="7728840" y="4683600"/>
                <a:ext cx="14724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2" name="Group 916"/>
              <p:cNvGrpSpPr/>
              <p:nvPr/>
            </p:nvGrpSpPr>
            <p:grpSpPr>
              <a:xfrm>
                <a:off x="7858440" y="4677840"/>
                <a:ext cx="144360" cy="29880"/>
                <a:chOff x="7858440" y="4677840"/>
                <a:chExt cx="144360" cy="29880"/>
              </a:xfrm>
            </p:grpSpPr>
            <p:sp>
              <p:nvSpPr>
                <p:cNvPr id="863" name="AutoShape 917"/>
                <p:cNvSpPr/>
                <p:nvPr/>
              </p:nvSpPr>
              <p:spPr>
                <a:xfrm>
                  <a:off x="7858440" y="4677840"/>
                  <a:ext cx="144360" cy="298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AutoShape 918"/>
                <p:cNvSpPr/>
                <p:nvPr/>
              </p:nvSpPr>
              <p:spPr>
                <a:xfrm>
                  <a:off x="7861320" y="4680360"/>
                  <a:ext cx="13824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Rectangle 919"/>
              <p:cNvSpPr/>
              <p:nvPr/>
            </p:nvSpPr>
            <p:spPr>
              <a:xfrm>
                <a:off x="7725960" y="4759920"/>
                <a:ext cx="1486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920"/>
              <p:cNvSpPr/>
              <p:nvPr/>
            </p:nvSpPr>
            <p:spPr>
              <a:xfrm>
                <a:off x="7728840" y="4825800"/>
                <a:ext cx="1486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7" name="Group 921"/>
              <p:cNvGrpSpPr/>
              <p:nvPr/>
            </p:nvGrpSpPr>
            <p:grpSpPr>
              <a:xfrm>
                <a:off x="7855560" y="4819320"/>
                <a:ext cx="144720" cy="33480"/>
                <a:chOff x="7855560" y="4819320"/>
                <a:chExt cx="144720" cy="33480"/>
              </a:xfrm>
            </p:grpSpPr>
            <p:sp>
              <p:nvSpPr>
                <p:cNvPr id="868" name="AutoShape 922"/>
                <p:cNvSpPr/>
                <p:nvPr/>
              </p:nvSpPr>
              <p:spPr>
                <a:xfrm>
                  <a:off x="7855560" y="4819320"/>
                  <a:ext cx="144720" cy="33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AutoShape 923"/>
                <p:cNvSpPr/>
                <p:nvPr/>
              </p:nvSpPr>
              <p:spPr>
                <a:xfrm>
                  <a:off x="7858440" y="4823640"/>
                  <a:ext cx="138600" cy="26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0" name="Freeform 924"/>
              <p:cNvSpPr/>
              <p:nvPr/>
            </p:nvSpPr>
            <p:spPr>
              <a:xfrm>
                <a:off x="7993440" y="4758120"/>
                <a:ext cx="65160" cy="417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925"/>
              <p:cNvGrpSpPr/>
              <p:nvPr/>
            </p:nvGrpSpPr>
            <p:grpSpPr>
              <a:xfrm>
                <a:off x="7856640" y="4752000"/>
                <a:ext cx="144720" cy="30960"/>
                <a:chOff x="7856640" y="4752000"/>
                <a:chExt cx="144720" cy="30960"/>
              </a:xfrm>
            </p:grpSpPr>
            <p:sp>
              <p:nvSpPr>
                <p:cNvPr id="872" name="AutoShape 926"/>
                <p:cNvSpPr/>
                <p:nvPr/>
              </p:nvSpPr>
              <p:spPr>
                <a:xfrm>
                  <a:off x="7856640" y="4752000"/>
                  <a:ext cx="14472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AutoShape 927"/>
                <p:cNvSpPr/>
                <p:nvPr/>
              </p:nvSpPr>
              <p:spPr>
                <a:xfrm>
                  <a:off x="7859880" y="4754880"/>
                  <a:ext cx="140040" cy="23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4" name="Rectangle 928"/>
              <p:cNvSpPr/>
              <p:nvPr/>
            </p:nvSpPr>
            <p:spPr>
              <a:xfrm>
                <a:off x="7983720" y="4551840"/>
                <a:ext cx="16920" cy="51120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929"/>
              <p:cNvSpPr/>
              <p:nvPr/>
            </p:nvSpPr>
            <p:spPr>
              <a:xfrm>
                <a:off x="7999200" y="4680720"/>
                <a:ext cx="59040" cy="47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930"/>
              <p:cNvSpPr/>
              <p:nvPr/>
            </p:nvSpPr>
            <p:spPr>
              <a:xfrm>
                <a:off x="7999920" y="4607640"/>
                <a:ext cx="60480" cy="532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Oval 931"/>
              <p:cNvSpPr/>
              <p:nvPr/>
            </p:nvSpPr>
            <p:spPr>
              <a:xfrm>
                <a:off x="8049960" y="5038200"/>
                <a:ext cx="11880" cy="21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932"/>
              <p:cNvSpPr/>
              <p:nvPr/>
            </p:nvSpPr>
            <p:spPr>
              <a:xfrm>
                <a:off x="7996680" y="5039640"/>
                <a:ext cx="60840" cy="4464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AutoShape 933"/>
              <p:cNvSpPr/>
              <p:nvPr/>
            </p:nvSpPr>
            <p:spPr>
              <a:xfrm>
                <a:off x="7707600" y="5054400"/>
                <a:ext cx="298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AutoShape 934"/>
              <p:cNvSpPr/>
              <p:nvPr/>
            </p:nvSpPr>
            <p:spPr>
              <a:xfrm>
                <a:off x="7724520" y="5061600"/>
                <a:ext cx="26568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Oval 935"/>
              <p:cNvSpPr/>
              <p:nvPr/>
            </p:nvSpPr>
            <p:spPr>
              <a:xfrm>
                <a:off x="7749000" y="4988520"/>
                <a:ext cx="39600" cy="30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Oval 936"/>
              <p:cNvSpPr/>
              <p:nvPr/>
            </p:nvSpPr>
            <p:spPr>
              <a:xfrm>
                <a:off x="7793280" y="4988520"/>
                <a:ext cx="39600" cy="32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Oval 937"/>
              <p:cNvSpPr/>
              <p:nvPr/>
            </p:nvSpPr>
            <p:spPr>
              <a:xfrm>
                <a:off x="7837920" y="4987080"/>
                <a:ext cx="38160" cy="320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938"/>
              <p:cNvSpPr/>
              <p:nvPr/>
            </p:nvSpPr>
            <p:spPr>
              <a:xfrm>
                <a:off x="7936200" y="4865400"/>
                <a:ext cx="21240" cy="1695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44"/>
            <p:cNvGrpSpPr/>
            <p:nvPr/>
          </p:nvGrpSpPr>
          <p:grpSpPr>
            <a:xfrm>
              <a:off x="7190640" y="2171160"/>
              <a:ext cx="873720" cy="670320"/>
              <a:chOff x="7190640" y="2171160"/>
              <a:chExt cx="873720" cy="670320"/>
            </a:xfrm>
          </p:grpSpPr>
          <p:pic>
            <p:nvPicPr>
              <p:cNvPr id="886" name="Picture 45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7190640" y="2171160"/>
                <a:ext cx="873720" cy="67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Freeform 46"/>
              <p:cNvSpPr/>
              <p:nvPr/>
            </p:nvSpPr>
            <p:spPr>
              <a:xfrm flipH="1">
                <a:off x="7563240" y="2235240"/>
                <a:ext cx="424800" cy="3067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44"/>
            <p:cNvGrpSpPr/>
            <p:nvPr/>
          </p:nvGrpSpPr>
          <p:grpSpPr>
            <a:xfrm>
              <a:off x="6033600" y="2572200"/>
              <a:ext cx="873720" cy="670320"/>
              <a:chOff x="6033600" y="2572200"/>
              <a:chExt cx="873720" cy="670320"/>
            </a:xfrm>
          </p:grpSpPr>
          <p:pic>
            <p:nvPicPr>
              <p:cNvPr id="889" name="Picture 45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6033600" y="2572200"/>
                <a:ext cx="873720" cy="67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Freeform 46"/>
              <p:cNvSpPr/>
              <p:nvPr/>
            </p:nvSpPr>
            <p:spPr>
              <a:xfrm flipH="1">
                <a:off x="6406200" y="2636280"/>
                <a:ext cx="424800" cy="3067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Line 272"/>
            <p:cNvSpPr/>
            <p:nvPr/>
          </p:nvSpPr>
          <p:spPr>
            <a:xfrm>
              <a:off x="6689160" y="3170520"/>
              <a:ext cx="360000" cy="51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272"/>
            <p:cNvSpPr/>
            <p:nvPr/>
          </p:nvSpPr>
          <p:spPr>
            <a:xfrm flipH="1">
              <a:off x="6896520" y="3975120"/>
              <a:ext cx="258120" cy="10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257"/>
            <p:cNvGrpSpPr/>
            <p:nvPr/>
          </p:nvGrpSpPr>
          <p:grpSpPr>
            <a:xfrm>
              <a:off x="6379920" y="4944240"/>
              <a:ext cx="688680" cy="306360"/>
              <a:chOff x="6379920" y="4944240"/>
              <a:chExt cx="688680" cy="306360"/>
            </a:xfrm>
          </p:grpSpPr>
          <p:sp>
            <p:nvSpPr>
              <p:cNvPr id="894" name="Oval 258"/>
              <p:cNvSpPr/>
              <p:nvPr/>
            </p:nvSpPr>
            <p:spPr>
              <a:xfrm>
                <a:off x="6385320" y="5081040"/>
                <a:ext cx="683280" cy="169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259"/>
              <p:cNvSpPr/>
              <p:nvPr/>
            </p:nvSpPr>
            <p:spPr>
              <a:xfrm>
                <a:off x="6385320" y="5066640"/>
                <a:ext cx="0" cy="10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260"/>
              <p:cNvSpPr/>
              <p:nvPr/>
            </p:nvSpPr>
            <p:spPr>
              <a:xfrm>
                <a:off x="7068600" y="5066640"/>
                <a:ext cx="0" cy="10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261"/>
              <p:cNvSpPr/>
              <p:nvPr/>
            </p:nvSpPr>
            <p:spPr>
              <a:xfrm>
                <a:off x="6385320" y="5066640"/>
                <a:ext cx="677160" cy="103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262"/>
              <p:cNvSpPr/>
              <p:nvPr/>
            </p:nvSpPr>
            <p:spPr>
              <a:xfrm>
                <a:off x="6379920" y="4944240"/>
                <a:ext cx="682560" cy="1980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9" name="Group 263"/>
              <p:cNvGrpSpPr/>
              <p:nvPr/>
            </p:nvGrpSpPr>
            <p:grpSpPr>
              <a:xfrm>
                <a:off x="6544080" y="4987440"/>
                <a:ext cx="338040" cy="115920"/>
                <a:chOff x="6544080" y="4987440"/>
                <a:chExt cx="338040" cy="115920"/>
              </a:xfrm>
            </p:grpSpPr>
            <p:sp>
              <p:nvSpPr>
                <p:cNvPr id="900" name="Line 264"/>
                <p:cNvSpPr/>
                <p:nvPr/>
              </p:nvSpPr>
              <p:spPr>
                <a:xfrm flipV="1">
                  <a:off x="6544080" y="4987440"/>
                  <a:ext cx="1206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Line 265"/>
                <p:cNvSpPr/>
                <p:nvPr/>
              </p:nvSpPr>
              <p:spPr>
                <a:xfrm>
                  <a:off x="6775920" y="5103360"/>
                  <a:ext cx="106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Line 266"/>
                <p:cNvSpPr/>
                <p:nvPr/>
              </p:nvSpPr>
              <p:spPr>
                <a:xfrm>
                  <a:off x="6650280" y="4988880"/>
                  <a:ext cx="128160" cy="11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Group 267"/>
              <p:cNvGrpSpPr/>
              <p:nvPr/>
            </p:nvGrpSpPr>
            <p:grpSpPr>
              <a:xfrm>
                <a:off x="6544080" y="4986000"/>
                <a:ext cx="338040" cy="115560"/>
                <a:chOff x="6544080" y="4986000"/>
                <a:chExt cx="338040" cy="115560"/>
              </a:xfrm>
            </p:grpSpPr>
            <p:sp>
              <p:nvSpPr>
                <p:cNvPr id="904" name="Line 268"/>
                <p:cNvSpPr/>
                <p:nvPr/>
              </p:nvSpPr>
              <p:spPr>
                <a:xfrm>
                  <a:off x="6544080" y="5100840"/>
                  <a:ext cx="1206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Line 269"/>
                <p:cNvSpPr/>
                <p:nvPr/>
              </p:nvSpPr>
              <p:spPr>
                <a:xfrm>
                  <a:off x="6775920" y="4986000"/>
                  <a:ext cx="106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Line 270"/>
                <p:cNvSpPr/>
                <p:nvPr/>
              </p:nvSpPr>
              <p:spPr>
                <a:xfrm flipV="1">
                  <a:off x="6650280" y="4986360"/>
                  <a:ext cx="128160" cy="11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7" name="Group 117"/>
          <p:cNvGrpSpPr/>
          <p:nvPr/>
        </p:nvGrpSpPr>
        <p:grpSpPr>
          <a:xfrm>
            <a:off x="1820880" y="1739880"/>
            <a:ext cx="2693880" cy="3848040"/>
            <a:chOff x="1820880" y="1739880"/>
            <a:chExt cx="2693880" cy="3848040"/>
          </a:xfrm>
        </p:grpSpPr>
        <p:sp>
          <p:nvSpPr>
            <p:cNvPr id="908" name="Freeform 7"/>
            <p:cNvSpPr/>
            <p:nvPr/>
          </p:nvSpPr>
          <p:spPr>
            <a:xfrm>
              <a:off x="2008080" y="1739880"/>
              <a:ext cx="2218320" cy="3848040"/>
            </a:xfrm>
            <a:custGeom>
              <a:avLst/>
              <a:gdLst/>
              <a:ahLst/>
              <a:rect l="l" t="t" r="r" b="b"/>
              <a:pathLst>
                <a:path w="1476" h="2122">
                  <a:moveTo>
                    <a:pt x="61" y="516"/>
                  </a:moveTo>
                  <a:cubicBezTo>
                    <a:pt x="122" y="291"/>
                    <a:pt x="304" y="237"/>
                    <a:pt x="403" y="156"/>
                  </a:cubicBezTo>
                  <a:cubicBezTo>
                    <a:pt x="502" y="75"/>
                    <a:pt x="553" y="46"/>
                    <a:pt x="655" y="30"/>
                  </a:cubicBezTo>
                  <a:cubicBezTo>
                    <a:pt x="757" y="14"/>
                    <a:pt x="890" y="0"/>
                    <a:pt x="1015" y="60"/>
                  </a:cubicBezTo>
                  <a:cubicBezTo>
                    <a:pt x="1140" y="120"/>
                    <a:pt x="1334" y="251"/>
                    <a:pt x="1405" y="390"/>
                  </a:cubicBezTo>
                  <a:cubicBezTo>
                    <a:pt x="1476" y="529"/>
                    <a:pt x="1437" y="728"/>
                    <a:pt x="1441" y="894"/>
                  </a:cubicBezTo>
                  <a:cubicBezTo>
                    <a:pt x="1445" y="1060"/>
                    <a:pt x="1440" y="1242"/>
                    <a:pt x="1429" y="1386"/>
                  </a:cubicBezTo>
                  <a:cubicBezTo>
                    <a:pt x="1418" y="1530"/>
                    <a:pt x="1422" y="1668"/>
                    <a:pt x="1375" y="1758"/>
                  </a:cubicBezTo>
                  <a:cubicBezTo>
                    <a:pt x="1328" y="1848"/>
                    <a:pt x="1252" y="1880"/>
                    <a:pt x="1147" y="1926"/>
                  </a:cubicBezTo>
                  <a:cubicBezTo>
                    <a:pt x="1042" y="1972"/>
                    <a:pt x="907" y="2016"/>
                    <a:pt x="745" y="2034"/>
                  </a:cubicBezTo>
                  <a:cubicBezTo>
                    <a:pt x="583" y="2052"/>
                    <a:pt x="293" y="2122"/>
                    <a:pt x="175" y="2034"/>
                  </a:cubicBezTo>
                  <a:cubicBezTo>
                    <a:pt x="57" y="1946"/>
                    <a:pt x="56" y="1759"/>
                    <a:pt x="37" y="1506"/>
                  </a:cubicBezTo>
                  <a:cubicBezTo>
                    <a:pt x="18" y="1253"/>
                    <a:pt x="0" y="741"/>
                    <a:pt x="61" y="516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Group 210"/>
            <p:cNvGrpSpPr/>
            <p:nvPr/>
          </p:nvGrpSpPr>
          <p:grpSpPr>
            <a:xfrm>
              <a:off x="3528720" y="3455640"/>
              <a:ext cx="650520" cy="282600"/>
              <a:chOff x="3528720" y="3455640"/>
              <a:chExt cx="650520" cy="282600"/>
            </a:xfrm>
          </p:grpSpPr>
          <p:sp>
            <p:nvSpPr>
              <p:cNvPr id="910" name="Oval 211"/>
              <p:cNvSpPr/>
              <p:nvPr/>
            </p:nvSpPr>
            <p:spPr>
              <a:xfrm>
                <a:off x="3533760" y="3581640"/>
                <a:ext cx="645480" cy="156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12"/>
              <p:cNvSpPr/>
              <p:nvPr/>
            </p:nvSpPr>
            <p:spPr>
              <a:xfrm>
                <a:off x="3533760" y="3568320"/>
                <a:ext cx="0" cy="9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13"/>
              <p:cNvSpPr/>
              <p:nvPr/>
            </p:nvSpPr>
            <p:spPr>
              <a:xfrm>
                <a:off x="4179240" y="3568320"/>
                <a:ext cx="0" cy="9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214"/>
              <p:cNvSpPr/>
              <p:nvPr/>
            </p:nvSpPr>
            <p:spPr>
              <a:xfrm>
                <a:off x="3533760" y="3568320"/>
                <a:ext cx="639720" cy="95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215"/>
              <p:cNvSpPr/>
              <p:nvPr/>
            </p:nvSpPr>
            <p:spPr>
              <a:xfrm>
                <a:off x="3528720" y="3455640"/>
                <a:ext cx="644760" cy="182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Group 216"/>
              <p:cNvGrpSpPr/>
              <p:nvPr/>
            </p:nvGrpSpPr>
            <p:grpSpPr>
              <a:xfrm>
                <a:off x="3683880" y="3495600"/>
                <a:ext cx="319680" cy="106920"/>
                <a:chOff x="3683880" y="3495600"/>
                <a:chExt cx="319680" cy="106920"/>
              </a:xfrm>
            </p:grpSpPr>
            <p:sp>
              <p:nvSpPr>
                <p:cNvPr id="916" name="Line 217"/>
                <p:cNvSpPr/>
                <p:nvPr/>
              </p:nvSpPr>
              <p:spPr>
                <a:xfrm flipV="1">
                  <a:off x="3683880" y="3495600"/>
                  <a:ext cx="1137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Line 218"/>
                <p:cNvSpPr/>
                <p:nvPr/>
              </p:nvSpPr>
              <p:spPr>
                <a:xfrm>
                  <a:off x="3903120" y="3602520"/>
                  <a:ext cx="100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Line 219"/>
                <p:cNvSpPr/>
                <p:nvPr/>
              </p:nvSpPr>
              <p:spPr>
                <a:xfrm>
                  <a:off x="3784320" y="3497040"/>
                  <a:ext cx="120960" cy="103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Group 220"/>
              <p:cNvGrpSpPr/>
              <p:nvPr/>
            </p:nvGrpSpPr>
            <p:grpSpPr>
              <a:xfrm>
                <a:off x="3683880" y="3494520"/>
                <a:ext cx="319680" cy="106560"/>
                <a:chOff x="3683880" y="3494520"/>
                <a:chExt cx="319680" cy="106560"/>
              </a:xfrm>
            </p:grpSpPr>
            <p:sp>
              <p:nvSpPr>
                <p:cNvPr id="920" name="Line 221"/>
                <p:cNvSpPr/>
                <p:nvPr/>
              </p:nvSpPr>
              <p:spPr>
                <a:xfrm>
                  <a:off x="3683880" y="3600360"/>
                  <a:ext cx="1137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Line 222"/>
                <p:cNvSpPr/>
                <p:nvPr/>
              </p:nvSpPr>
              <p:spPr>
                <a:xfrm>
                  <a:off x="3903120" y="3494520"/>
                  <a:ext cx="100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Line 223"/>
                <p:cNvSpPr/>
                <p:nvPr/>
              </p:nvSpPr>
              <p:spPr>
                <a:xfrm flipV="1">
                  <a:off x="3784320" y="3494880"/>
                  <a:ext cx="120960" cy="103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3" name="Line 252"/>
            <p:cNvSpPr/>
            <p:nvPr/>
          </p:nvSpPr>
          <p:spPr>
            <a:xfrm flipV="1">
              <a:off x="3033000" y="2730960"/>
              <a:ext cx="326880" cy="96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254"/>
            <p:cNvSpPr/>
            <p:nvPr/>
          </p:nvSpPr>
          <p:spPr>
            <a:xfrm flipV="1">
              <a:off x="3354480" y="3611880"/>
              <a:ext cx="181800" cy="19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255"/>
            <p:cNvSpPr/>
            <p:nvPr/>
          </p:nvSpPr>
          <p:spPr>
            <a:xfrm flipV="1">
              <a:off x="4175640" y="3594960"/>
              <a:ext cx="3391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256"/>
            <p:cNvSpPr/>
            <p:nvPr/>
          </p:nvSpPr>
          <p:spPr>
            <a:xfrm flipV="1">
              <a:off x="2848320" y="5163120"/>
              <a:ext cx="3391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271"/>
            <p:cNvSpPr/>
            <p:nvPr/>
          </p:nvSpPr>
          <p:spPr>
            <a:xfrm flipV="1">
              <a:off x="1962000" y="5157360"/>
              <a:ext cx="3391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272"/>
            <p:cNvSpPr/>
            <p:nvPr/>
          </p:nvSpPr>
          <p:spPr>
            <a:xfrm>
              <a:off x="3150720" y="4002840"/>
              <a:ext cx="468000" cy="57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9" name="Picture 3" descr=""/>
            <p:cNvPicPr/>
            <p:nvPr/>
          </p:nvPicPr>
          <p:blipFill>
            <a:blip r:embed="rId4"/>
            <a:stretch/>
          </p:blipFill>
          <p:spPr>
            <a:xfrm>
              <a:off x="2680560" y="3700800"/>
              <a:ext cx="712800" cy="30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0" name="Group 906"/>
            <p:cNvGrpSpPr/>
            <p:nvPr/>
          </p:nvGrpSpPr>
          <p:grpSpPr>
            <a:xfrm>
              <a:off x="3494160" y="4570920"/>
              <a:ext cx="354240" cy="534600"/>
              <a:chOff x="3494160" y="4570920"/>
              <a:chExt cx="354240" cy="534600"/>
            </a:xfrm>
          </p:grpSpPr>
          <p:sp>
            <p:nvSpPr>
              <p:cNvPr id="931" name="Freeform 907"/>
              <p:cNvSpPr/>
              <p:nvPr/>
            </p:nvSpPr>
            <p:spPr>
              <a:xfrm>
                <a:off x="3774960" y="4571640"/>
                <a:ext cx="70200" cy="510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908"/>
              <p:cNvSpPr/>
              <p:nvPr/>
            </p:nvSpPr>
            <p:spPr>
              <a:xfrm>
                <a:off x="3511080" y="4570920"/>
                <a:ext cx="259560" cy="5097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Freeform 909"/>
              <p:cNvSpPr/>
              <p:nvPr/>
            </p:nvSpPr>
            <p:spPr>
              <a:xfrm>
                <a:off x="3788280" y="4602240"/>
                <a:ext cx="41760" cy="4719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Freeform 910"/>
              <p:cNvSpPr/>
              <p:nvPr/>
            </p:nvSpPr>
            <p:spPr>
              <a:xfrm>
                <a:off x="3778920" y="4841280"/>
                <a:ext cx="65160" cy="421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911"/>
              <p:cNvSpPr/>
              <p:nvPr/>
            </p:nvSpPr>
            <p:spPr>
              <a:xfrm>
                <a:off x="3512520" y="4629600"/>
                <a:ext cx="14724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6" name="Group 912"/>
              <p:cNvGrpSpPr/>
              <p:nvPr/>
            </p:nvGrpSpPr>
            <p:grpSpPr>
              <a:xfrm>
                <a:off x="3645720" y="4624200"/>
                <a:ext cx="144360" cy="32040"/>
                <a:chOff x="3645720" y="4624200"/>
                <a:chExt cx="144360" cy="32040"/>
              </a:xfrm>
            </p:grpSpPr>
            <p:sp>
              <p:nvSpPr>
                <p:cNvPr id="937" name="AutoShape 913"/>
                <p:cNvSpPr/>
                <p:nvPr/>
              </p:nvSpPr>
              <p:spPr>
                <a:xfrm>
                  <a:off x="3645720" y="4624200"/>
                  <a:ext cx="1443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AutoShape 914"/>
                <p:cNvSpPr/>
                <p:nvPr/>
              </p:nvSpPr>
              <p:spPr>
                <a:xfrm>
                  <a:off x="3648600" y="4628520"/>
                  <a:ext cx="138240" cy="24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9" name="Rectangle 915"/>
              <p:cNvSpPr/>
              <p:nvPr/>
            </p:nvSpPr>
            <p:spPr>
              <a:xfrm>
                <a:off x="3515400" y="4702680"/>
                <a:ext cx="14724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Group 916"/>
              <p:cNvGrpSpPr/>
              <p:nvPr/>
            </p:nvGrpSpPr>
            <p:grpSpPr>
              <a:xfrm>
                <a:off x="3645000" y="4696920"/>
                <a:ext cx="144360" cy="29880"/>
                <a:chOff x="3645000" y="4696920"/>
                <a:chExt cx="144360" cy="29880"/>
              </a:xfrm>
            </p:grpSpPr>
            <p:sp>
              <p:nvSpPr>
                <p:cNvPr id="941" name="AutoShape 917"/>
                <p:cNvSpPr/>
                <p:nvPr/>
              </p:nvSpPr>
              <p:spPr>
                <a:xfrm>
                  <a:off x="3645000" y="4696920"/>
                  <a:ext cx="144360" cy="298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AutoShape 918"/>
                <p:cNvSpPr/>
                <p:nvPr/>
              </p:nvSpPr>
              <p:spPr>
                <a:xfrm>
                  <a:off x="3647880" y="4699440"/>
                  <a:ext cx="13824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Rectangle 919"/>
              <p:cNvSpPr/>
              <p:nvPr/>
            </p:nvSpPr>
            <p:spPr>
              <a:xfrm>
                <a:off x="3512520" y="4779000"/>
                <a:ext cx="1486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920"/>
              <p:cNvSpPr/>
              <p:nvPr/>
            </p:nvSpPr>
            <p:spPr>
              <a:xfrm>
                <a:off x="3515400" y="4844880"/>
                <a:ext cx="148680" cy="10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5" name="Group 921"/>
              <p:cNvGrpSpPr/>
              <p:nvPr/>
            </p:nvGrpSpPr>
            <p:grpSpPr>
              <a:xfrm>
                <a:off x="3642120" y="4838400"/>
                <a:ext cx="144720" cy="33480"/>
                <a:chOff x="3642120" y="4838400"/>
                <a:chExt cx="144720" cy="33480"/>
              </a:xfrm>
            </p:grpSpPr>
            <p:sp>
              <p:nvSpPr>
                <p:cNvPr id="946" name="AutoShape 922"/>
                <p:cNvSpPr/>
                <p:nvPr/>
              </p:nvSpPr>
              <p:spPr>
                <a:xfrm>
                  <a:off x="3642120" y="4838400"/>
                  <a:ext cx="144720" cy="33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AutoShape 923"/>
                <p:cNvSpPr/>
                <p:nvPr/>
              </p:nvSpPr>
              <p:spPr>
                <a:xfrm>
                  <a:off x="3645000" y="4842720"/>
                  <a:ext cx="138600" cy="26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8" name="Freeform 924"/>
              <p:cNvSpPr/>
              <p:nvPr/>
            </p:nvSpPr>
            <p:spPr>
              <a:xfrm>
                <a:off x="3780000" y="4777200"/>
                <a:ext cx="65160" cy="417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9" name="Group 925"/>
              <p:cNvGrpSpPr/>
              <p:nvPr/>
            </p:nvGrpSpPr>
            <p:grpSpPr>
              <a:xfrm>
                <a:off x="3643200" y="4771080"/>
                <a:ext cx="144720" cy="30960"/>
                <a:chOff x="3643200" y="4771080"/>
                <a:chExt cx="144720" cy="30960"/>
              </a:xfrm>
            </p:grpSpPr>
            <p:sp>
              <p:nvSpPr>
                <p:cNvPr id="950" name="AutoShape 926"/>
                <p:cNvSpPr/>
                <p:nvPr/>
              </p:nvSpPr>
              <p:spPr>
                <a:xfrm>
                  <a:off x="3643200" y="4771080"/>
                  <a:ext cx="14472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AutoShape 927"/>
                <p:cNvSpPr/>
                <p:nvPr/>
              </p:nvSpPr>
              <p:spPr>
                <a:xfrm>
                  <a:off x="3646440" y="4773960"/>
                  <a:ext cx="140040" cy="23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" name="Rectangle 928"/>
              <p:cNvSpPr/>
              <p:nvPr/>
            </p:nvSpPr>
            <p:spPr>
              <a:xfrm>
                <a:off x="3770280" y="4570920"/>
                <a:ext cx="16920" cy="51120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Freeform 929"/>
              <p:cNvSpPr/>
              <p:nvPr/>
            </p:nvSpPr>
            <p:spPr>
              <a:xfrm>
                <a:off x="3785760" y="4699800"/>
                <a:ext cx="59040" cy="47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Freeform 930"/>
              <p:cNvSpPr/>
              <p:nvPr/>
            </p:nvSpPr>
            <p:spPr>
              <a:xfrm>
                <a:off x="3786480" y="4626720"/>
                <a:ext cx="60480" cy="532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Oval 931"/>
              <p:cNvSpPr/>
              <p:nvPr/>
            </p:nvSpPr>
            <p:spPr>
              <a:xfrm>
                <a:off x="3836520" y="5057280"/>
                <a:ext cx="11880" cy="21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Freeform 932"/>
              <p:cNvSpPr/>
              <p:nvPr/>
            </p:nvSpPr>
            <p:spPr>
              <a:xfrm>
                <a:off x="3783240" y="5058720"/>
                <a:ext cx="60840" cy="4464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AutoShape 933"/>
              <p:cNvSpPr/>
              <p:nvPr/>
            </p:nvSpPr>
            <p:spPr>
              <a:xfrm>
                <a:off x="3494160" y="5073480"/>
                <a:ext cx="298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AutoShape 934"/>
              <p:cNvSpPr/>
              <p:nvPr/>
            </p:nvSpPr>
            <p:spPr>
              <a:xfrm>
                <a:off x="3511080" y="5080680"/>
                <a:ext cx="26568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935"/>
              <p:cNvSpPr/>
              <p:nvPr/>
            </p:nvSpPr>
            <p:spPr>
              <a:xfrm>
                <a:off x="3535560" y="5007600"/>
                <a:ext cx="39600" cy="30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936"/>
              <p:cNvSpPr/>
              <p:nvPr/>
            </p:nvSpPr>
            <p:spPr>
              <a:xfrm>
                <a:off x="3579840" y="5007600"/>
                <a:ext cx="39600" cy="32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937"/>
              <p:cNvSpPr/>
              <p:nvPr/>
            </p:nvSpPr>
            <p:spPr>
              <a:xfrm>
                <a:off x="3624480" y="5006160"/>
                <a:ext cx="38160" cy="320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938"/>
              <p:cNvSpPr/>
              <p:nvPr/>
            </p:nvSpPr>
            <p:spPr>
              <a:xfrm>
                <a:off x="3722760" y="4884480"/>
                <a:ext cx="21240" cy="1695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Group 44"/>
            <p:cNvGrpSpPr/>
            <p:nvPr/>
          </p:nvGrpSpPr>
          <p:grpSpPr>
            <a:xfrm>
              <a:off x="2977560" y="2190240"/>
              <a:ext cx="873360" cy="670320"/>
              <a:chOff x="2977560" y="2190240"/>
              <a:chExt cx="873360" cy="670320"/>
            </a:xfrm>
          </p:grpSpPr>
          <p:pic>
            <p:nvPicPr>
              <p:cNvPr id="964" name="Picture 45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2977560" y="2190240"/>
                <a:ext cx="873360" cy="67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46"/>
              <p:cNvSpPr/>
              <p:nvPr/>
            </p:nvSpPr>
            <p:spPr>
              <a:xfrm flipH="1">
                <a:off x="3349440" y="2254320"/>
                <a:ext cx="424800" cy="3067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Group 44"/>
            <p:cNvGrpSpPr/>
            <p:nvPr/>
          </p:nvGrpSpPr>
          <p:grpSpPr>
            <a:xfrm>
              <a:off x="1820880" y="2591280"/>
              <a:ext cx="873360" cy="670320"/>
              <a:chOff x="1820880" y="2591280"/>
              <a:chExt cx="873360" cy="670320"/>
            </a:xfrm>
          </p:grpSpPr>
          <p:pic>
            <p:nvPicPr>
              <p:cNvPr id="967" name="Picture 45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820880" y="2591280"/>
                <a:ext cx="873360" cy="67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8" name="Freeform 46"/>
              <p:cNvSpPr/>
              <p:nvPr/>
            </p:nvSpPr>
            <p:spPr>
              <a:xfrm flipH="1">
                <a:off x="2192760" y="2655360"/>
                <a:ext cx="424800" cy="3067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Line 272"/>
            <p:cNvSpPr/>
            <p:nvPr/>
          </p:nvSpPr>
          <p:spPr>
            <a:xfrm>
              <a:off x="2476080" y="3189600"/>
              <a:ext cx="360000" cy="51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272"/>
            <p:cNvSpPr/>
            <p:nvPr/>
          </p:nvSpPr>
          <p:spPr>
            <a:xfrm flipH="1">
              <a:off x="2683440" y="3994200"/>
              <a:ext cx="258120" cy="10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1" name="Group 257"/>
            <p:cNvGrpSpPr/>
            <p:nvPr/>
          </p:nvGrpSpPr>
          <p:grpSpPr>
            <a:xfrm>
              <a:off x="2166840" y="4963320"/>
              <a:ext cx="688680" cy="306360"/>
              <a:chOff x="2166840" y="4963320"/>
              <a:chExt cx="688680" cy="306360"/>
            </a:xfrm>
          </p:grpSpPr>
          <p:sp>
            <p:nvSpPr>
              <p:cNvPr id="972" name="Oval 258"/>
              <p:cNvSpPr/>
              <p:nvPr/>
            </p:nvSpPr>
            <p:spPr>
              <a:xfrm>
                <a:off x="2172240" y="5100120"/>
                <a:ext cx="683280" cy="169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259"/>
              <p:cNvSpPr/>
              <p:nvPr/>
            </p:nvSpPr>
            <p:spPr>
              <a:xfrm>
                <a:off x="2172240" y="5085720"/>
                <a:ext cx="0" cy="10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260"/>
              <p:cNvSpPr/>
              <p:nvPr/>
            </p:nvSpPr>
            <p:spPr>
              <a:xfrm>
                <a:off x="2855520" y="5085720"/>
                <a:ext cx="0" cy="10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261"/>
              <p:cNvSpPr/>
              <p:nvPr/>
            </p:nvSpPr>
            <p:spPr>
              <a:xfrm>
                <a:off x="2172240" y="5085720"/>
                <a:ext cx="677160" cy="103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Oval 262"/>
              <p:cNvSpPr/>
              <p:nvPr/>
            </p:nvSpPr>
            <p:spPr>
              <a:xfrm>
                <a:off x="2166840" y="4963320"/>
                <a:ext cx="682560" cy="1980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7" name="Group 263"/>
              <p:cNvGrpSpPr/>
              <p:nvPr/>
            </p:nvGrpSpPr>
            <p:grpSpPr>
              <a:xfrm>
                <a:off x="2331000" y="5006520"/>
                <a:ext cx="338040" cy="115920"/>
                <a:chOff x="2331000" y="5006520"/>
                <a:chExt cx="338040" cy="115920"/>
              </a:xfrm>
            </p:grpSpPr>
            <p:sp>
              <p:nvSpPr>
                <p:cNvPr id="978" name="Line 264"/>
                <p:cNvSpPr/>
                <p:nvPr/>
              </p:nvSpPr>
              <p:spPr>
                <a:xfrm flipV="1">
                  <a:off x="2331000" y="5006520"/>
                  <a:ext cx="1206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Line 265"/>
                <p:cNvSpPr/>
                <p:nvPr/>
              </p:nvSpPr>
              <p:spPr>
                <a:xfrm>
                  <a:off x="2562840" y="5122440"/>
                  <a:ext cx="106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Line 266"/>
                <p:cNvSpPr/>
                <p:nvPr/>
              </p:nvSpPr>
              <p:spPr>
                <a:xfrm>
                  <a:off x="2437200" y="5007960"/>
                  <a:ext cx="128160" cy="11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Group 267"/>
              <p:cNvGrpSpPr/>
              <p:nvPr/>
            </p:nvGrpSpPr>
            <p:grpSpPr>
              <a:xfrm>
                <a:off x="2331000" y="5005080"/>
                <a:ext cx="338040" cy="115560"/>
                <a:chOff x="2331000" y="5005080"/>
                <a:chExt cx="338040" cy="115560"/>
              </a:xfrm>
            </p:grpSpPr>
            <p:sp>
              <p:nvSpPr>
                <p:cNvPr id="982" name="Line 268"/>
                <p:cNvSpPr/>
                <p:nvPr/>
              </p:nvSpPr>
              <p:spPr>
                <a:xfrm>
                  <a:off x="2331000" y="5119920"/>
                  <a:ext cx="1206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Line 269"/>
                <p:cNvSpPr/>
                <p:nvPr/>
              </p:nvSpPr>
              <p:spPr>
                <a:xfrm>
                  <a:off x="2562840" y="5005080"/>
                  <a:ext cx="106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Line 270"/>
                <p:cNvSpPr/>
                <p:nvPr/>
              </p:nvSpPr>
              <p:spPr>
                <a:xfrm flipV="1">
                  <a:off x="2437200" y="5005440"/>
                  <a:ext cx="128160" cy="11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85" name="Picture 24" descr="underline_base"/>
          <p:cNvPicPr/>
          <p:nvPr/>
        </p:nvPicPr>
        <p:blipFill>
          <a:blip r:embed="rId7"/>
          <a:stretch/>
        </p:blipFill>
        <p:spPr>
          <a:xfrm>
            <a:off x="596880" y="887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986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6D93452-D5C7-4937-A737-47FB35311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3520" y="202680"/>
            <a:ext cx="48276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NMP protoc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276120" y="98244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ways to convey MIB info, command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0" name="Group 84"/>
          <p:cNvGrpSpPr/>
          <p:nvPr/>
        </p:nvGrpSpPr>
        <p:grpSpPr>
          <a:xfrm>
            <a:off x="925560" y="4475160"/>
            <a:ext cx="1704960" cy="626760"/>
            <a:chOff x="925560" y="4475160"/>
            <a:chExt cx="1704960" cy="626760"/>
          </a:xfrm>
        </p:grpSpPr>
        <p:sp>
          <p:nvSpPr>
            <p:cNvPr id="991" name="Oval 45"/>
            <p:cNvSpPr/>
            <p:nvPr/>
          </p:nvSpPr>
          <p:spPr>
            <a:xfrm>
              <a:off x="925560" y="4475160"/>
              <a:ext cx="1704960" cy="626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Text Box 46"/>
            <p:cNvSpPr/>
            <p:nvPr/>
          </p:nvSpPr>
          <p:spPr>
            <a:xfrm>
              <a:off x="980280" y="4582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3" name="Group 47"/>
            <p:cNvGrpSpPr/>
            <p:nvPr/>
          </p:nvGrpSpPr>
          <p:grpSpPr>
            <a:xfrm>
              <a:off x="1742760" y="4586040"/>
              <a:ext cx="624240" cy="387360"/>
              <a:chOff x="1742760" y="4586040"/>
              <a:chExt cx="624240" cy="387360"/>
            </a:xfrm>
          </p:grpSpPr>
          <p:sp>
            <p:nvSpPr>
              <p:cNvPr id="994" name="Rectangle 48"/>
              <p:cNvSpPr/>
              <p:nvPr/>
            </p:nvSpPr>
            <p:spPr>
              <a:xfrm>
                <a:off x="1764000" y="4601880"/>
                <a:ext cx="590400" cy="371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Text Box 49"/>
              <p:cNvSpPr/>
              <p:nvPr/>
            </p:nvSpPr>
            <p:spPr>
              <a:xfrm>
                <a:off x="1742760" y="458604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6" name="Text Box 69"/>
          <p:cNvSpPr/>
          <p:nvPr/>
        </p:nvSpPr>
        <p:spPr>
          <a:xfrm>
            <a:off x="1329480" y="52592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83"/>
          <p:cNvGrpSpPr/>
          <p:nvPr/>
        </p:nvGrpSpPr>
        <p:grpSpPr>
          <a:xfrm>
            <a:off x="839880" y="2232000"/>
            <a:ext cx="1941480" cy="642600"/>
            <a:chOff x="839880" y="2232000"/>
            <a:chExt cx="1941480" cy="642600"/>
          </a:xfrm>
        </p:grpSpPr>
        <p:sp>
          <p:nvSpPr>
            <p:cNvPr id="998" name="Oval 77"/>
            <p:cNvSpPr/>
            <p:nvPr/>
          </p:nvSpPr>
          <p:spPr>
            <a:xfrm>
              <a:off x="839880" y="2273040"/>
              <a:ext cx="1941480" cy="595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78"/>
            <p:cNvSpPr/>
            <p:nvPr/>
          </p:nvSpPr>
          <p:spPr>
            <a:xfrm>
              <a:off x="1191960" y="2232000"/>
              <a:ext cx="118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119"/>
          <p:cNvGrpSpPr/>
          <p:nvPr/>
        </p:nvGrpSpPr>
        <p:grpSpPr>
          <a:xfrm>
            <a:off x="5064120" y="4448160"/>
            <a:ext cx="1704960" cy="626760"/>
            <a:chOff x="5064120" y="4448160"/>
            <a:chExt cx="1704960" cy="626760"/>
          </a:xfrm>
        </p:grpSpPr>
        <p:sp>
          <p:nvSpPr>
            <p:cNvPr id="1001" name="Oval 120"/>
            <p:cNvSpPr/>
            <p:nvPr/>
          </p:nvSpPr>
          <p:spPr>
            <a:xfrm>
              <a:off x="5064120" y="4448160"/>
              <a:ext cx="1704960" cy="626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Text Box 121"/>
            <p:cNvSpPr/>
            <p:nvPr/>
          </p:nvSpPr>
          <p:spPr>
            <a:xfrm>
              <a:off x="5118840" y="4555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Group 122"/>
            <p:cNvGrpSpPr/>
            <p:nvPr/>
          </p:nvGrpSpPr>
          <p:grpSpPr>
            <a:xfrm>
              <a:off x="5881320" y="4559040"/>
              <a:ext cx="624240" cy="387360"/>
              <a:chOff x="5881320" y="4559040"/>
              <a:chExt cx="624240" cy="387360"/>
            </a:xfrm>
          </p:grpSpPr>
          <p:sp>
            <p:nvSpPr>
              <p:cNvPr id="1004" name="Rectangle 123"/>
              <p:cNvSpPr/>
              <p:nvPr/>
            </p:nvSpPr>
            <p:spPr>
              <a:xfrm>
                <a:off x="5902560" y="4574880"/>
                <a:ext cx="590400" cy="371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Text Box 124"/>
              <p:cNvSpPr/>
              <p:nvPr/>
            </p:nvSpPr>
            <p:spPr>
              <a:xfrm>
                <a:off x="5881320" y="455904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6" name="Text Box 125"/>
          <p:cNvSpPr/>
          <p:nvPr/>
        </p:nvSpPr>
        <p:spPr>
          <a:xfrm>
            <a:off x="5473440" y="52322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Group 127"/>
          <p:cNvGrpSpPr/>
          <p:nvPr/>
        </p:nvGrpSpPr>
        <p:grpSpPr>
          <a:xfrm>
            <a:off x="4978440" y="2205000"/>
            <a:ext cx="1941480" cy="642600"/>
            <a:chOff x="4978440" y="2205000"/>
            <a:chExt cx="1941480" cy="642600"/>
          </a:xfrm>
        </p:grpSpPr>
        <p:sp>
          <p:nvSpPr>
            <p:cNvPr id="1008" name="Oval 128"/>
            <p:cNvSpPr/>
            <p:nvPr/>
          </p:nvSpPr>
          <p:spPr>
            <a:xfrm>
              <a:off x="4978440" y="2246040"/>
              <a:ext cx="1941480" cy="595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Text Box 129"/>
            <p:cNvSpPr/>
            <p:nvPr/>
          </p:nvSpPr>
          <p:spPr>
            <a:xfrm>
              <a:off x="5330520" y="2205000"/>
              <a:ext cx="118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Group 6"/>
          <p:cNvGrpSpPr/>
          <p:nvPr/>
        </p:nvGrpSpPr>
        <p:grpSpPr>
          <a:xfrm>
            <a:off x="4943520" y="2870280"/>
            <a:ext cx="2257560" cy="1538280"/>
            <a:chOff x="4943520" y="2870280"/>
            <a:chExt cx="2257560" cy="1538280"/>
          </a:xfrm>
        </p:grpSpPr>
        <p:sp>
          <p:nvSpPr>
            <p:cNvPr id="1011" name="Freeform 145"/>
            <p:cNvSpPr/>
            <p:nvPr/>
          </p:nvSpPr>
          <p:spPr>
            <a:xfrm>
              <a:off x="5784840" y="2870280"/>
              <a:ext cx="74520" cy="1538280"/>
            </a:xfrm>
            <a:custGeom>
              <a:avLst/>
              <a:gdLst/>
              <a:ahLst/>
              <a:rect l="l" t="t" r="r" b="b"/>
              <a:pathLst>
                <a:path w="1" h="1044">
                  <a:moveTo>
                    <a:pt x="0" y="0"/>
                  </a:moveTo>
                  <a:lnTo>
                    <a:pt x="0" y="10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5186160" y="3503520"/>
              <a:ext cx="169416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Text Box 147"/>
            <p:cNvSpPr/>
            <p:nvPr/>
          </p:nvSpPr>
          <p:spPr>
            <a:xfrm>
              <a:off x="4943520" y="3440160"/>
              <a:ext cx="22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rap m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Group 1"/>
          <p:cNvGrpSpPr/>
          <p:nvPr/>
        </p:nvGrpSpPr>
        <p:grpSpPr>
          <a:xfrm>
            <a:off x="193680" y="2786040"/>
            <a:ext cx="1454040" cy="1657440"/>
            <a:chOff x="193680" y="2786040"/>
            <a:chExt cx="1454040" cy="1657440"/>
          </a:xfrm>
        </p:grpSpPr>
        <p:sp>
          <p:nvSpPr>
            <p:cNvPr id="1015" name="Freeform 75"/>
            <p:cNvSpPr/>
            <p:nvPr/>
          </p:nvSpPr>
          <p:spPr>
            <a:xfrm>
              <a:off x="985680" y="2786040"/>
              <a:ext cx="1440" cy="1657440"/>
            </a:xfrm>
            <a:custGeom>
              <a:avLst/>
              <a:gdLst/>
              <a:ahLst/>
              <a:rect l="l" t="t" r="r" b="b"/>
              <a:pathLst>
                <a:path w="1" h="1044">
                  <a:moveTo>
                    <a:pt x="0" y="0"/>
                  </a:moveTo>
                  <a:lnTo>
                    <a:pt x="0" y="10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Group 148"/>
            <p:cNvGrpSpPr/>
            <p:nvPr/>
          </p:nvGrpSpPr>
          <p:grpSpPr>
            <a:xfrm>
              <a:off x="193680" y="3146400"/>
              <a:ext cx="1454040" cy="459720"/>
              <a:chOff x="193680" y="3146400"/>
              <a:chExt cx="1454040" cy="459720"/>
            </a:xfrm>
          </p:grpSpPr>
          <p:sp>
            <p:nvSpPr>
              <p:cNvPr id="1017" name="Rectangle 87"/>
              <p:cNvSpPr/>
              <p:nvPr/>
            </p:nvSpPr>
            <p:spPr>
              <a:xfrm>
                <a:off x="261720" y="3208320"/>
                <a:ext cx="1339920" cy="38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Text Box 86"/>
              <p:cNvSpPr/>
              <p:nvPr/>
            </p:nvSpPr>
            <p:spPr>
              <a:xfrm>
                <a:off x="193680" y="3146400"/>
                <a:ext cx="14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reque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Text Box 149"/>
          <p:cNvSpPr/>
          <p:nvPr/>
        </p:nvSpPr>
        <p:spPr>
          <a:xfrm>
            <a:off x="833400" y="578016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request/respons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50"/>
          <p:cNvSpPr/>
          <p:nvPr/>
        </p:nvSpPr>
        <p:spPr>
          <a:xfrm>
            <a:off x="5982480" y="57816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trap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Group 5"/>
          <p:cNvGrpSpPr/>
          <p:nvPr/>
        </p:nvGrpSpPr>
        <p:grpSpPr>
          <a:xfrm>
            <a:off x="662040" y="2936880"/>
            <a:ext cx="2257200" cy="1467000"/>
            <a:chOff x="662040" y="2936880"/>
            <a:chExt cx="2257200" cy="1467000"/>
          </a:xfrm>
        </p:grpSpPr>
        <p:sp>
          <p:nvSpPr>
            <p:cNvPr id="1022" name="Freeform 89"/>
            <p:cNvSpPr/>
            <p:nvPr/>
          </p:nvSpPr>
          <p:spPr>
            <a:xfrm>
              <a:off x="1839960" y="2936880"/>
              <a:ext cx="74520" cy="1467000"/>
            </a:xfrm>
            <a:custGeom>
              <a:avLst/>
              <a:gdLst/>
              <a:ahLst/>
              <a:rect l="l" t="t" r="r" b="b"/>
              <a:pathLst>
                <a:path w="1" h="1044">
                  <a:moveTo>
                    <a:pt x="0" y="0"/>
                  </a:moveTo>
                  <a:lnTo>
                    <a:pt x="0" y="10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91"/>
            <p:cNvSpPr/>
            <p:nvPr/>
          </p:nvSpPr>
          <p:spPr>
            <a:xfrm>
              <a:off x="1084320" y="3738600"/>
              <a:ext cx="142236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Text Box 92"/>
            <p:cNvSpPr/>
            <p:nvPr/>
          </p:nvSpPr>
          <p:spPr>
            <a:xfrm>
              <a:off x="662040" y="3669120"/>
              <a:ext cx="22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6" descr="underline_base"/>
          <p:cNvPicPr/>
          <p:nvPr/>
        </p:nvPicPr>
        <p:blipFill>
          <a:blip r:embed="rId1"/>
          <a:stretch/>
        </p:blipFill>
        <p:spPr>
          <a:xfrm>
            <a:off x="593640" y="822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026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F6F942D-611F-4CFC-B496-08A85DCC4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NMP protocol: message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9" name="Text Box 115"/>
          <p:cNvSpPr/>
          <p:nvPr/>
        </p:nvSpPr>
        <p:spPr>
          <a:xfrm>
            <a:off x="524160" y="180648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Next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Bulk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16"/>
          <p:cNvSpPr/>
          <p:nvPr/>
        </p:nvSpPr>
        <p:spPr>
          <a:xfrm>
            <a:off x="3535920" y="1971720"/>
            <a:ext cx="39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r-to-agent: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me da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stance,next in list, 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18"/>
          <p:cNvSpPr/>
          <p:nvPr/>
        </p:nvSpPr>
        <p:spPr>
          <a:xfrm>
            <a:off x="578880" y="1265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Messag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19"/>
          <p:cNvSpPr/>
          <p:nvPr/>
        </p:nvSpPr>
        <p:spPr>
          <a:xfrm>
            <a:off x="3622680" y="12636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120"/>
          <p:cNvSpPr/>
          <p:nvPr/>
        </p:nvSpPr>
        <p:spPr>
          <a:xfrm>
            <a:off x="1330200" y="3081240"/>
            <a:ext cx="5373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21"/>
          <p:cNvSpPr/>
          <p:nvPr/>
        </p:nvSpPr>
        <p:spPr>
          <a:xfrm>
            <a:off x="361800" y="3225960"/>
            <a:ext cx="25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22"/>
          <p:cNvSpPr/>
          <p:nvPr/>
        </p:nvSpPr>
        <p:spPr>
          <a:xfrm>
            <a:off x="3203640" y="3240000"/>
            <a:ext cx="45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r-to-Mgr: 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MIB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23"/>
          <p:cNvSpPr/>
          <p:nvPr/>
        </p:nvSpPr>
        <p:spPr>
          <a:xfrm>
            <a:off x="1363680" y="3797280"/>
            <a:ext cx="5373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124"/>
          <p:cNvSpPr/>
          <p:nvPr/>
        </p:nvSpPr>
        <p:spPr>
          <a:xfrm>
            <a:off x="417600" y="38862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125"/>
          <p:cNvSpPr/>
          <p:nvPr/>
        </p:nvSpPr>
        <p:spPr>
          <a:xfrm>
            <a:off x="3170160" y="3908520"/>
            <a:ext cx="42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r-to-agent: set MIB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126"/>
          <p:cNvSpPr/>
          <p:nvPr/>
        </p:nvSpPr>
        <p:spPr>
          <a:xfrm>
            <a:off x="1327320" y="4491000"/>
            <a:ext cx="5373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27"/>
          <p:cNvSpPr/>
          <p:nvPr/>
        </p:nvSpPr>
        <p:spPr>
          <a:xfrm>
            <a:off x="395280" y="46753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28"/>
          <p:cNvSpPr/>
          <p:nvPr/>
        </p:nvSpPr>
        <p:spPr>
          <a:xfrm>
            <a:off x="3516480" y="4578480"/>
            <a:ext cx="63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-to-mgr: value, respons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129"/>
          <p:cNvSpPr/>
          <p:nvPr/>
        </p:nvSpPr>
        <p:spPr>
          <a:xfrm>
            <a:off x="1387440" y="5407200"/>
            <a:ext cx="5373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30"/>
          <p:cNvSpPr/>
          <p:nvPr/>
        </p:nvSpPr>
        <p:spPr>
          <a:xfrm>
            <a:off x="411120" y="5553000"/>
            <a:ext cx="25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131"/>
          <p:cNvSpPr/>
          <p:nvPr/>
        </p:nvSpPr>
        <p:spPr>
          <a:xfrm>
            <a:off x="3279600" y="1352520"/>
            <a:ext cx="0" cy="49640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32"/>
          <p:cNvSpPr/>
          <p:nvPr/>
        </p:nvSpPr>
        <p:spPr>
          <a:xfrm>
            <a:off x="3505320" y="5541840"/>
            <a:ext cx="47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-to-mgr: inform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exceptional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5" descr="underline_base"/>
          <p:cNvPicPr/>
          <p:nvPr/>
        </p:nvPicPr>
        <p:blipFill>
          <a:blip r:embed="rId1"/>
          <a:stretch/>
        </p:blipFill>
        <p:spPr>
          <a:xfrm>
            <a:off x="498600" y="8888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047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3DB40000-59AD-4DFD-A9E3-C900F8AB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5800" y="21888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NMP protocol: message forma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1233360" y="2085840"/>
            <a:ext cx="6943680" cy="1005120"/>
          </a:xfrm>
          <a:prstGeom prst="rect">
            <a:avLst/>
          </a:prstGeom>
          <a:solidFill>
            <a:srgbClr val="0066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Straight Connector 3"/>
          <p:cNvSpPr/>
          <p:nvPr/>
        </p:nvSpPr>
        <p:spPr>
          <a:xfrm>
            <a:off x="2151000" y="2090880"/>
            <a:ext cx="0" cy="1020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Box 39"/>
          <p:cNvSpPr/>
          <p:nvPr/>
        </p:nvSpPr>
        <p:spPr>
          <a:xfrm>
            <a:off x="7708680" y="244476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Box 40"/>
          <p:cNvSpPr/>
          <p:nvPr/>
        </p:nvSpPr>
        <p:spPr>
          <a:xfrm>
            <a:off x="1449720" y="211284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(0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Straight Connector 3"/>
          <p:cNvSpPr/>
          <p:nvPr/>
        </p:nvSpPr>
        <p:spPr>
          <a:xfrm>
            <a:off x="3044880" y="207792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Straight Connector 3"/>
          <p:cNvSpPr/>
          <p:nvPr/>
        </p:nvSpPr>
        <p:spPr>
          <a:xfrm>
            <a:off x="3938760" y="207000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Straight Connector 3"/>
          <p:cNvSpPr/>
          <p:nvPr/>
        </p:nvSpPr>
        <p:spPr>
          <a:xfrm>
            <a:off x="4840200" y="209232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Straight Connector 3"/>
          <p:cNvSpPr/>
          <p:nvPr/>
        </p:nvSpPr>
        <p:spPr>
          <a:xfrm>
            <a:off x="5549760" y="208440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Straight Connector 3"/>
          <p:cNvSpPr/>
          <p:nvPr/>
        </p:nvSpPr>
        <p:spPr>
          <a:xfrm>
            <a:off x="6272280" y="207648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Straight Connector 3"/>
          <p:cNvSpPr/>
          <p:nvPr/>
        </p:nvSpPr>
        <p:spPr>
          <a:xfrm>
            <a:off x="6975360" y="206856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Straight Connector 3"/>
          <p:cNvSpPr/>
          <p:nvPr/>
        </p:nvSpPr>
        <p:spPr>
          <a:xfrm>
            <a:off x="7697880" y="209556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Box 40"/>
          <p:cNvSpPr/>
          <p:nvPr/>
        </p:nvSpPr>
        <p:spPr>
          <a:xfrm>
            <a:off x="2158560" y="226044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Box 40"/>
          <p:cNvSpPr/>
          <p:nvPr/>
        </p:nvSpPr>
        <p:spPr>
          <a:xfrm>
            <a:off x="3141720" y="2116080"/>
            <a:ext cx="7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(0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Box 40"/>
          <p:cNvSpPr/>
          <p:nvPr/>
        </p:nvSpPr>
        <p:spPr>
          <a:xfrm>
            <a:off x="4073400" y="22636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Box 40"/>
          <p:cNvSpPr/>
          <p:nvPr/>
        </p:nvSpPr>
        <p:spPr>
          <a:xfrm>
            <a:off x="4849200" y="23986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Box 40"/>
          <p:cNvSpPr/>
          <p:nvPr/>
        </p:nvSpPr>
        <p:spPr>
          <a:xfrm>
            <a:off x="5582160" y="240840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Box 40"/>
          <p:cNvSpPr/>
          <p:nvPr/>
        </p:nvSpPr>
        <p:spPr>
          <a:xfrm>
            <a:off x="6283440" y="240840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Box 40"/>
          <p:cNvSpPr/>
          <p:nvPr/>
        </p:nvSpPr>
        <p:spPr>
          <a:xfrm>
            <a:off x="7010280" y="241776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1"/>
          <p:cNvSpPr/>
          <p:nvPr/>
        </p:nvSpPr>
        <p:spPr>
          <a:xfrm>
            <a:off x="1197000" y="3602160"/>
            <a:ext cx="6943680" cy="1004760"/>
          </a:xfrm>
          <a:prstGeom prst="rect">
            <a:avLst/>
          </a:prstGeom>
          <a:solidFill>
            <a:srgbClr val="0066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Straight Connector 3"/>
          <p:cNvSpPr/>
          <p:nvPr/>
        </p:nvSpPr>
        <p:spPr>
          <a:xfrm>
            <a:off x="2114640" y="360828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Box 39"/>
          <p:cNvSpPr/>
          <p:nvPr/>
        </p:nvSpPr>
        <p:spPr>
          <a:xfrm>
            <a:off x="7672320" y="396252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Box 40"/>
          <p:cNvSpPr/>
          <p:nvPr/>
        </p:nvSpPr>
        <p:spPr>
          <a:xfrm>
            <a:off x="1413360" y="363060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traight Connector 3"/>
          <p:cNvSpPr/>
          <p:nvPr/>
        </p:nvSpPr>
        <p:spPr>
          <a:xfrm>
            <a:off x="3008160" y="359424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Straight Connector 3"/>
          <p:cNvSpPr/>
          <p:nvPr/>
        </p:nvSpPr>
        <p:spPr>
          <a:xfrm>
            <a:off x="3727440" y="3592440"/>
            <a:ext cx="0" cy="1020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Straight Connector 3"/>
          <p:cNvSpPr/>
          <p:nvPr/>
        </p:nvSpPr>
        <p:spPr>
          <a:xfrm>
            <a:off x="4621320" y="360216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traight Connector 3"/>
          <p:cNvSpPr/>
          <p:nvPr/>
        </p:nvSpPr>
        <p:spPr>
          <a:xfrm>
            <a:off x="5473800" y="360036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Straight Connector 3"/>
          <p:cNvSpPr/>
          <p:nvPr/>
        </p:nvSpPr>
        <p:spPr>
          <a:xfrm>
            <a:off x="6307200" y="359244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traight Connector 3"/>
          <p:cNvSpPr/>
          <p:nvPr/>
        </p:nvSpPr>
        <p:spPr>
          <a:xfrm>
            <a:off x="7016760" y="357840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Straight Connector 3"/>
          <p:cNvSpPr/>
          <p:nvPr/>
        </p:nvSpPr>
        <p:spPr>
          <a:xfrm>
            <a:off x="7667640" y="3606840"/>
            <a:ext cx="0" cy="101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Box 40"/>
          <p:cNvSpPr/>
          <p:nvPr/>
        </p:nvSpPr>
        <p:spPr>
          <a:xfrm>
            <a:off x="2090160" y="39132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Arial Narrow"/>
              </a:rPr>
              <a:t>Enterp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Box 40"/>
          <p:cNvSpPr/>
          <p:nvPr/>
        </p:nvSpPr>
        <p:spPr>
          <a:xfrm>
            <a:off x="3048480" y="378792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Box 40"/>
          <p:cNvSpPr/>
          <p:nvPr/>
        </p:nvSpPr>
        <p:spPr>
          <a:xfrm>
            <a:off x="3857040" y="3651120"/>
            <a:ext cx="5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Tr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(0-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Box 40"/>
          <p:cNvSpPr/>
          <p:nvPr/>
        </p:nvSpPr>
        <p:spPr>
          <a:xfrm>
            <a:off x="4630320" y="379260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Box 40"/>
          <p:cNvSpPr/>
          <p:nvPr/>
        </p:nvSpPr>
        <p:spPr>
          <a:xfrm>
            <a:off x="5548680" y="38019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st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Box 40"/>
          <p:cNvSpPr/>
          <p:nvPr/>
        </p:nvSpPr>
        <p:spPr>
          <a:xfrm>
            <a:off x="6331320" y="392580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Box 40"/>
          <p:cNvSpPr/>
          <p:nvPr/>
        </p:nvSpPr>
        <p:spPr>
          <a:xfrm>
            <a:off x="7006320" y="39355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 Narrow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Straight Connector 33"/>
          <p:cNvSpPr/>
          <p:nvPr/>
        </p:nvSpPr>
        <p:spPr>
          <a:xfrm>
            <a:off x="2130480" y="4776840"/>
            <a:ext cx="4170240" cy="0"/>
          </a:xfrm>
          <a:prstGeom prst="line">
            <a:avLst/>
          </a:prstGeom>
          <a:ln w="316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Straight Connector 77"/>
          <p:cNvSpPr/>
          <p:nvPr/>
        </p:nvSpPr>
        <p:spPr>
          <a:xfrm>
            <a:off x="6310440" y="4773600"/>
            <a:ext cx="1817640" cy="0"/>
          </a:xfrm>
          <a:prstGeom prst="line">
            <a:avLst/>
          </a:prstGeom>
          <a:ln w="316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Straight Connector 80"/>
          <p:cNvSpPr/>
          <p:nvPr/>
        </p:nvSpPr>
        <p:spPr>
          <a:xfrm>
            <a:off x="2125800" y="1871640"/>
            <a:ext cx="2709720" cy="0"/>
          </a:xfrm>
          <a:prstGeom prst="line">
            <a:avLst/>
          </a:prstGeom>
          <a:ln w="316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Straight Connector 82"/>
          <p:cNvSpPr/>
          <p:nvPr/>
        </p:nvSpPr>
        <p:spPr>
          <a:xfrm>
            <a:off x="4827600" y="1887480"/>
            <a:ext cx="3309840" cy="0"/>
          </a:xfrm>
          <a:prstGeom prst="line">
            <a:avLst/>
          </a:prstGeom>
          <a:ln w="316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Box 68612"/>
          <p:cNvSpPr/>
          <p:nvPr/>
        </p:nvSpPr>
        <p:spPr>
          <a:xfrm>
            <a:off x="2705760" y="1679400"/>
            <a:ext cx="16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/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Box 85"/>
          <p:cNvSpPr/>
          <p:nvPr/>
        </p:nvSpPr>
        <p:spPr>
          <a:xfrm>
            <a:off x="5410440" y="1676520"/>
            <a:ext cx="2134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riables to get/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Box 87"/>
          <p:cNvSpPr/>
          <p:nvPr/>
        </p:nvSpPr>
        <p:spPr>
          <a:xfrm>
            <a:off x="3545640" y="4584600"/>
            <a:ext cx="142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Box 88"/>
          <p:cNvSpPr/>
          <p:nvPr/>
        </p:nvSpPr>
        <p:spPr>
          <a:xfrm>
            <a:off x="6579720" y="4573440"/>
            <a:ext cx="10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p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Straight Connector 89"/>
          <p:cNvSpPr/>
          <p:nvPr/>
        </p:nvSpPr>
        <p:spPr>
          <a:xfrm>
            <a:off x="1208160" y="5418000"/>
            <a:ext cx="6932520" cy="0"/>
          </a:xfrm>
          <a:prstGeom prst="line">
            <a:avLst/>
          </a:prstGeom>
          <a:ln w="316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Box 91"/>
          <p:cNvSpPr/>
          <p:nvPr/>
        </p:nvSpPr>
        <p:spPr>
          <a:xfrm>
            <a:off x="3941640" y="5230800"/>
            <a:ext cx="138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NMP 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5127FB6-CE08-4B7C-94E3-4A27581E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33520" y="173160"/>
            <a:ext cx="81518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NMP security and administr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33520" y="13968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encryption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S-encrypt SNMP messag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uthentication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ute, send  MIC(m,k): compute hash (MIC) over message (m), secret shared key (k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rotection against playback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no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view-based access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NMP entity maintains database of access rights, policies for various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base itself accessible as managed object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0" name="Picture 15" descr="underline_base"/>
          <p:cNvPicPr/>
          <p:nvPr/>
        </p:nvPicPr>
        <p:blipFill>
          <a:blip r:embed="rId1"/>
          <a:stretch/>
        </p:blipFill>
        <p:spPr>
          <a:xfrm>
            <a:off x="576360" y="920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Footer Placeholder 5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Slide Number Placeholder 6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28417A27-3CD4-4F63-9528-DC940B11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network manage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-standard management frame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ucture of Management Information: SM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ment Information Base: MI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NMP Protocol Operations and Transport Mapp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ty and Administ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e presentation problem: ASN.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4" name="Picture 23" descr="underline_base"/>
          <p:cNvPicPr/>
          <p:nvPr/>
        </p:nvPicPr>
        <p:blipFill>
          <a:blip r:embed="rId1"/>
          <a:stretch/>
        </p:blipFill>
        <p:spPr>
          <a:xfrm>
            <a:off x="620640" y="10429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1105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45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9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1025640"/>
            <a:ext cx="7313760" cy="172800"/>
          </a:xfrm>
          <a:prstGeom prst="rect">
            <a:avLst/>
          </a:prstGeom>
          <a:ln w="0">
            <a:noFill/>
          </a:ln>
        </p:spPr>
      </p:pic>
      <p:sp>
        <p:nvSpPr>
          <p:cNvPr id="591" name="Footer Placeholder 5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6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C96B918A-1F15-44C5-9B23-B4509CE4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hapter 9: Network Managemen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6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pter goals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 to network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jor compon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network management frame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B: management information 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I: data definition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NMP: protocol for network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 and administ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ation services: ASN.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18" descr="underline_base"/>
          <p:cNvPicPr/>
          <p:nvPr/>
        </p:nvPicPr>
        <p:blipFill>
          <a:blip r:embed="rId1"/>
          <a:stretch/>
        </p:blipFill>
        <p:spPr>
          <a:xfrm>
            <a:off x="655560" y="853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107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79BCD38-C161-4060-B8AC-FDEF1F896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33520" y="1090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he presentation proble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544680" y="1352160"/>
            <a:ext cx="777240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perfect memory-to-memory copy solv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communication proble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way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1" name="Rectangle 4"/>
          <p:cNvSpPr/>
          <p:nvPr/>
        </p:nvSpPr>
        <p:spPr>
          <a:xfrm>
            <a:off x="766800" y="5678640"/>
            <a:ext cx="7772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"/>
                <a:ea typeface="Gill Sans"/>
              </a:rPr>
              <a:t>problem:</a:t>
            </a:r>
            <a:r>
              <a:rPr b="0" i="1" lang="en-US" sz="2800" spc="-1" strike="noStrike">
                <a:solidFill>
                  <a:srgbClr val="cc0000"/>
                </a:solidFill>
                <a:latin typeface="Gill Sans"/>
                <a:ea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different data format, storage co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821160" y="3164040"/>
            <a:ext cx="161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c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t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.x = 25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.code=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Group 12"/>
          <p:cNvGrpSpPr/>
          <p:nvPr/>
        </p:nvGrpSpPr>
        <p:grpSpPr>
          <a:xfrm>
            <a:off x="3892680" y="3236760"/>
            <a:ext cx="1385280" cy="1409400"/>
            <a:chOff x="3892680" y="3236760"/>
            <a:chExt cx="1385280" cy="1409400"/>
          </a:xfrm>
        </p:grpSpPr>
        <p:sp>
          <p:nvSpPr>
            <p:cNvPr id="1114" name="Rectangle 7"/>
            <p:cNvSpPr/>
            <p:nvPr/>
          </p:nvSpPr>
          <p:spPr>
            <a:xfrm>
              <a:off x="3892680" y="3236760"/>
              <a:ext cx="1371240" cy="1409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Text Box 6"/>
            <p:cNvSpPr/>
            <p:nvPr/>
          </p:nvSpPr>
          <p:spPr>
            <a:xfrm>
              <a:off x="3934800" y="3278160"/>
              <a:ext cx="131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9"/>
            <p:cNvSpPr/>
            <p:nvPr/>
          </p:nvSpPr>
          <p:spPr>
            <a:xfrm>
              <a:off x="3897000" y="3606840"/>
              <a:ext cx="13762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Line 10"/>
            <p:cNvSpPr/>
            <p:nvPr/>
          </p:nvSpPr>
          <p:spPr>
            <a:xfrm>
              <a:off x="3897000" y="3948480"/>
              <a:ext cx="13762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1"/>
            <p:cNvSpPr/>
            <p:nvPr/>
          </p:nvSpPr>
          <p:spPr>
            <a:xfrm>
              <a:off x="3902040" y="4295160"/>
              <a:ext cx="137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Group 19"/>
          <p:cNvGrpSpPr/>
          <p:nvPr/>
        </p:nvGrpSpPr>
        <p:grpSpPr>
          <a:xfrm>
            <a:off x="7064280" y="3222720"/>
            <a:ext cx="1381320" cy="1395360"/>
            <a:chOff x="7064280" y="3222720"/>
            <a:chExt cx="1381320" cy="1395360"/>
          </a:xfrm>
        </p:grpSpPr>
        <p:sp>
          <p:nvSpPr>
            <p:cNvPr id="1120" name="Rectangle 14"/>
            <p:cNvSpPr/>
            <p:nvPr/>
          </p:nvSpPr>
          <p:spPr>
            <a:xfrm>
              <a:off x="7064280" y="3222720"/>
              <a:ext cx="1371600" cy="1395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Text Box 15"/>
            <p:cNvSpPr/>
            <p:nvPr/>
          </p:nvSpPr>
          <p:spPr>
            <a:xfrm>
              <a:off x="7107120" y="3264120"/>
              <a:ext cx="1314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16"/>
            <p:cNvSpPr/>
            <p:nvPr/>
          </p:nvSpPr>
          <p:spPr>
            <a:xfrm>
              <a:off x="7069320" y="3589560"/>
              <a:ext cx="13762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17"/>
            <p:cNvSpPr/>
            <p:nvPr/>
          </p:nvSpPr>
          <p:spPr>
            <a:xfrm>
              <a:off x="7069320" y="3927600"/>
              <a:ext cx="13762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18"/>
            <p:cNvSpPr/>
            <p:nvPr/>
          </p:nvSpPr>
          <p:spPr>
            <a:xfrm>
              <a:off x="7064280" y="4241880"/>
              <a:ext cx="13766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Text Box 20"/>
          <p:cNvSpPr/>
          <p:nvPr/>
        </p:nvSpPr>
        <p:spPr>
          <a:xfrm>
            <a:off x="2644560" y="325764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1"/>
          <p:cNvSpPr/>
          <p:nvPr/>
        </p:nvSpPr>
        <p:spPr>
          <a:xfrm>
            <a:off x="5760720" y="3257640"/>
            <a:ext cx="121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22"/>
          <p:cNvSpPr/>
          <p:nvPr/>
        </p:nvSpPr>
        <p:spPr>
          <a:xfrm>
            <a:off x="3689280" y="484020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host 1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3"/>
          <p:cNvSpPr/>
          <p:nvPr/>
        </p:nvSpPr>
        <p:spPr>
          <a:xfrm>
            <a:off x="6804000" y="480384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host 2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15" descr="underline_base"/>
          <p:cNvPicPr/>
          <p:nvPr/>
        </p:nvPicPr>
        <p:blipFill>
          <a:blip r:embed="rId1"/>
          <a:stretch/>
        </p:blipFill>
        <p:spPr>
          <a:xfrm>
            <a:off x="404640" y="9684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1130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21DEB6D3-5ADE-4999-A27D-48EC1FD3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07880" y="10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 real-life presentation problem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3" name="Text Box 6"/>
          <p:cNvSpPr/>
          <p:nvPr/>
        </p:nvSpPr>
        <p:spPr>
          <a:xfrm>
            <a:off x="3195720" y="5541840"/>
            <a:ext cx="2384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6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7"/>
          <p:cNvSpPr/>
          <p:nvPr/>
        </p:nvSpPr>
        <p:spPr>
          <a:xfrm>
            <a:off x="6060960" y="4017960"/>
            <a:ext cx="2384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  tee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8"/>
          <p:cNvSpPr/>
          <p:nvPr/>
        </p:nvSpPr>
        <p:spPr>
          <a:xfrm>
            <a:off x="297000" y="3925800"/>
            <a:ext cx="238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Picture 5" descr=""/>
          <p:cNvPicPr/>
          <p:nvPr/>
        </p:nvPicPr>
        <p:blipFill>
          <a:blip r:embed="rId2"/>
          <a:stretch/>
        </p:blipFill>
        <p:spPr>
          <a:xfrm>
            <a:off x="6873840" y="1849320"/>
            <a:ext cx="1122480" cy="22449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0" descr=""/>
          <p:cNvPicPr/>
          <p:nvPr/>
        </p:nvPicPr>
        <p:blipFill>
          <a:blip r:embed="rId3"/>
          <a:stretch/>
        </p:blipFill>
        <p:spPr>
          <a:xfrm>
            <a:off x="3930480" y="3575160"/>
            <a:ext cx="835200" cy="20858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1" descr=""/>
          <p:cNvPicPr/>
          <p:nvPr/>
        </p:nvPicPr>
        <p:blipFill>
          <a:blip r:embed="rId4"/>
          <a:stretch/>
        </p:blipFill>
        <p:spPr>
          <a:xfrm>
            <a:off x="887400" y="1881360"/>
            <a:ext cx="1131840" cy="1950840"/>
          </a:xfrm>
          <a:prstGeom prst="rect">
            <a:avLst/>
          </a:prstGeom>
          <a:ln w="0">
            <a:noFill/>
          </a:ln>
        </p:spPr>
      </p:pic>
      <p:grpSp>
        <p:nvGrpSpPr>
          <p:cNvPr id="1139" name="Group 15"/>
          <p:cNvGrpSpPr/>
          <p:nvPr/>
        </p:nvGrpSpPr>
        <p:grpSpPr>
          <a:xfrm>
            <a:off x="2054520" y="1945440"/>
            <a:ext cx="4885920" cy="1695240"/>
            <a:chOff x="2054520" y="1945440"/>
            <a:chExt cx="4885920" cy="1695240"/>
          </a:xfrm>
        </p:grpSpPr>
        <p:sp>
          <p:nvSpPr>
            <p:cNvPr id="1140" name="Right Arrow 12"/>
            <p:cNvSpPr/>
            <p:nvPr/>
          </p:nvSpPr>
          <p:spPr>
            <a:xfrm rot="19585200">
              <a:off x="5063760" y="2446200"/>
              <a:ext cx="1928880" cy="391680"/>
            </a:xfrm>
            <a:prstGeom prst="rightArrow">
              <a:avLst>
                <a:gd name="adj1" fmla="val 50000"/>
                <a:gd name="adj2" fmla="val 5004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Right Arrow 18"/>
            <p:cNvSpPr/>
            <p:nvPr/>
          </p:nvSpPr>
          <p:spPr>
            <a:xfrm flipH="1" rot="2014800">
              <a:off x="2001960" y="2535840"/>
              <a:ext cx="1928880" cy="392040"/>
            </a:xfrm>
            <a:prstGeom prst="rightArrow">
              <a:avLst>
                <a:gd name="adj1" fmla="val 50000"/>
                <a:gd name="adj2" fmla="val 4999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TextBox 13"/>
            <p:cNvSpPr/>
            <p:nvPr/>
          </p:nvSpPr>
          <p:spPr>
            <a:xfrm>
              <a:off x="3757320" y="312012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2946a"/>
                  </a:solidFill>
                  <a:latin typeface="Arial"/>
                  <a:ea typeface="Arial"/>
                </a:rPr>
                <a:t>Groovy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TextBox 14"/>
          <p:cNvSpPr/>
          <p:nvPr/>
        </p:nvSpPr>
        <p:spPr>
          <a:xfrm>
            <a:off x="751680" y="147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Box 22"/>
          <p:cNvSpPr/>
          <p:nvPr/>
        </p:nvSpPr>
        <p:spPr>
          <a:xfrm>
            <a:off x="1342800" y="1249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Box 23"/>
          <p:cNvSpPr/>
          <p:nvPr/>
        </p:nvSpPr>
        <p:spPr>
          <a:xfrm>
            <a:off x="554760" y="212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Box 24"/>
          <p:cNvSpPr/>
          <p:nvPr/>
        </p:nvSpPr>
        <p:spPr>
          <a:xfrm>
            <a:off x="1788120" y="164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Group 16"/>
          <p:cNvGrpSpPr/>
          <p:nvPr/>
        </p:nvGrpSpPr>
        <p:grpSpPr>
          <a:xfrm>
            <a:off x="6711120" y="1339920"/>
            <a:ext cx="1640880" cy="1455120"/>
            <a:chOff x="6711120" y="1339920"/>
            <a:chExt cx="1640880" cy="1455120"/>
          </a:xfrm>
        </p:grpSpPr>
        <p:sp>
          <p:nvSpPr>
            <p:cNvPr id="1148" name="TextBox 33"/>
            <p:cNvSpPr/>
            <p:nvPr/>
          </p:nvSpPr>
          <p:spPr>
            <a:xfrm>
              <a:off x="6908040" y="1563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TextBox 34"/>
            <p:cNvSpPr/>
            <p:nvPr/>
          </p:nvSpPr>
          <p:spPr>
            <a:xfrm>
              <a:off x="7499520" y="1339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TextBox 35"/>
            <p:cNvSpPr/>
            <p:nvPr/>
          </p:nvSpPr>
          <p:spPr>
            <a:xfrm>
              <a:off x="6711120" y="2213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Box 36"/>
            <p:cNvSpPr/>
            <p:nvPr/>
          </p:nvSpPr>
          <p:spPr>
            <a:xfrm>
              <a:off x="7945560" y="1738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Picture 6" descr="underline_base"/>
          <p:cNvPicPr/>
          <p:nvPr/>
        </p:nvPicPr>
        <p:blipFill>
          <a:blip r:embed="rId1"/>
          <a:stretch/>
        </p:blipFill>
        <p:spPr>
          <a:xfrm>
            <a:off x="449280" y="96048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153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60034B2D-8EF1-4333-9A91-E7C643E0D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1680" y="282600"/>
            <a:ext cx="861084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esentation problem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otential solution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58560" y="1463400"/>
            <a:ext cx="79642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earns receiv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format. Sender translates into receiv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format. Sender send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455840" indent="-2077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real-world analo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pros and cons</a:t>
            </a:r>
            <a:r>
              <a:rPr b="0" lang="en-US" sz="2800" spc="-1" strike="noStrike">
                <a:solidFill>
                  <a:srgbClr val="000099"/>
                </a:solidFill>
                <a:latin typeface="Gill Sans"/>
                <a:ea typeface="Gill San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sends. Receiver learns send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format. Receiver translate into receiver-local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455840" indent="-2077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real-world-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pros and c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translates host-independent format. Sends. Receiver translates to receiver-local forma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455840" indent="-2077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real-world analo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pros and c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Picture 15" descr="underline_base"/>
          <p:cNvPicPr/>
          <p:nvPr/>
        </p:nvPicPr>
        <p:blipFill>
          <a:blip r:embed="rId1"/>
          <a:stretch/>
        </p:blipFill>
        <p:spPr>
          <a:xfrm>
            <a:off x="466560" y="92088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58" name="Footer Placeholder 4"/>
          <p:cNvSpPr/>
          <p:nvPr/>
        </p:nvSpPr>
        <p:spPr>
          <a:xfrm>
            <a:off x="5524560" y="649296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8275680" y="648324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B5AE6460-8C87-4C0C-9556-ECBF0270C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39560" y="23508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lving the presentation proble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02840" y="1389240"/>
            <a:ext cx="85885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late local-host format to host-independen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mit data in host-independen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late host-independent format to remote-hos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62" name="Group 3"/>
          <p:cNvGrpSpPr/>
          <p:nvPr/>
        </p:nvGrpSpPr>
        <p:grpSpPr>
          <a:xfrm>
            <a:off x="7002360" y="4703760"/>
            <a:ext cx="1621080" cy="1516680"/>
            <a:chOff x="7002360" y="4703760"/>
            <a:chExt cx="1621080" cy="1516680"/>
          </a:xfrm>
        </p:grpSpPr>
        <p:sp>
          <p:nvSpPr>
            <p:cNvPr id="1163" name="Text Box 7"/>
            <p:cNvSpPr/>
            <p:nvPr/>
          </p:nvSpPr>
          <p:spPr>
            <a:xfrm>
              <a:off x="7002360" y="5883120"/>
              <a:ext cx="1621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12  tee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4" name="Picture 14" descr=""/>
            <p:cNvPicPr/>
            <p:nvPr/>
          </p:nvPicPr>
          <p:blipFill>
            <a:blip r:embed="rId2"/>
            <a:stretch/>
          </p:blipFill>
          <p:spPr>
            <a:xfrm>
              <a:off x="7470720" y="4703760"/>
              <a:ext cx="619920" cy="12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5" name="Group 2"/>
          <p:cNvGrpSpPr/>
          <p:nvPr/>
        </p:nvGrpSpPr>
        <p:grpSpPr>
          <a:xfrm>
            <a:off x="3728880" y="4687920"/>
            <a:ext cx="1522440" cy="1826640"/>
            <a:chOff x="3728880" y="4687920"/>
            <a:chExt cx="1522440" cy="1826640"/>
          </a:xfrm>
        </p:grpSpPr>
        <p:sp>
          <p:nvSpPr>
            <p:cNvPr id="1166" name="Text Box 6"/>
            <p:cNvSpPr/>
            <p:nvPr/>
          </p:nvSpPr>
          <p:spPr>
            <a:xfrm>
              <a:off x="3728880" y="5933880"/>
              <a:ext cx="1522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ing 60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pp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7" name="Picture 15" descr=""/>
            <p:cNvPicPr/>
            <p:nvPr/>
          </p:nvPicPr>
          <p:blipFill>
            <a:blip r:embed="rId3"/>
            <a:stretch/>
          </p:blipFill>
          <p:spPr>
            <a:xfrm>
              <a:off x="4084920" y="4687920"/>
              <a:ext cx="539640" cy="134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8" name="Group 1"/>
          <p:cNvGrpSpPr/>
          <p:nvPr/>
        </p:nvGrpSpPr>
        <p:grpSpPr>
          <a:xfrm>
            <a:off x="233280" y="4719600"/>
            <a:ext cx="1397160" cy="1519920"/>
            <a:chOff x="233280" y="4719600"/>
            <a:chExt cx="1397160" cy="1519920"/>
          </a:xfrm>
        </p:grpSpPr>
        <p:sp>
          <p:nvSpPr>
            <p:cNvPr id="1169" name="Text Box 8"/>
            <p:cNvSpPr/>
            <p:nvPr/>
          </p:nvSpPr>
          <p:spPr>
            <a:xfrm>
              <a:off x="233280" y="5902200"/>
              <a:ext cx="13971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nd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0" name="Picture 16" descr=""/>
            <p:cNvPicPr/>
            <p:nvPr/>
          </p:nvPicPr>
          <p:blipFill>
            <a:blip r:embed="rId4"/>
            <a:stretch/>
          </p:blipFill>
          <p:spPr>
            <a:xfrm>
              <a:off x="581400" y="4719600"/>
              <a:ext cx="73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1" name="Group 72705"/>
          <p:cNvGrpSpPr/>
          <p:nvPr/>
        </p:nvGrpSpPr>
        <p:grpSpPr>
          <a:xfrm>
            <a:off x="352440" y="3440160"/>
            <a:ext cx="8087760" cy="700200"/>
            <a:chOff x="352440" y="3440160"/>
            <a:chExt cx="8087760" cy="700200"/>
          </a:xfrm>
        </p:grpSpPr>
        <p:grpSp>
          <p:nvGrpSpPr>
            <p:cNvPr id="1172" name="Group 72703"/>
            <p:cNvGrpSpPr/>
            <p:nvPr/>
          </p:nvGrpSpPr>
          <p:grpSpPr>
            <a:xfrm>
              <a:off x="3731400" y="3448800"/>
              <a:ext cx="1436760" cy="691560"/>
              <a:chOff x="3731400" y="3448800"/>
              <a:chExt cx="1436760" cy="691560"/>
            </a:xfrm>
          </p:grpSpPr>
          <p:sp>
            <p:nvSpPr>
              <p:cNvPr id="1173" name="Rectangle 30"/>
              <p:cNvSpPr/>
              <p:nvPr/>
            </p:nvSpPr>
            <p:spPr>
              <a:xfrm>
                <a:off x="3731400" y="3464280"/>
                <a:ext cx="1410840" cy="6760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TextBox 6"/>
              <p:cNvSpPr/>
              <p:nvPr/>
            </p:nvSpPr>
            <p:spPr>
              <a:xfrm>
                <a:off x="3733200" y="3448800"/>
                <a:ext cx="143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sent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erv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Group 38"/>
            <p:cNvGrpSpPr/>
            <p:nvPr/>
          </p:nvGrpSpPr>
          <p:grpSpPr>
            <a:xfrm>
              <a:off x="7003440" y="3444480"/>
              <a:ext cx="1436760" cy="691560"/>
              <a:chOff x="7003440" y="3444480"/>
              <a:chExt cx="1436760" cy="691560"/>
            </a:xfrm>
          </p:grpSpPr>
          <p:sp>
            <p:nvSpPr>
              <p:cNvPr id="1176" name="Rectangle 39"/>
              <p:cNvSpPr/>
              <p:nvPr/>
            </p:nvSpPr>
            <p:spPr>
              <a:xfrm>
                <a:off x="7003440" y="3459960"/>
                <a:ext cx="1410840" cy="6760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TextBox 40"/>
              <p:cNvSpPr/>
              <p:nvPr/>
            </p:nvSpPr>
            <p:spPr>
              <a:xfrm>
                <a:off x="7005240" y="3444480"/>
                <a:ext cx="143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sent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erv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Group 41"/>
            <p:cNvGrpSpPr/>
            <p:nvPr/>
          </p:nvGrpSpPr>
          <p:grpSpPr>
            <a:xfrm>
              <a:off x="352440" y="3440160"/>
              <a:ext cx="1436760" cy="691560"/>
              <a:chOff x="352440" y="3440160"/>
              <a:chExt cx="1436760" cy="691560"/>
            </a:xfrm>
          </p:grpSpPr>
          <p:sp>
            <p:nvSpPr>
              <p:cNvPr id="1179" name="Rectangle 42"/>
              <p:cNvSpPr/>
              <p:nvPr/>
            </p:nvSpPr>
            <p:spPr>
              <a:xfrm>
                <a:off x="352440" y="3455640"/>
                <a:ext cx="1410840" cy="6760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TextBox 43"/>
              <p:cNvSpPr/>
              <p:nvPr/>
            </p:nvSpPr>
            <p:spPr>
              <a:xfrm>
                <a:off x="354240" y="3440160"/>
                <a:ext cx="143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sent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erv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1" name="Group 72711"/>
          <p:cNvGrpSpPr/>
          <p:nvPr/>
        </p:nvGrpSpPr>
        <p:grpSpPr>
          <a:xfrm>
            <a:off x="3373560" y="4201560"/>
            <a:ext cx="1282680" cy="595440"/>
            <a:chOff x="3373560" y="4201560"/>
            <a:chExt cx="1282680" cy="595440"/>
          </a:xfrm>
        </p:grpSpPr>
        <p:sp>
          <p:nvSpPr>
            <p:cNvPr id="1182" name="TextBox 72706"/>
            <p:cNvSpPr/>
            <p:nvPr/>
          </p:nvSpPr>
          <p:spPr>
            <a:xfrm>
              <a:off x="3373560" y="42336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“</a:t>
              </a: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Groovy!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3" name="Straight Arrow Connector 72709"/>
            <p:cNvCxnSpPr/>
            <p:nvPr/>
          </p:nvCxnSpPr>
          <p:spPr>
            <a:xfrm flipV="1">
              <a:off x="4655520" y="4201560"/>
              <a:ext cx="1080" cy="59580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1184" name="Group 72712"/>
          <p:cNvGrpSpPr/>
          <p:nvPr/>
        </p:nvGrpSpPr>
        <p:grpSpPr>
          <a:xfrm>
            <a:off x="5184360" y="3095640"/>
            <a:ext cx="1750320" cy="714600"/>
            <a:chOff x="5184360" y="3095640"/>
            <a:chExt cx="1750320" cy="714600"/>
          </a:xfrm>
        </p:grpSpPr>
        <p:sp>
          <p:nvSpPr>
            <p:cNvPr id="1185" name="TextBox 48"/>
            <p:cNvSpPr/>
            <p:nvPr/>
          </p:nvSpPr>
          <p:spPr>
            <a:xfrm>
              <a:off x="5184360" y="3095640"/>
              <a:ext cx="175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“</a:t>
              </a: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It is pleas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o me!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6" name="Straight Arrow Connector 51"/>
            <p:cNvCxnSpPr/>
            <p:nvPr/>
          </p:nvCxnSpPr>
          <p:spPr>
            <a:xfrm>
              <a:off x="5294520" y="3805560"/>
              <a:ext cx="1620720" cy="504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1187" name="Group 72713"/>
          <p:cNvGrpSpPr/>
          <p:nvPr/>
        </p:nvGrpSpPr>
        <p:grpSpPr>
          <a:xfrm>
            <a:off x="1839600" y="3084480"/>
            <a:ext cx="1750320" cy="721080"/>
            <a:chOff x="1839600" y="3084480"/>
            <a:chExt cx="1750320" cy="721080"/>
          </a:xfrm>
        </p:grpSpPr>
        <p:sp>
          <p:nvSpPr>
            <p:cNvPr id="1188" name="TextBox 47"/>
            <p:cNvSpPr/>
            <p:nvPr/>
          </p:nvSpPr>
          <p:spPr>
            <a:xfrm>
              <a:off x="1839600" y="3084480"/>
              <a:ext cx="175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“</a:t>
              </a: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It is pleas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o me!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9" name="Straight Arrow Connector 53"/>
            <p:cNvCxnSpPr/>
            <p:nvPr/>
          </p:nvCxnSpPr>
          <p:spPr>
            <a:xfrm flipH="1">
              <a:off x="1872000" y="3800880"/>
              <a:ext cx="1620720" cy="504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1190" name="Group 72715"/>
          <p:cNvGrpSpPr/>
          <p:nvPr/>
        </p:nvGrpSpPr>
        <p:grpSpPr>
          <a:xfrm>
            <a:off x="684720" y="4181400"/>
            <a:ext cx="2035440" cy="597240"/>
            <a:chOff x="684720" y="4181400"/>
            <a:chExt cx="2035440" cy="597240"/>
          </a:xfrm>
        </p:grpSpPr>
        <p:cxnSp>
          <p:nvCxnSpPr>
            <p:cNvPr id="1191" name="Straight Arrow Connector 54"/>
            <p:cNvCxnSpPr/>
            <p:nvPr/>
          </p:nvCxnSpPr>
          <p:spPr>
            <a:xfrm>
              <a:off x="700200" y="4181400"/>
              <a:ext cx="1080" cy="59760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</p:cxnSp>
        <p:sp>
          <p:nvSpPr>
            <p:cNvPr id="1192" name="TextBox 56"/>
            <p:cNvSpPr/>
            <p:nvPr/>
          </p:nvSpPr>
          <p:spPr>
            <a:xfrm>
              <a:off x="684720" y="422820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“</a:t>
              </a: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Cat’s pajamas!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Group 72714"/>
          <p:cNvGrpSpPr/>
          <p:nvPr/>
        </p:nvGrpSpPr>
        <p:grpSpPr>
          <a:xfrm>
            <a:off x="5810760" y="4194000"/>
            <a:ext cx="2254680" cy="626760"/>
            <a:chOff x="5810760" y="4194000"/>
            <a:chExt cx="2254680" cy="626760"/>
          </a:xfrm>
        </p:grpSpPr>
        <p:cxnSp>
          <p:nvCxnSpPr>
            <p:cNvPr id="1194" name="Straight Arrow Connector 55"/>
            <p:cNvCxnSpPr/>
            <p:nvPr/>
          </p:nvCxnSpPr>
          <p:spPr>
            <a:xfrm>
              <a:off x="8064720" y="4224960"/>
              <a:ext cx="1080" cy="596160"/>
            </a:xfrm>
            <a:prstGeom prst="straightConnector1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</p:cxnSp>
        <p:sp>
          <p:nvSpPr>
            <p:cNvPr id="1195" name="TextBox 57"/>
            <p:cNvSpPr/>
            <p:nvPr/>
          </p:nvSpPr>
          <p:spPr>
            <a:xfrm>
              <a:off x="5810760" y="4194000"/>
              <a:ext cx="224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“</a:t>
              </a:r>
              <a:r>
                <a:rPr b="0" i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wesome, dude!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Group 72717"/>
          <p:cNvGrpSpPr/>
          <p:nvPr/>
        </p:nvGrpSpPr>
        <p:grpSpPr>
          <a:xfrm>
            <a:off x="298800" y="4672080"/>
            <a:ext cx="1326240" cy="762120"/>
            <a:chOff x="298800" y="4672080"/>
            <a:chExt cx="1326240" cy="762120"/>
          </a:xfrm>
        </p:grpSpPr>
        <p:sp>
          <p:nvSpPr>
            <p:cNvPr id="1197" name="TextBox 63"/>
            <p:cNvSpPr/>
            <p:nvPr/>
          </p:nvSpPr>
          <p:spPr>
            <a:xfrm>
              <a:off x="1158840" y="46720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TextBox 64"/>
            <p:cNvSpPr/>
            <p:nvPr/>
          </p:nvSpPr>
          <p:spPr>
            <a:xfrm>
              <a:off x="1374120" y="49971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TextBox 65"/>
            <p:cNvSpPr/>
            <p:nvPr/>
          </p:nvSpPr>
          <p:spPr>
            <a:xfrm>
              <a:off x="381600" y="4694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TextBox 66"/>
            <p:cNvSpPr/>
            <p:nvPr/>
          </p:nvSpPr>
          <p:spPr>
            <a:xfrm>
              <a:off x="298800" y="5035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Group 69"/>
          <p:cNvGrpSpPr/>
          <p:nvPr/>
        </p:nvGrpSpPr>
        <p:grpSpPr>
          <a:xfrm>
            <a:off x="7191720" y="4730760"/>
            <a:ext cx="1326240" cy="762120"/>
            <a:chOff x="7191720" y="4730760"/>
            <a:chExt cx="1326240" cy="762120"/>
          </a:xfrm>
        </p:grpSpPr>
        <p:sp>
          <p:nvSpPr>
            <p:cNvPr id="1202" name="TextBox 70"/>
            <p:cNvSpPr/>
            <p:nvPr/>
          </p:nvSpPr>
          <p:spPr>
            <a:xfrm>
              <a:off x="8051760" y="47307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TextBox 71"/>
            <p:cNvSpPr/>
            <p:nvPr/>
          </p:nvSpPr>
          <p:spPr>
            <a:xfrm>
              <a:off x="8267040" y="5055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TextBox 72"/>
            <p:cNvSpPr/>
            <p:nvPr/>
          </p:nvSpPr>
          <p:spPr>
            <a:xfrm>
              <a:off x="7274520" y="47530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Box 73"/>
            <p:cNvSpPr/>
            <p:nvPr/>
          </p:nvSpPr>
          <p:spPr>
            <a:xfrm>
              <a:off x="7191720" y="5094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16" descr="underline_base"/>
          <p:cNvPicPr/>
          <p:nvPr/>
        </p:nvPicPr>
        <p:blipFill>
          <a:blip r:embed="rId1"/>
          <a:stretch/>
        </p:blipFill>
        <p:spPr>
          <a:xfrm>
            <a:off x="593640" y="961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207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5BED9943-4C6D-4551-B7C6-BE1EEF4A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33520" y="203040"/>
            <a:ext cx="77724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SN.1: Abstract Syntax Notation 1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20200" y="1493640"/>
            <a:ext cx="8148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ISO standar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.68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d extensively in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 eating vegetables, knowing thi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 for yo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efined data typ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object constructo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 SM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BER: Basic Encod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how ASN.1-defined data objects to be transmit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transmitted object has Type, Length, Value (TLV) enco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Picture 24" descr="underline_base"/>
          <p:cNvPicPr/>
          <p:nvPr/>
        </p:nvPicPr>
        <p:blipFill>
          <a:blip r:embed="rId1"/>
          <a:stretch/>
        </p:blipFill>
        <p:spPr>
          <a:xfrm>
            <a:off x="642960" y="887400"/>
            <a:ext cx="3324240" cy="195120"/>
          </a:xfrm>
          <a:prstGeom prst="rect">
            <a:avLst/>
          </a:prstGeom>
          <a:ln w="0">
            <a:noFill/>
          </a:ln>
        </p:spPr>
      </p:pic>
      <p:sp>
        <p:nvSpPr>
          <p:cNvPr id="1212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21D83A56-9063-44BD-86AF-D59F2EAC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3520" y="5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V Encod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33520" y="1434960"/>
            <a:ext cx="777240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mitted data is self-identify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type, one of ASN.1-defined ty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ngth of data in by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V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of data, encoded according to ASN.1 stand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3895560" y="4091040"/>
            <a:ext cx="32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4"/>
          <p:cNvSpPr/>
          <p:nvPr/>
        </p:nvSpPr>
        <p:spPr>
          <a:xfrm>
            <a:off x="4458600" y="4043520"/>
            <a:ext cx="196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e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5"/>
          <p:cNvSpPr/>
          <p:nvPr/>
        </p:nvSpPr>
        <p:spPr>
          <a:xfrm>
            <a:off x="2722680" y="35640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ag Valu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16"/>
          <p:cNvSpPr/>
          <p:nvPr/>
        </p:nvSpPr>
        <p:spPr>
          <a:xfrm flipV="1">
            <a:off x="4373640" y="3951000"/>
            <a:ext cx="0" cy="23288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Footer Placeholder 3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4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34AE2F2C-4DCF-40AA-B711-E16722C0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98080" y="676080"/>
            <a:ext cx="34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LV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ncoding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3" name="Text Box 5"/>
          <p:cNvSpPr/>
          <p:nvPr/>
        </p:nvSpPr>
        <p:spPr>
          <a:xfrm>
            <a:off x="2473200" y="5616720"/>
            <a:ext cx="24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th, 5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pe=4, octe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6"/>
          <p:cNvSpPr/>
          <p:nvPr/>
        </p:nvSpPr>
        <p:spPr>
          <a:xfrm>
            <a:off x="2935080" y="33415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th, 2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pe=2,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7"/>
          <p:cNvSpPr/>
          <p:nvPr/>
        </p:nvSpPr>
        <p:spPr>
          <a:xfrm>
            <a:off x="4951440" y="6138720"/>
            <a:ext cx="1258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8"/>
          <p:cNvSpPr/>
          <p:nvPr/>
        </p:nvSpPr>
        <p:spPr>
          <a:xfrm>
            <a:off x="4892760" y="5854680"/>
            <a:ext cx="12938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12"/>
          <p:cNvSpPr/>
          <p:nvPr/>
        </p:nvSpPr>
        <p:spPr>
          <a:xfrm>
            <a:off x="4902120" y="3843360"/>
            <a:ext cx="1270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13"/>
          <p:cNvSpPr/>
          <p:nvPr/>
        </p:nvSpPr>
        <p:spPr>
          <a:xfrm>
            <a:off x="4913280" y="3571920"/>
            <a:ext cx="1281240" cy="11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Picture 24" descr="underline_base"/>
          <p:cNvPicPr/>
          <p:nvPr/>
        </p:nvPicPr>
        <p:blipFill>
          <a:blip r:embed="rId1"/>
          <a:stretch/>
        </p:blipFill>
        <p:spPr>
          <a:xfrm>
            <a:off x="314280" y="2031840"/>
            <a:ext cx="1911240" cy="184320"/>
          </a:xfrm>
          <a:prstGeom prst="rect">
            <a:avLst/>
          </a:prstGeom>
          <a:ln w="0">
            <a:noFill/>
          </a:ln>
        </p:spPr>
      </p:pic>
      <p:grpSp>
        <p:nvGrpSpPr>
          <p:cNvPr id="1230" name="Group 3"/>
          <p:cNvGrpSpPr/>
          <p:nvPr/>
        </p:nvGrpSpPr>
        <p:grpSpPr>
          <a:xfrm>
            <a:off x="3930480" y="271440"/>
            <a:ext cx="2119320" cy="541440"/>
            <a:chOff x="3930480" y="271440"/>
            <a:chExt cx="2119320" cy="541440"/>
          </a:xfrm>
        </p:grpSpPr>
        <p:sp>
          <p:nvSpPr>
            <p:cNvPr id="1231" name="Rectangle 2"/>
            <p:cNvSpPr/>
            <p:nvPr/>
          </p:nvSpPr>
          <p:spPr>
            <a:xfrm>
              <a:off x="3930480" y="271440"/>
              <a:ext cx="2076840" cy="541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TextBox 1"/>
            <p:cNvSpPr/>
            <p:nvPr/>
          </p:nvSpPr>
          <p:spPr>
            <a:xfrm>
              <a:off x="3936600" y="278280"/>
              <a:ext cx="211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lastname ::= OCTET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weight ::= INTE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Group 22"/>
          <p:cNvGrpSpPr/>
          <p:nvPr/>
        </p:nvGrpSpPr>
        <p:grpSpPr>
          <a:xfrm>
            <a:off x="6716880" y="237960"/>
            <a:ext cx="2076120" cy="541440"/>
            <a:chOff x="6716880" y="237960"/>
            <a:chExt cx="2076120" cy="541440"/>
          </a:xfrm>
        </p:grpSpPr>
        <p:sp>
          <p:nvSpPr>
            <p:cNvPr id="1234" name="Rectangle 23"/>
            <p:cNvSpPr/>
            <p:nvPr/>
          </p:nvSpPr>
          <p:spPr>
            <a:xfrm>
              <a:off x="6716880" y="237960"/>
              <a:ext cx="2076120" cy="541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TextBox 24"/>
            <p:cNvSpPr/>
            <p:nvPr/>
          </p:nvSpPr>
          <p:spPr>
            <a:xfrm>
              <a:off x="6758280" y="244800"/>
              <a:ext cx="166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{weight, 259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{lastname, “smith”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TextBox 4"/>
          <p:cNvSpPr/>
          <p:nvPr/>
        </p:nvSpPr>
        <p:spPr>
          <a:xfrm>
            <a:off x="3846960" y="1036800"/>
            <a:ext cx="190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ule of data typ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larations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ASN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Box 26"/>
          <p:cNvSpPr/>
          <p:nvPr/>
        </p:nvSpPr>
        <p:spPr>
          <a:xfrm>
            <a:off x="6784200" y="113652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tances of data type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fied i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Group 27"/>
          <p:cNvGrpSpPr/>
          <p:nvPr/>
        </p:nvGrpSpPr>
        <p:grpSpPr>
          <a:xfrm>
            <a:off x="5357880" y="1871640"/>
            <a:ext cx="2136600" cy="653040"/>
            <a:chOff x="5357880" y="1871640"/>
            <a:chExt cx="2136600" cy="653040"/>
          </a:xfrm>
        </p:grpSpPr>
        <p:sp>
          <p:nvSpPr>
            <p:cNvPr id="1239" name="Rectangle 28"/>
            <p:cNvSpPr/>
            <p:nvPr/>
          </p:nvSpPr>
          <p:spPr>
            <a:xfrm>
              <a:off x="5357880" y="1915920"/>
              <a:ext cx="2136600" cy="608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TextBox 29"/>
            <p:cNvSpPr/>
            <p:nvPr/>
          </p:nvSpPr>
          <p:spPr>
            <a:xfrm>
              <a:off x="5365080" y="1871640"/>
              <a:ext cx="211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Basic Encoding R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(B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Straight Connector 6"/>
          <p:cNvSpPr/>
          <p:nvPr/>
        </p:nvSpPr>
        <p:spPr>
          <a:xfrm>
            <a:off x="5557680" y="898560"/>
            <a:ext cx="712800" cy="941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traight Connector 32"/>
          <p:cNvSpPr/>
          <p:nvPr/>
        </p:nvSpPr>
        <p:spPr>
          <a:xfrm flipH="1">
            <a:off x="6373800" y="907920"/>
            <a:ext cx="712800" cy="943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Group 10"/>
          <p:cNvGrpSpPr/>
          <p:nvPr/>
        </p:nvGrpSpPr>
        <p:grpSpPr>
          <a:xfrm>
            <a:off x="6310080" y="2668680"/>
            <a:ext cx="307080" cy="368280"/>
            <a:chOff x="6310080" y="2668680"/>
            <a:chExt cx="307080" cy="368280"/>
          </a:xfrm>
        </p:grpSpPr>
        <p:sp>
          <p:nvSpPr>
            <p:cNvPr id="1244" name="Rectangle 8"/>
            <p:cNvSpPr/>
            <p:nvPr/>
          </p:nvSpPr>
          <p:spPr>
            <a:xfrm>
              <a:off x="6328440" y="2732400"/>
              <a:ext cx="26388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TextBox 7"/>
            <p:cNvSpPr/>
            <p:nvPr/>
          </p:nvSpPr>
          <p:spPr>
            <a:xfrm>
              <a:off x="6310080" y="2668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Group 38"/>
          <p:cNvGrpSpPr/>
          <p:nvPr/>
        </p:nvGrpSpPr>
        <p:grpSpPr>
          <a:xfrm>
            <a:off x="6312960" y="2998800"/>
            <a:ext cx="307080" cy="368280"/>
            <a:chOff x="6312960" y="2998800"/>
            <a:chExt cx="307080" cy="368280"/>
          </a:xfrm>
        </p:grpSpPr>
        <p:sp>
          <p:nvSpPr>
            <p:cNvPr id="1247" name="Rectangle 39"/>
            <p:cNvSpPr/>
            <p:nvPr/>
          </p:nvSpPr>
          <p:spPr>
            <a:xfrm>
              <a:off x="6331680" y="3062880"/>
              <a:ext cx="263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TextBox 40"/>
            <p:cNvSpPr/>
            <p:nvPr/>
          </p:nvSpPr>
          <p:spPr>
            <a:xfrm>
              <a:off x="6312960" y="299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Group 41"/>
          <p:cNvGrpSpPr/>
          <p:nvPr/>
        </p:nvGrpSpPr>
        <p:grpSpPr>
          <a:xfrm>
            <a:off x="6314760" y="3330720"/>
            <a:ext cx="307080" cy="368280"/>
            <a:chOff x="6314760" y="3330720"/>
            <a:chExt cx="307080" cy="368280"/>
          </a:xfrm>
        </p:grpSpPr>
        <p:sp>
          <p:nvSpPr>
            <p:cNvPr id="1250" name="Rectangle 42"/>
            <p:cNvSpPr/>
            <p:nvPr/>
          </p:nvSpPr>
          <p:spPr>
            <a:xfrm>
              <a:off x="6333120" y="3394440"/>
              <a:ext cx="26388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TextBox 43"/>
            <p:cNvSpPr/>
            <p:nvPr/>
          </p:nvSpPr>
          <p:spPr>
            <a:xfrm>
              <a:off x="6314760" y="333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Group 44"/>
          <p:cNvGrpSpPr/>
          <p:nvPr/>
        </p:nvGrpSpPr>
        <p:grpSpPr>
          <a:xfrm>
            <a:off x="6318000" y="3660840"/>
            <a:ext cx="307080" cy="368280"/>
            <a:chOff x="6318000" y="3660840"/>
            <a:chExt cx="307080" cy="368280"/>
          </a:xfrm>
        </p:grpSpPr>
        <p:sp>
          <p:nvSpPr>
            <p:cNvPr id="1253" name="Rectangle 45"/>
            <p:cNvSpPr/>
            <p:nvPr/>
          </p:nvSpPr>
          <p:spPr>
            <a:xfrm>
              <a:off x="6336360" y="3724920"/>
              <a:ext cx="26388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TextBox 46"/>
            <p:cNvSpPr/>
            <p:nvPr/>
          </p:nvSpPr>
          <p:spPr>
            <a:xfrm>
              <a:off x="6318000" y="3660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Group 47"/>
          <p:cNvGrpSpPr/>
          <p:nvPr/>
        </p:nvGrpSpPr>
        <p:grpSpPr>
          <a:xfrm>
            <a:off x="6312960" y="3998880"/>
            <a:ext cx="307080" cy="368280"/>
            <a:chOff x="6312960" y="3998880"/>
            <a:chExt cx="307080" cy="368280"/>
          </a:xfrm>
        </p:grpSpPr>
        <p:sp>
          <p:nvSpPr>
            <p:cNvPr id="1256" name="Rectangle 48"/>
            <p:cNvSpPr/>
            <p:nvPr/>
          </p:nvSpPr>
          <p:spPr>
            <a:xfrm>
              <a:off x="6331680" y="4062600"/>
              <a:ext cx="2635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TextBox 49"/>
            <p:cNvSpPr/>
            <p:nvPr/>
          </p:nvSpPr>
          <p:spPr>
            <a:xfrm>
              <a:off x="6312960" y="399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Group 50"/>
          <p:cNvGrpSpPr/>
          <p:nvPr/>
        </p:nvGrpSpPr>
        <p:grpSpPr>
          <a:xfrm>
            <a:off x="6334200" y="4329000"/>
            <a:ext cx="263520" cy="368280"/>
            <a:chOff x="6334200" y="4329000"/>
            <a:chExt cx="263520" cy="368280"/>
          </a:xfrm>
        </p:grpSpPr>
        <p:sp>
          <p:nvSpPr>
            <p:cNvPr id="1259" name="Rectangle 51"/>
            <p:cNvSpPr/>
            <p:nvPr/>
          </p:nvSpPr>
          <p:spPr>
            <a:xfrm>
              <a:off x="6334200" y="4393080"/>
              <a:ext cx="26352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TextBox 52"/>
            <p:cNvSpPr/>
            <p:nvPr/>
          </p:nvSpPr>
          <p:spPr>
            <a:xfrm>
              <a:off x="6346440" y="43290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Group 54"/>
          <p:cNvGrpSpPr/>
          <p:nvPr/>
        </p:nvGrpSpPr>
        <p:grpSpPr>
          <a:xfrm>
            <a:off x="6337440" y="4667400"/>
            <a:ext cx="263520" cy="368280"/>
            <a:chOff x="6337440" y="4667400"/>
            <a:chExt cx="263520" cy="368280"/>
          </a:xfrm>
        </p:grpSpPr>
        <p:sp>
          <p:nvSpPr>
            <p:cNvPr id="1262" name="Rectangle 55"/>
            <p:cNvSpPr/>
            <p:nvPr/>
          </p:nvSpPr>
          <p:spPr>
            <a:xfrm>
              <a:off x="6337440" y="4731480"/>
              <a:ext cx="263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TextBox 56"/>
            <p:cNvSpPr/>
            <p:nvPr/>
          </p:nvSpPr>
          <p:spPr>
            <a:xfrm>
              <a:off x="6356520" y="466740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Group 57"/>
          <p:cNvGrpSpPr/>
          <p:nvPr/>
        </p:nvGrpSpPr>
        <p:grpSpPr>
          <a:xfrm>
            <a:off x="6289200" y="5005440"/>
            <a:ext cx="371160" cy="368280"/>
            <a:chOff x="6289200" y="5005440"/>
            <a:chExt cx="371160" cy="368280"/>
          </a:xfrm>
        </p:grpSpPr>
        <p:sp>
          <p:nvSpPr>
            <p:cNvPr id="1265" name="Rectangle 58"/>
            <p:cNvSpPr/>
            <p:nvPr/>
          </p:nvSpPr>
          <p:spPr>
            <a:xfrm>
              <a:off x="6339600" y="5069160"/>
              <a:ext cx="2635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TextBox 59"/>
            <p:cNvSpPr/>
            <p:nvPr/>
          </p:nvSpPr>
          <p:spPr>
            <a:xfrm>
              <a:off x="6289200" y="5005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Group 60"/>
          <p:cNvGrpSpPr/>
          <p:nvPr/>
        </p:nvGrpSpPr>
        <p:grpSpPr>
          <a:xfrm>
            <a:off x="6322320" y="5329080"/>
            <a:ext cx="295200" cy="368280"/>
            <a:chOff x="6322320" y="5329080"/>
            <a:chExt cx="295200" cy="368280"/>
          </a:xfrm>
        </p:grpSpPr>
        <p:sp>
          <p:nvSpPr>
            <p:cNvPr id="1268" name="Rectangle 61"/>
            <p:cNvSpPr/>
            <p:nvPr/>
          </p:nvSpPr>
          <p:spPr>
            <a:xfrm>
              <a:off x="6334560" y="5392800"/>
              <a:ext cx="26424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TextBox 62"/>
            <p:cNvSpPr/>
            <p:nvPr/>
          </p:nvSpPr>
          <p:spPr>
            <a:xfrm>
              <a:off x="6322320" y="53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Group 63"/>
          <p:cNvGrpSpPr/>
          <p:nvPr/>
        </p:nvGrpSpPr>
        <p:grpSpPr>
          <a:xfrm>
            <a:off x="6311520" y="5665680"/>
            <a:ext cx="307080" cy="368280"/>
            <a:chOff x="6311520" y="5665680"/>
            <a:chExt cx="307080" cy="368280"/>
          </a:xfrm>
        </p:grpSpPr>
        <p:sp>
          <p:nvSpPr>
            <p:cNvPr id="1271" name="Rectangle 64"/>
            <p:cNvSpPr/>
            <p:nvPr/>
          </p:nvSpPr>
          <p:spPr>
            <a:xfrm>
              <a:off x="6329880" y="5729760"/>
              <a:ext cx="26388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TextBox 65"/>
            <p:cNvSpPr/>
            <p:nvPr/>
          </p:nvSpPr>
          <p:spPr>
            <a:xfrm>
              <a:off x="6311520" y="5665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Group 66"/>
          <p:cNvGrpSpPr/>
          <p:nvPr/>
        </p:nvGrpSpPr>
        <p:grpSpPr>
          <a:xfrm>
            <a:off x="6314760" y="5997600"/>
            <a:ext cx="307080" cy="368280"/>
            <a:chOff x="6314760" y="5997600"/>
            <a:chExt cx="307080" cy="368280"/>
          </a:xfrm>
        </p:grpSpPr>
        <p:sp>
          <p:nvSpPr>
            <p:cNvPr id="1274" name="Rectangle 67"/>
            <p:cNvSpPr/>
            <p:nvPr/>
          </p:nvSpPr>
          <p:spPr>
            <a:xfrm>
              <a:off x="6333120" y="6061320"/>
              <a:ext cx="26388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TextBox 68"/>
            <p:cNvSpPr/>
            <p:nvPr/>
          </p:nvSpPr>
          <p:spPr>
            <a:xfrm>
              <a:off x="6314760" y="599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Straight Connector 12"/>
          <p:cNvSpPr/>
          <p:nvPr/>
        </p:nvSpPr>
        <p:spPr>
          <a:xfrm>
            <a:off x="6832440" y="2705040"/>
            <a:ext cx="0" cy="362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6932520" y="3938760"/>
            <a:ext cx="143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Left Brace 14"/>
          <p:cNvSpPr/>
          <p:nvPr/>
        </p:nvSpPr>
        <p:spPr>
          <a:xfrm>
            <a:off x="4851360" y="4184640"/>
            <a:ext cx="1400040" cy="1432080"/>
          </a:xfrm>
          <a:custGeom>
            <a:avLst/>
            <a:gdLst>
              <a:gd name="textAreaLeft" fmla="*/ 894600 w 1400040"/>
              <a:gd name="textAreaRight" fmla="*/ 1400040 w 1400040"/>
              <a:gd name="textAreaTop" fmla="*/ 20880 h 1432080"/>
              <a:gd name="textAreaBottom" fmla="*/ 1411200 h 143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2"/>
                  <a:pt x="10800" y="1023"/>
                </a:cubicBezTo>
                <a:lnTo>
                  <a:pt x="10800" y="9777"/>
                </a:lnTo>
                <a:cubicBezTo>
                  <a:pt x="10800" y="10289"/>
                  <a:pt x="5400" y="10800"/>
                  <a:pt x="0" y="10800"/>
                </a:cubicBezTo>
                <a:cubicBezTo>
                  <a:pt x="5400" y="10800"/>
                  <a:pt x="10800" y="11312"/>
                  <a:pt x="10800" y="11823"/>
                </a:cubicBezTo>
                <a:lnTo>
                  <a:pt x="10800" y="20577"/>
                </a:lnTo>
                <a:cubicBezTo>
                  <a:pt x="10800" y="2108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5"/>
          <p:cNvSpPr/>
          <p:nvPr/>
        </p:nvSpPr>
        <p:spPr>
          <a:xfrm>
            <a:off x="2136600" y="467820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ue, 5 octets (ch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6"/>
          <p:cNvSpPr/>
          <p:nvPr/>
        </p:nvSpPr>
        <p:spPr>
          <a:xfrm>
            <a:off x="3420360" y="277812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ue, 2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eft Brace 75"/>
          <p:cNvSpPr/>
          <p:nvPr/>
        </p:nvSpPr>
        <p:spPr>
          <a:xfrm>
            <a:off x="4873680" y="2816280"/>
            <a:ext cx="1400040" cy="423720"/>
          </a:xfrm>
          <a:custGeom>
            <a:avLst/>
            <a:gdLst>
              <a:gd name="textAreaLeft" fmla="*/ 894600 w 1400040"/>
              <a:gd name="textAreaRight" fmla="*/ 1400040 w 1400040"/>
              <a:gd name="textAreaTop" fmla="*/ 10800 h 423720"/>
              <a:gd name="textAreaBottom" fmla="*/ 412920 h 42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Picture 15" descr="underline_base"/>
          <p:cNvPicPr/>
          <p:nvPr/>
        </p:nvPicPr>
        <p:blipFill>
          <a:blip r:embed="rId1"/>
          <a:stretch/>
        </p:blipFill>
        <p:spPr>
          <a:xfrm>
            <a:off x="530280" y="8269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283" name="Footer Placeholder 5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Slide Number Placeholder 6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C96FCC2-2A18-4F80-A9CA-9DD4EF24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1731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management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6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network man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extremely important: 80% of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cost</a:t>
            </a:r>
            <a:r>
              <a:rPr b="0" lang="ja-JP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ASN.1 for data descri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NMP protocol as a tool for conveying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network management: more art than scie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what to measure/moni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how to respond to failur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alarm correlation/filter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3" descr="underline_base"/>
          <p:cNvPicPr/>
          <p:nvPr/>
        </p:nvPicPr>
        <p:blipFill>
          <a:blip r:embed="rId1"/>
          <a:stretch/>
        </p:blipFill>
        <p:spPr>
          <a:xfrm>
            <a:off x="620640" y="10429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96" name="Footer Placeholder 5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68AF44B4-EF95-42DA-9AA7-12357E610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45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9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is network manage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-standard management frame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ucture of Management Information: SM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ment Information Base: MI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NMP Protocol Operations and Transport Mapp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ty and Administ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N.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6" descr="underline_base"/>
          <p:cNvPicPr/>
          <p:nvPr/>
        </p:nvPicPr>
        <p:blipFill>
          <a:blip r:embed="rId1"/>
          <a:stretch/>
        </p:blipFill>
        <p:spPr>
          <a:xfrm>
            <a:off x="657360" y="105732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601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DC7B69B-B631-4A52-8825-89FF34259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at is network management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9144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utonomous systems (aka </a:t>
            </a:r>
            <a:r>
              <a:rPr b="0" lang="ja-JP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</a:t>
            </a:r>
            <a:r>
              <a:rPr b="0" lang="ja-JP" sz="24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00s of interacting hardware/software compon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complex systems requiring monitoring, contro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et air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clear power pl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1514880" y="4379760"/>
            <a:ext cx="6977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Network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s the deployment, integ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coordination of the hardware, software, and hum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s to monitor, test, poll, configure, analyze, evalua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control the network and element resources to meet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-time, operational performance, and Quality of Serv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s at a reasonable cost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1427040" y="4349880"/>
            <a:ext cx="7148520" cy="20937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Object 8" descr=""/>
          <p:cNvPicPr/>
          <p:nvPr/>
        </p:nvPicPr>
        <p:blipFill>
          <a:blip r:embed="rId2"/>
          <a:stretch/>
        </p:blipFill>
        <p:spPr>
          <a:xfrm>
            <a:off x="343080" y="4543560"/>
            <a:ext cx="112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underline_base"/>
          <p:cNvPicPr/>
          <p:nvPr/>
        </p:nvPicPr>
        <p:blipFill>
          <a:blip r:embed="rId1"/>
          <a:stretch/>
        </p:blipFill>
        <p:spPr>
          <a:xfrm>
            <a:off x="403200" y="898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609" name="Footer Placeholder 5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72A6901C-D4E3-4F62-9A6A-F38D3D27F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560" y="189000"/>
            <a:ext cx="86310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frastructure for network managemen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2" name="Freeform 7"/>
          <p:cNvSpPr/>
          <p:nvPr/>
        </p:nvSpPr>
        <p:spPr>
          <a:xfrm>
            <a:off x="2249640" y="1733400"/>
            <a:ext cx="2292120" cy="4168800"/>
          </a:xfrm>
          <a:custGeom>
            <a:avLst/>
            <a:gdLst/>
            <a:ahLst/>
            <a:rect l="l" t="t" r="r" b="b"/>
            <a:pathLst>
              <a:path w="1476" h="2122">
                <a:moveTo>
                  <a:pt x="61" y="516"/>
                </a:moveTo>
                <a:cubicBezTo>
                  <a:pt x="122" y="291"/>
                  <a:pt x="304" y="237"/>
                  <a:pt x="403" y="156"/>
                </a:cubicBezTo>
                <a:cubicBezTo>
                  <a:pt x="502" y="75"/>
                  <a:pt x="553" y="46"/>
                  <a:pt x="655" y="30"/>
                </a:cubicBezTo>
                <a:cubicBezTo>
                  <a:pt x="757" y="14"/>
                  <a:pt x="890" y="0"/>
                  <a:pt x="1015" y="60"/>
                </a:cubicBezTo>
                <a:cubicBezTo>
                  <a:pt x="1140" y="120"/>
                  <a:pt x="1334" y="251"/>
                  <a:pt x="1405" y="390"/>
                </a:cubicBezTo>
                <a:cubicBezTo>
                  <a:pt x="1476" y="529"/>
                  <a:pt x="1437" y="728"/>
                  <a:pt x="1441" y="894"/>
                </a:cubicBezTo>
                <a:cubicBezTo>
                  <a:pt x="1445" y="1060"/>
                  <a:pt x="1440" y="1242"/>
                  <a:pt x="1429" y="1386"/>
                </a:cubicBezTo>
                <a:cubicBezTo>
                  <a:pt x="1418" y="1530"/>
                  <a:pt x="1422" y="1668"/>
                  <a:pt x="1375" y="1758"/>
                </a:cubicBezTo>
                <a:cubicBezTo>
                  <a:pt x="1328" y="1848"/>
                  <a:pt x="1252" y="1880"/>
                  <a:pt x="1147" y="1926"/>
                </a:cubicBezTo>
                <a:cubicBezTo>
                  <a:pt x="1042" y="1972"/>
                  <a:pt x="907" y="2016"/>
                  <a:pt x="745" y="2034"/>
                </a:cubicBezTo>
                <a:cubicBezTo>
                  <a:pt x="583" y="2052"/>
                  <a:pt x="293" y="2122"/>
                  <a:pt x="175" y="2034"/>
                </a:cubicBezTo>
                <a:cubicBezTo>
                  <a:pt x="57" y="1946"/>
                  <a:pt x="56" y="1759"/>
                  <a:pt x="37" y="1506"/>
                </a:cubicBezTo>
                <a:cubicBezTo>
                  <a:pt x="18" y="1253"/>
                  <a:pt x="0" y="741"/>
                  <a:pt x="61" y="516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210"/>
          <p:cNvGrpSpPr/>
          <p:nvPr/>
        </p:nvGrpSpPr>
        <p:grpSpPr>
          <a:xfrm>
            <a:off x="3821040" y="3583080"/>
            <a:ext cx="574560" cy="288360"/>
            <a:chOff x="3821040" y="3583080"/>
            <a:chExt cx="574560" cy="288360"/>
          </a:xfrm>
        </p:grpSpPr>
        <p:sp>
          <p:nvSpPr>
            <p:cNvPr id="614" name="Oval 211"/>
            <p:cNvSpPr/>
            <p:nvPr/>
          </p:nvSpPr>
          <p:spPr>
            <a:xfrm>
              <a:off x="3825720" y="3711600"/>
              <a:ext cx="569880" cy="159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12"/>
            <p:cNvSpPr/>
            <p:nvPr/>
          </p:nvSpPr>
          <p:spPr>
            <a:xfrm>
              <a:off x="3825720" y="369828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13"/>
            <p:cNvSpPr/>
            <p:nvPr/>
          </p:nvSpPr>
          <p:spPr>
            <a:xfrm>
              <a:off x="4395600" y="369828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14"/>
            <p:cNvSpPr/>
            <p:nvPr/>
          </p:nvSpPr>
          <p:spPr>
            <a:xfrm>
              <a:off x="3825720" y="3698280"/>
              <a:ext cx="564840" cy="97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Oval 215"/>
            <p:cNvSpPr/>
            <p:nvPr/>
          </p:nvSpPr>
          <p:spPr>
            <a:xfrm>
              <a:off x="3821040" y="3583080"/>
              <a:ext cx="569520" cy="186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Group 216"/>
            <p:cNvGrpSpPr/>
            <p:nvPr/>
          </p:nvGrpSpPr>
          <p:grpSpPr>
            <a:xfrm>
              <a:off x="3958200" y="3623760"/>
              <a:ext cx="281880" cy="109080"/>
              <a:chOff x="3958200" y="3623760"/>
              <a:chExt cx="281880" cy="109080"/>
            </a:xfrm>
          </p:grpSpPr>
          <p:sp>
            <p:nvSpPr>
              <p:cNvPr id="620" name="Line 217"/>
              <p:cNvSpPr/>
              <p:nvPr/>
            </p:nvSpPr>
            <p:spPr>
              <a:xfrm flipV="1">
                <a:off x="3958200" y="3623760"/>
                <a:ext cx="1004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218"/>
              <p:cNvSpPr/>
              <p:nvPr/>
            </p:nvSpPr>
            <p:spPr>
              <a:xfrm>
                <a:off x="4151520" y="373284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219"/>
              <p:cNvSpPr/>
              <p:nvPr/>
            </p:nvSpPr>
            <p:spPr>
              <a:xfrm>
                <a:off x="4046760" y="3625200"/>
                <a:ext cx="10692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220"/>
            <p:cNvGrpSpPr/>
            <p:nvPr/>
          </p:nvGrpSpPr>
          <p:grpSpPr>
            <a:xfrm>
              <a:off x="3958200" y="3622680"/>
              <a:ext cx="281880" cy="108720"/>
              <a:chOff x="3958200" y="3622680"/>
              <a:chExt cx="281880" cy="108720"/>
            </a:xfrm>
          </p:grpSpPr>
          <p:sp>
            <p:nvSpPr>
              <p:cNvPr id="624" name="Line 221"/>
              <p:cNvSpPr/>
              <p:nvPr/>
            </p:nvSpPr>
            <p:spPr>
              <a:xfrm>
                <a:off x="3958200" y="3730680"/>
                <a:ext cx="10044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222"/>
              <p:cNvSpPr/>
              <p:nvPr/>
            </p:nvSpPr>
            <p:spPr>
              <a:xfrm>
                <a:off x="4151520" y="362268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223"/>
              <p:cNvSpPr/>
              <p:nvPr/>
            </p:nvSpPr>
            <p:spPr>
              <a:xfrm flipV="1">
                <a:off x="4046760" y="3623040"/>
                <a:ext cx="10692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7" name="Line 252"/>
          <p:cNvSpPr/>
          <p:nvPr/>
        </p:nvSpPr>
        <p:spPr>
          <a:xfrm flipV="1">
            <a:off x="3308400" y="2808000"/>
            <a:ext cx="338040" cy="10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54"/>
          <p:cNvSpPr/>
          <p:nvPr/>
        </p:nvSpPr>
        <p:spPr>
          <a:xfrm flipV="1">
            <a:off x="3641760" y="3762000"/>
            <a:ext cx="187200" cy="21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55"/>
          <p:cNvSpPr/>
          <p:nvPr/>
        </p:nvSpPr>
        <p:spPr>
          <a:xfrm flipV="1">
            <a:off x="4410000" y="373824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56"/>
          <p:cNvSpPr/>
          <p:nvPr/>
        </p:nvSpPr>
        <p:spPr>
          <a:xfrm flipV="1">
            <a:off x="3117960" y="5442120"/>
            <a:ext cx="35064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257"/>
          <p:cNvGrpSpPr/>
          <p:nvPr/>
        </p:nvGrpSpPr>
        <p:grpSpPr>
          <a:xfrm>
            <a:off x="2550960" y="5268960"/>
            <a:ext cx="574560" cy="288360"/>
            <a:chOff x="2550960" y="5268960"/>
            <a:chExt cx="574560" cy="288360"/>
          </a:xfrm>
        </p:grpSpPr>
        <p:sp>
          <p:nvSpPr>
            <p:cNvPr id="632" name="Oval 258"/>
            <p:cNvSpPr/>
            <p:nvPr/>
          </p:nvSpPr>
          <p:spPr>
            <a:xfrm>
              <a:off x="2555640" y="5397480"/>
              <a:ext cx="569880" cy="159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59"/>
            <p:cNvSpPr/>
            <p:nvPr/>
          </p:nvSpPr>
          <p:spPr>
            <a:xfrm>
              <a:off x="2555640" y="538416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60"/>
            <p:cNvSpPr/>
            <p:nvPr/>
          </p:nvSpPr>
          <p:spPr>
            <a:xfrm>
              <a:off x="3125520" y="538416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261"/>
            <p:cNvSpPr/>
            <p:nvPr/>
          </p:nvSpPr>
          <p:spPr>
            <a:xfrm>
              <a:off x="2555640" y="5384160"/>
              <a:ext cx="564840" cy="97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262"/>
            <p:cNvSpPr/>
            <p:nvPr/>
          </p:nvSpPr>
          <p:spPr>
            <a:xfrm>
              <a:off x="2550960" y="5268960"/>
              <a:ext cx="569520" cy="186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Group 263"/>
            <p:cNvGrpSpPr/>
            <p:nvPr/>
          </p:nvGrpSpPr>
          <p:grpSpPr>
            <a:xfrm>
              <a:off x="2688120" y="5309640"/>
              <a:ext cx="281880" cy="109080"/>
              <a:chOff x="2688120" y="5309640"/>
              <a:chExt cx="281880" cy="109080"/>
            </a:xfrm>
          </p:grpSpPr>
          <p:sp>
            <p:nvSpPr>
              <p:cNvPr id="638" name="Line 264"/>
              <p:cNvSpPr/>
              <p:nvPr/>
            </p:nvSpPr>
            <p:spPr>
              <a:xfrm flipV="1">
                <a:off x="2688120" y="5309640"/>
                <a:ext cx="1004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265"/>
              <p:cNvSpPr/>
              <p:nvPr/>
            </p:nvSpPr>
            <p:spPr>
              <a:xfrm>
                <a:off x="2881440" y="541872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266"/>
              <p:cNvSpPr/>
              <p:nvPr/>
            </p:nvSpPr>
            <p:spPr>
              <a:xfrm>
                <a:off x="2776680" y="5311080"/>
                <a:ext cx="10692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67"/>
            <p:cNvGrpSpPr/>
            <p:nvPr/>
          </p:nvGrpSpPr>
          <p:grpSpPr>
            <a:xfrm>
              <a:off x="2688120" y="5308560"/>
              <a:ext cx="281880" cy="108720"/>
              <a:chOff x="2688120" y="5308560"/>
              <a:chExt cx="281880" cy="108720"/>
            </a:xfrm>
          </p:grpSpPr>
          <p:sp>
            <p:nvSpPr>
              <p:cNvPr id="642" name="Line 268"/>
              <p:cNvSpPr/>
              <p:nvPr/>
            </p:nvSpPr>
            <p:spPr>
              <a:xfrm>
                <a:off x="2688120" y="5416560"/>
                <a:ext cx="10044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269"/>
              <p:cNvSpPr/>
              <p:nvPr/>
            </p:nvSpPr>
            <p:spPr>
              <a:xfrm>
                <a:off x="2881440" y="530856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70"/>
              <p:cNvSpPr/>
              <p:nvPr/>
            </p:nvSpPr>
            <p:spPr>
              <a:xfrm flipV="1">
                <a:off x="2776680" y="5308920"/>
                <a:ext cx="10692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5" name="Line 271"/>
          <p:cNvSpPr/>
          <p:nvPr/>
        </p:nvSpPr>
        <p:spPr>
          <a:xfrm flipV="1">
            <a:off x="2201760" y="5435280"/>
            <a:ext cx="3510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272"/>
          <p:cNvSpPr/>
          <p:nvPr/>
        </p:nvSpPr>
        <p:spPr>
          <a:xfrm>
            <a:off x="3541680" y="4253040"/>
            <a:ext cx="372960" cy="5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33"/>
          <p:cNvSpPr/>
          <p:nvPr/>
        </p:nvSpPr>
        <p:spPr>
          <a:xfrm>
            <a:off x="2027160" y="55656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38"/>
          <p:cNvSpPr/>
          <p:nvPr/>
        </p:nvSpPr>
        <p:spPr>
          <a:xfrm>
            <a:off x="3873240" y="52992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39"/>
          <p:cNvSpPr/>
          <p:nvPr/>
        </p:nvSpPr>
        <p:spPr>
          <a:xfrm>
            <a:off x="3998880" y="2546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40"/>
          <p:cNvSpPr/>
          <p:nvPr/>
        </p:nvSpPr>
        <p:spPr>
          <a:xfrm>
            <a:off x="4046400" y="37656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47"/>
          <p:cNvSpPr/>
          <p:nvPr/>
        </p:nvSpPr>
        <p:spPr>
          <a:xfrm>
            <a:off x="300960" y="121752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defin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48"/>
          <p:cNvSpPr/>
          <p:nvPr/>
        </p:nvSpPr>
        <p:spPr>
          <a:xfrm>
            <a:off x="5997600" y="1989000"/>
            <a:ext cx="297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managed devic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co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managed object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wh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ta is gathered in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Manageme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"/>
                <a:ea typeface="Gill Sans"/>
              </a:rPr>
              <a:t>Base (MIB)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4"/>
          <p:cNvGrpSpPr/>
          <p:nvPr/>
        </p:nvGrpSpPr>
        <p:grpSpPr>
          <a:xfrm>
            <a:off x="428760" y="1933560"/>
            <a:ext cx="2047680" cy="1133280"/>
            <a:chOff x="428760" y="1933560"/>
            <a:chExt cx="2047680" cy="1133280"/>
          </a:xfrm>
        </p:grpSpPr>
        <p:grpSp>
          <p:nvGrpSpPr>
            <p:cNvPr id="654" name="Group 345"/>
            <p:cNvGrpSpPr/>
            <p:nvPr/>
          </p:nvGrpSpPr>
          <p:grpSpPr>
            <a:xfrm>
              <a:off x="428760" y="2295360"/>
              <a:ext cx="2047680" cy="771480"/>
              <a:chOff x="428760" y="2295360"/>
              <a:chExt cx="2047680" cy="771480"/>
            </a:xfrm>
          </p:grpSpPr>
          <p:sp>
            <p:nvSpPr>
              <p:cNvPr id="655" name="Oval 280"/>
              <p:cNvSpPr/>
              <p:nvPr/>
            </p:nvSpPr>
            <p:spPr>
              <a:xfrm>
                <a:off x="428760" y="2295360"/>
                <a:ext cx="2047680" cy="77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276"/>
              <p:cNvSpPr/>
              <p:nvPr/>
            </p:nvSpPr>
            <p:spPr>
              <a:xfrm>
                <a:off x="515160" y="2336760"/>
                <a:ext cx="1180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ag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Text Box 277"/>
              <p:cNvSpPr/>
              <p:nvPr/>
            </p:nvSpPr>
            <p:spPr>
              <a:xfrm>
                <a:off x="1645560" y="2527200"/>
                <a:ext cx="624240" cy="368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Text Box 349"/>
            <p:cNvSpPr/>
            <p:nvPr/>
          </p:nvSpPr>
          <p:spPr>
            <a:xfrm>
              <a:off x="486720" y="193356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managing e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9" name="Picture 3" descr=""/>
          <p:cNvPicPr/>
          <p:nvPr/>
        </p:nvPicPr>
        <p:blipFill>
          <a:blip r:embed="rId2"/>
          <a:stretch/>
        </p:blipFill>
        <p:spPr>
          <a:xfrm>
            <a:off x="2824200" y="3857760"/>
            <a:ext cx="876240" cy="38880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906"/>
          <p:cNvGrpSpPr/>
          <p:nvPr/>
        </p:nvGrpSpPr>
        <p:grpSpPr>
          <a:xfrm>
            <a:off x="3786120" y="4800600"/>
            <a:ext cx="366840" cy="579600"/>
            <a:chOff x="3786120" y="4800600"/>
            <a:chExt cx="366840" cy="579600"/>
          </a:xfrm>
        </p:grpSpPr>
        <p:sp>
          <p:nvSpPr>
            <p:cNvPr id="661" name="Freeform 907"/>
            <p:cNvSpPr/>
            <p:nvPr/>
          </p:nvSpPr>
          <p:spPr>
            <a:xfrm>
              <a:off x="4076640" y="4801320"/>
              <a:ext cx="72720" cy="553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908"/>
            <p:cNvSpPr/>
            <p:nvPr/>
          </p:nvSpPr>
          <p:spPr>
            <a:xfrm>
              <a:off x="3803400" y="4800600"/>
              <a:ext cx="268560" cy="552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909"/>
            <p:cNvSpPr/>
            <p:nvPr/>
          </p:nvSpPr>
          <p:spPr>
            <a:xfrm>
              <a:off x="4090320" y="4834440"/>
              <a:ext cx="43200" cy="5115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910"/>
            <p:cNvSpPr/>
            <p:nvPr/>
          </p:nvSpPr>
          <p:spPr>
            <a:xfrm>
              <a:off x="4080600" y="5093640"/>
              <a:ext cx="67680" cy="457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911"/>
            <p:cNvSpPr/>
            <p:nvPr/>
          </p:nvSpPr>
          <p:spPr>
            <a:xfrm>
              <a:off x="3805200" y="4863960"/>
              <a:ext cx="15228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Group 912"/>
            <p:cNvGrpSpPr/>
            <p:nvPr/>
          </p:nvGrpSpPr>
          <p:grpSpPr>
            <a:xfrm>
              <a:off x="3942720" y="4858200"/>
              <a:ext cx="149400" cy="34920"/>
              <a:chOff x="3942720" y="4858200"/>
              <a:chExt cx="149400" cy="34920"/>
            </a:xfrm>
          </p:grpSpPr>
          <p:sp>
            <p:nvSpPr>
              <p:cNvPr id="667" name="AutoShape 913"/>
              <p:cNvSpPr/>
              <p:nvPr/>
            </p:nvSpPr>
            <p:spPr>
              <a:xfrm>
                <a:off x="3942720" y="4858200"/>
                <a:ext cx="1494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AutoShape 914"/>
              <p:cNvSpPr/>
              <p:nvPr/>
            </p:nvSpPr>
            <p:spPr>
              <a:xfrm>
                <a:off x="3945960" y="4863240"/>
                <a:ext cx="1432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Rectangle 915"/>
            <p:cNvSpPr/>
            <p:nvPr/>
          </p:nvSpPr>
          <p:spPr>
            <a:xfrm>
              <a:off x="3808080" y="4943520"/>
              <a:ext cx="15228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916"/>
            <p:cNvGrpSpPr/>
            <p:nvPr/>
          </p:nvGrpSpPr>
          <p:grpSpPr>
            <a:xfrm>
              <a:off x="3942360" y="4937040"/>
              <a:ext cx="149400" cy="32400"/>
              <a:chOff x="3942360" y="4937040"/>
              <a:chExt cx="149400" cy="32400"/>
            </a:xfrm>
          </p:grpSpPr>
          <p:sp>
            <p:nvSpPr>
              <p:cNvPr id="671" name="AutoShape 917"/>
              <p:cNvSpPr/>
              <p:nvPr/>
            </p:nvSpPr>
            <p:spPr>
              <a:xfrm>
                <a:off x="3942360" y="4937040"/>
                <a:ext cx="14940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AutoShape 918"/>
              <p:cNvSpPr/>
              <p:nvPr/>
            </p:nvSpPr>
            <p:spPr>
              <a:xfrm>
                <a:off x="3945240" y="4939920"/>
                <a:ext cx="143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Rectangle 919"/>
            <p:cNvSpPr/>
            <p:nvPr/>
          </p:nvSpPr>
          <p:spPr>
            <a:xfrm>
              <a:off x="3805200" y="5025960"/>
              <a:ext cx="1537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920"/>
            <p:cNvSpPr/>
            <p:nvPr/>
          </p:nvSpPr>
          <p:spPr>
            <a:xfrm>
              <a:off x="3808080" y="5097600"/>
              <a:ext cx="15408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921"/>
            <p:cNvGrpSpPr/>
            <p:nvPr/>
          </p:nvGrpSpPr>
          <p:grpSpPr>
            <a:xfrm>
              <a:off x="3939120" y="5090400"/>
              <a:ext cx="149760" cy="36360"/>
              <a:chOff x="3939120" y="5090400"/>
              <a:chExt cx="149760" cy="36360"/>
            </a:xfrm>
          </p:grpSpPr>
          <p:sp>
            <p:nvSpPr>
              <p:cNvPr id="676" name="AutoShape 922"/>
              <p:cNvSpPr/>
              <p:nvPr/>
            </p:nvSpPr>
            <p:spPr>
              <a:xfrm>
                <a:off x="3939120" y="5090400"/>
                <a:ext cx="14976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AutoShape 923"/>
              <p:cNvSpPr/>
              <p:nvPr/>
            </p:nvSpPr>
            <p:spPr>
              <a:xfrm>
                <a:off x="3942000" y="5095080"/>
                <a:ext cx="143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Freeform 924"/>
            <p:cNvSpPr/>
            <p:nvPr/>
          </p:nvSpPr>
          <p:spPr>
            <a:xfrm>
              <a:off x="4081680" y="5024160"/>
              <a:ext cx="67680" cy="453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925"/>
            <p:cNvGrpSpPr/>
            <p:nvPr/>
          </p:nvGrpSpPr>
          <p:grpSpPr>
            <a:xfrm>
              <a:off x="3940200" y="5017680"/>
              <a:ext cx="149760" cy="33480"/>
              <a:chOff x="3940200" y="5017680"/>
              <a:chExt cx="149760" cy="33480"/>
            </a:xfrm>
          </p:grpSpPr>
          <p:sp>
            <p:nvSpPr>
              <p:cNvPr id="680" name="AutoShape 926"/>
              <p:cNvSpPr/>
              <p:nvPr/>
            </p:nvSpPr>
            <p:spPr>
              <a:xfrm>
                <a:off x="3940200" y="5017680"/>
                <a:ext cx="14976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AutoShape 927"/>
              <p:cNvSpPr/>
              <p:nvPr/>
            </p:nvSpPr>
            <p:spPr>
              <a:xfrm>
                <a:off x="3943440" y="5020560"/>
                <a:ext cx="14508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Rectangle 928"/>
            <p:cNvSpPr/>
            <p:nvPr/>
          </p:nvSpPr>
          <p:spPr>
            <a:xfrm>
              <a:off x="4071960" y="4800600"/>
              <a:ext cx="17280" cy="554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929"/>
            <p:cNvSpPr/>
            <p:nvPr/>
          </p:nvSpPr>
          <p:spPr>
            <a:xfrm>
              <a:off x="4087800" y="4940280"/>
              <a:ext cx="60840" cy="514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930"/>
            <p:cNvSpPr/>
            <p:nvPr/>
          </p:nvSpPr>
          <p:spPr>
            <a:xfrm>
              <a:off x="4088520" y="4861080"/>
              <a:ext cx="62640" cy="579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931"/>
            <p:cNvSpPr/>
            <p:nvPr/>
          </p:nvSpPr>
          <p:spPr>
            <a:xfrm>
              <a:off x="4140360" y="532800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932"/>
            <p:cNvSpPr/>
            <p:nvPr/>
          </p:nvSpPr>
          <p:spPr>
            <a:xfrm>
              <a:off x="4085280" y="5329440"/>
              <a:ext cx="63000" cy="482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AutoShape 933"/>
            <p:cNvSpPr/>
            <p:nvPr/>
          </p:nvSpPr>
          <p:spPr>
            <a:xfrm>
              <a:off x="3786120" y="5345640"/>
              <a:ext cx="308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AutoShape 934"/>
            <p:cNvSpPr/>
            <p:nvPr/>
          </p:nvSpPr>
          <p:spPr>
            <a:xfrm>
              <a:off x="3803400" y="5353200"/>
              <a:ext cx="274680" cy="19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935"/>
            <p:cNvSpPr/>
            <p:nvPr/>
          </p:nvSpPr>
          <p:spPr>
            <a:xfrm>
              <a:off x="3828960" y="5274000"/>
              <a:ext cx="410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936"/>
            <p:cNvSpPr/>
            <p:nvPr/>
          </p:nvSpPr>
          <p:spPr>
            <a:xfrm>
              <a:off x="3875040" y="5274000"/>
              <a:ext cx="410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Oval 937"/>
            <p:cNvSpPr/>
            <p:nvPr/>
          </p:nvSpPr>
          <p:spPr>
            <a:xfrm>
              <a:off x="3921120" y="5272560"/>
              <a:ext cx="396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938"/>
            <p:cNvSpPr/>
            <p:nvPr/>
          </p:nvSpPr>
          <p:spPr>
            <a:xfrm>
              <a:off x="4022640" y="5140440"/>
              <a:ext cx="21960" cy="1839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44"/>
          <p:cNvGrpSpPr/>
          <p:nvPr/>
        </p:nvGrpSpPr>
        <p:grpSpPr>
          <a:xfrm>
            <a:off x="3250800" y="2220840"/>
            <a:ext cx="903240" cy="727200"/>
            <a:chOff x="3250800" y="2220840"/>
            <a:chExt cx="903240" cy="727200"/>
          </a:xfrm>
        </p:grpSpPr>
        <p:pic>
          <p:nvPicPr>
            <p:cNvPr id="694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250800" y="2220840"/>
              <a:ext cx="903240" cy="7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Freeform 46"/>
            <p:cNvSpPr/>
            <p:nvPr/>
          </p:nvSpPr>
          <p:spPr>
            <a:xfrm flipH="1">
              <a:off x="3636000" y="2290320"/>
              <a:ext cx="439200" cy="333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44"/>
          <p:cNvGrpSpPr/>
          <p:nvPr/>
        </p:nvGrpSpPr>
        <p:grpSpPr>
          <a:xfrm>
            <a:off x="2055600" y="2655720"/>
            <a:ext cx="903240" cy="727200"/>
            <a:chOff x="2055600" y="2655720"/>
            <a:chExt cx="903240" cy="727200"/>
          </a:xfrm>
        </p:grpSpPr>
        <p:pic>
          <p:nvPicPr>
            <p:cNvPr id="69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2055600" y="2655720"/>
              <a:ext cx="903240" cy="7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Freeform 46"/>
            <p:cNvSpPr/>
            <p:nvPr/>
          </p:nvSpPr>
          <p:spPr>
            <a:xfrm flipH="1">
              <a:off x="2440800" y="2725200"/>
              <a:ext cx="439200" cy="333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Line 272"/>
          <p:cNvSpPr/>
          <p:nvPr/>
        </p:nvSpPr>
        <p:spPr>
          <a:xfrm>
            <a:off x="2733840" y="3303720"/>
            <a:ext cx="371160" cy="5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272"/>
          <p:cNvSpPr/>
          <p:nvPr/>
        </p:nvSpPr>
        <p:spPr>
          <a:xfrm flipH="1">
            <a:off x="2948040" y="4241880"/>
            <a:ext cx="309600" cy="10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2"/>
          <p:cNvGrpSpPr/>
          <p:nvPr/>
        </p:nvGrpSpPr>
        <p:grpSpPr>
          <a:xfrm>
            <a:off x="3971520" y="4753080"/>
            <a:ext cx="1329120" cy="615960"/>
            <a:chOff x="3971520" y="4753080"/>
            <a:chExt cx="1329120" cy="615960"/>
          </a:xfrm>
        </p:grpSpPr>
        <p:sp>
          <p:nvSpPr>
            <p:cNvPr id="702" name="Oval 306"/>
            <p:cNvSpPr/>
            <p:nvPr/>
          </p:nvSpPr>
          <p:spPr>
            <a:xfrm>
              <a:off x="4006800" y="4753080"/>
              <a:ext cx="1293840" cy="615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302"/>
            <p:cNvSpPr/>
            <p:nvPr/>
          </p:nvSpPr>
          <p:spPr>
            <a:xfrm>
              <a:off x="3971520" y="487224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Group 303"/>
            <p:cNvGrpSpPr/>
            <p:nvPr/>
          </p:nvGrpSpPr>
          <p:grpSpPr>
            <a:xfrm>
              <a:off x="4569480" y="4871520"/>
              <a:ext cx="575280" cy="370800"/>
              <a:chOff x="4569480" y="4871520"/>
              <a:chExt cx="575280" cy="370800"/>
            </a:xfrm>
          </p:grpSpPr>
          <p:sp>
            <p:nvSpPr>
              <p:cNvPr id="705" name="Rectangle 304"/>
              <p:cNvSpPr/>
              <p:nvPr/>
            </p:nvSpPr>
            <p:spPr>
              <a:xfrm>
                <a:off x="4609800" y="4905000"/>
                <a:ext cx="514440" cy="337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305"/>
              <p:cNvSpPr/>
              <p:nvPr/>
            </p:nvSpPr>
            <p:spPr>
              <a:xfrm>
                <a:off x="4569480" y="487152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Group 138"/>
          <p:cNvGrpSpPr/>
          <p:nvPr/>
        </p:nvGrpSpPr>
        <p:grpSpPr>
          <a:xfrm>
            <a:off x="3977280" y="3147840"/>
            <a:ext cx="1328040" cy="614520"/>
            <a:chOff x="3977280" y="3147840"/>
            <a:chExt cx="1328040" cy="614520"/>
          </a:xfrm>
        </p:grpSpPr>
        <p:sp>
          <p:nvSpPr>
            <p:cNvPr id="708" name="Oval 306"/>
            <p:cNvSpPr/>
            <p:nvPr/>
          </p:nvSpPr>
          <p:spPr>
            <a:xfrm>
              <a:off x="4013280" y="3147840"/>
              <a:ext cx="1292040" cy="614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302"/>
            <p:cNvSpPr/>
            <p:nvPr/>
          </p:nvSpPr>
          <p:spPr>
            <a:xfrm>
              <a:off x="3977280" y="326664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Group 303"/>
            <p:cNvGrpSpPr/>
            <p:nvPr/>
          </p:nvGrpSpPr>
          <p:grpSpPr>
            <a:xfrm>
              <a:off x="4574880" y="3265920"/>
              <a:ext cx="575280" cy="370080"/>
              <a:chOff x="4574880" y="3265920"/>
              <a:chExt cx="575280" cy="370080"/>
            </a:xfrm>
          </p:grpSpPr>
          <p:sp>
            <p:nvSpPr>
              <p:cNvPr id="711" name="Rectangle 304"/>
              <p:cNvSpPr/>
              <p:nvPr/>
            </p:nvSpPr>
            <p:spPr>
              <a:xfrm>
                <a:off x="4615560" y="3299400"/>
                <a:ext cx="513360" cy="336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305"/>
              <p:cNvSpPr/>
              <p:nvPr/>
            </p:nvSpPr>
            <p:spPr>
              <a:xfrm>
                <a:off x="4574880" y="326592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Group 144"/>
          <p:cNvGrpSpPr/>
          <p:nvPr/>
        </p:nvGrpSpPr>
        <p:grpSpPr>
          <a:xfrm>
            <a:off x="3820680" y="1949400"/>
            <a:ext cx="1329120" cy="614520"/>
            <a:chOff x="3820680" y="1949400"/>
            <a:chExt cx="1329120" cy="614520"/>
          </a:xfrm>
        </p:grpSpPr>
        <p:sp>
          <p:nvSpPr>
            <p:cNvPr id="714" name="Oval 306"/>
            <p:cNvSpPr/>
            <p:nvPr/>
          </p:nvSpPr>
          <p:spPr>
            <a:xfrm>
              <a:off x="3855960" y="1949400"/>
              <a:ext cx="1293840" cy="614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302"/>
            <p:cNvSpPr/>
            <p:nvPr/>
          </p:nvSpPr>
          <p:spPr>
            <a:xfrm>
              <a:off x="3820680" y="20682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Group 303"/>
            <p:cNvGrpSpPr/>
            <p:nvPr/>
          </p:nvGrpSpPr>
          <p:grpSpPr>
            <a:xfrm>
              <a:off x="4418640" y="2067480"/>
              <a:ext cx="575280" cy="370080"/>
              <a:chOff x="4418640" y="2067480"/>
              <a:chExt cx="575280" cy="370080"/>
            </a:xfrm>
          </p:grpSpPr>
          <p:sp>
            <p:nvSpPr>
              <p:cNvPr id="717" name="Rectangle 304"/>
              <p:cNvSpPr/>
              <p:nvPr/>
            </p:nvSpPr>
            <p:spPr>
              <a:xfrm>
                <a:off x="4458960" y="2100960"/>
                <a:ext cx="514440" cy="336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Text Box 305"/>
              <p:cNvSpPr/>
              <p:nvPr/>
            </p:nvSpPr>
            <p:spPr>
              <a:xfrm>
                <a:off x="4418640" y="206748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9" name="Group 156"/>
          <p:cNvGrpSpPr/>
          <p:nvPr/>
        </p:nvGrpSpPr>
        <p:grpSpPr>
          <a:xfrm>
            <a:off x="1423080" y="4940280"/>
            <a:ext cx="1328040" cy="614520"/>
            <a:chOff x="1423080" y="4940280"/>
            <a:chExt cx="1328040" cy="614520"/>
          </a:xfrm>
        </p:grpSpPr>
        <p:sp>
          <p:nvSpPr>
            <p:cNvPr id="720" name="Oval 306"/>
            <p:cNvSpPr/>
            <p:nvPr/>
          </p:nvSpPr>
          <p:spPr>
            <a:xfrm>
              <a:off x="1459080" y="4940280"/>
              <a:ext cx="1292040" cy="614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302"/>
            <p:cNvSpPr/>
            <p:nvPr/>
          </p:nvSpPr>
          <p:spPr>
            <a:xfrm>
              <a:off x="1423080" y="50590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Group 303"/>
            <p:cNvGrpSpPr/>
            <p:nvPr/>
          </p:nvGrpSpPr>
          <p:grpSpPr>
            <a:xfrm>
              <a:off x="2020680" y="5058360"/>
              <a:ext cx="575280" cy="370080"/>
              <a:chOff x="2020680" y="5058360"/>
              <a:chExt cx="575280" cy="370080"/>
            </a:xfrm>
          </p:grpSpPr>
          <p:sp>
            <p:nvSpPr>
              <p:cNvPr id="723" name="Rectangle 304"/>
              <p:cNvSpPr/>
              <p:nvPr/>
            </p:nvSpPr>
            <p:spPr>
              <a:xfrm>
                <a:off x="2061360" y="5091840"/>
                <a:ext cx="513360" cy="336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Text Box 305"/>
              <p:cNvSpPr/>
              <p:nvPr/>
            </p:nvSpPr>
            <p:spPr>
              <a:xfrm>
                <a:off x="2020680" y="505836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Group 3"/>
          <p:cNvGrpSpPr/>
          <p:nvPr/>
        </p:nvGrpSpPr>
        <p:grpSpPr>
          <a:xfrm>
            <a:off x="146880" y="2262240"/>
            <a:ext cx="3948840" cy="2670120"/>
            <a:chOff x="146880" y="2262240"/>
            <a:chExt cx="3948840" cy="2670120"/>
          </a:xfrm>
        </p:grpSpPr>
        <p:sp>
          <p:nvSpPr>
            <p:cNvPr id="726" name="Text Box 346"/>
            <p:cNvSpPr/>
            <p:nvPr/>
          </p:nvSpPr>
          <p:spPr>
            <a:xfrm>
              <a:off x="146880" y="3396240"/>
              <a:ext cx="151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343"/>
            <p:cNvSpPr/>
            <p:nvPr/>
          </p:nvSpPr>
          <p:spPr>
            <a:xfrm>
              <a:off x="2209680" y="2932920"/>
              <a:ext cx="1886040" cy="1657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341"/>
            <p:cNvSpPr/>
            <p:nvPr/>
          </p:nvSpPr>
          <p:spPr>
            <a:xfrm flipV="1">
              <a:off x="2409480" y="2262240"/>
              <a:ext cx="1432800" cy="241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342"/>
            <p:cNvSpPr/>
            <p:nvPr/>
          </p:nvSpPr>
          <p:spPr>
            <a:xfrm>
              <a:off x="2428560" y="2761560"/>
              <a:ext cx="1667160" cy="638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344"/>
            <p:cNvSpPr/>
            <p:nvPr/>
          </p:nvSpPr>
          <p:spPr>
            <a:xfrm>
              <a:off x="1485720" y="3051360"/>
              <a:ext cx="370080" cy="1881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342"/>
            <p:cNvSpPr/>
            <p:nvPr/>
          </p:nvSpPr>
          <p:spPr>
            <a:xfrm>
              <a:off x="1799280" y="3044160"/>
              <a:ext cx="479520" cy="764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Text Box 338"/>
          <p:cNvSpPr/>
          <p:nvPr/>
        </p:nvSpPr>
        <p:spPr>
          <a:xfrm>
            <a:off x="1501560" y="4133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150"/>
          <p:cNvGrpSpPr/>
          <p:nvPr/>
        </p:nvGrpSpPr>
        <p:grpSpPr>
          <a:xfrm>
            <a:off x="1823760" y="3809880"/>
            <a:ext cx="1329120" cy="615960"/>
            <a:chOff x="1823760" y="3809880"/>
            <a:chExt cx="1329120" cy="615960"/>
          </a:xfrm>
        </p:grpSpPr>
        <p:sp>
          <p:nvSpPr>
            <p:cNvPr id="734" name="Oval 306"/>
            <p:cNvSpPr/>
            <p:nvPr/>
          </p:nvSpPr>
          <p:spPr>
            <a:xfrm>
              <a:off x="1859040" y="3809880"/>
              <a:ext cx="1293840" cy="615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302"/>
            <p:cNvSpPr/>
            <p:nvPr/>
          </p:nvSpPr>
          <p:spPr>
            <a:xfrm>
              <a:off x="1823760" y="392904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Group 303"/>
            <p:cNvGrpSpPr/>
            <p:nvPr/>
          </p:nvGrpSpPr>
          <p:grpSpPr>
            <a:xfrm>
              <a:off x="2421720" y="3928320"/>
              <a:ext cx="575280" cy="370800"/>
              <a:chOff x="2421720" y="3928320"/>
              <a:chExt cx="575280" cy="370800"/>
            </a:xfrm>
          </p:grpSpPr>
          <p:sp>
            <p:nvSpPr>
              <p:cNvPr id="737" name="Rectangle 304"/>
              <p:cNvSpPr/>
              <p:nvPr/>
            </p:nvSpPr>
            <p:spPr>
              <a:xfrm>
                <a:off x="2462040" y="3961800"/>
                <a:ext cx="514440" cy="337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305"/>
              <p:cNvSpPr/>
              <p:nvPr/>
            </p:nvSpPr>
            <p:spPr>
              <a:xfrm>
                <a:off x="2421720" y="392832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17" descr="underline_base"/>
          <p:cNvPicPr/>
          <p:nvPr/>
        </p:nvPicPr>
        <p:blipFill>
          <a:blip r:embed="rId1"/>
          <a:stretch/>
        </p:blipFill>
        <p:spPr>
          <a:xfrm>
            <a:off x="620640" y="8618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740" name="Footer Placeholder 5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6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0BFBD83B-5F29-4636-A66A-95283A63C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17316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management standa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SI CM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on Management Information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igned 198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ifying net management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slowly standardiz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81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NMP: Simple Network Management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roots (SGM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ed simp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ployed, adopted rapid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rowth: size, complex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urrently: SNMP V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de fact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management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5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6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02B56C95-3D5A-4992-B4AF-2325218B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network manage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Internet-standard management frame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ucture of Management Information: SM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ment Information Base: MI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NMP Protocol Operations and Transport Mapp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urity and Administ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N.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8" name="Picture 23" descr="underline_base"/>
          <p:cNvPicPr/>
          <p:nvPr/>
        </p:nvPicPr>
        <p:blipFill>
          <a:blip r:embed="rId1"/>
          <a:stretch/>
        </p:blipFill>
        <p:spPr>
          <a:xfrm>
            <a:off x="620640" y="10429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45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9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17" descr="underline_base"/>
          <p:cNvPicPr/>
          <p:nvPr/>
        </p:nvPicPr>
        <p:blipFill>
          <a:blip r:embed="rId1"/>
          <a:stretch/>
        </p:blipFill>
        <p:spPr>
          <a:xfrm>
            <a:off x="557280" y="909720"/>
            <a:ext cx="6856200" cy="172800"/>
          </a:xfrm>
          <a:prstGeom prst="rect">
            <a:avLst/>
          </a:prstGeom>
          <a:ln w="0">
            <a:noFill/>
          </a:ln>
        </p:spPr>
      </p:pic>
      <p:sp>
        <p:nvSpPr>
          <p:cNvPr id="751" name="Footer Placeholder 4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EE4120C-B905-4C02-9CC0-AD9DAD3B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3520" y="17316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NMP overview: 4 key par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21840" y="1587240"/>
            <a:ext cx="8474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nagement information base (MIB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ed information store of network managemen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tructure of Management Information (SMI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definition language for MIB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NMP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vey manager&lt;-&gt;managed object info,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, administration capabil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jor addition in SNMPv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17" descr="underline_base"/>
          <p:cNvPicPr/>
          <p:nvPr/>
        </p:nvPicPr>
        <p:blipFill>
          <a:blip r:embed="rId1"/>
          <a:stretch/>
        </p:blipFill>
        <p:spPr>
          <a:xfrm>
            <a:off x="557280" y="893880"/>
            <a:ext cx="6856200" cy="172800"/>
          </a:xfrm>
          <a:prstGeom prst="rect">
            <a:avLst/>
          </a:prstGeom>
          <a:ln w="0">
            <a:noFill/>
          </a:ln>
        </p:spPr>
      </p:pic>
      <p:sp>
        <p:nvSpPr>
          <p:cNvPr id="756" name="Footer Placeholder 5"/>
          <p:cNvSpPr/>
          <p:nvPr/>
        </p:nvSpPr>
        <p:spPr>
          <a:xfrm>
            <a:off x="5524560" y="6477120"/>
            <a:ext cx="2895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6"/>
          <p:cNvSpPr/>
          <p:nvPr/>
        </p:nvSpPr>
        <p:spPr>
          <a:xfrm>
            <a:off x="8275680" y="6467400"/>
            <a:ext cx="592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4D07A03-4D46-410D-B0B7-2E1130461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189000"/>
            <a:ext cx="77724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I: data definition language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33080" y="1465200"/>
            <a:ext cx="442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urpose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yntax, semantics of management data well-defined, unambiguo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 data typ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aightforward, bo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-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type, status, semantics of manag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ULE-IDENT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ups related objects into MIB modu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5227920" y="148752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asic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5108760" y="2050920"/>
            <a:ext cx="3158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igned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E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g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2-03-26T17:08:26Z</dcterms:modified>
  <cp:revision>128</cp:revision>
  <dc:subject/>
  <dc:title>Chapter 9 slides, 3rdedition</dc:title>
</cp:coreProperties>
</file>