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8.wmf" ContentType="image/x-wmf"/>
  <Override PartName="/ppt/media/image30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10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F9052-5463-44C5-9A4A-F179E3D23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980DD-6A65-407C-B2D6-AC6DB090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94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EF054-D1A2-4B90-BA17-4E01AD1D0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94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51849-E63B-4704-BAC6-7525E771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94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468-BA90-4497-B0E0-9F776927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E4D-FD77-47E2-B8DD-A37FFB5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214-93C6-4BD9-9020-55536639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FC7-84D2-45FC-B855-BFB5D9EE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EE3-D740-4544-BE44-77A7742F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FEB-6C04-4C5A-A40A-A02A435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EB3-33ED-4CA2-849E-D7485E4B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F0D-399D-4BE0-A736-3EC689F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3D9-06C4-4E53-B178-DE654CEE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A29-C296-464C-8EDA-EEEE8E8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30B-FB9F-4FF1-98F8-9690728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AD1-D0AD-4AF3-99C0-29217FAF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30D9F09-589E-412F-8017-E95DADEE04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2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2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2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5562720" y="645948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3-</a:t>
            </a:r>
            <a:fld id="{610EF981-7B92-4D9E-B5E4-80DDA6E2F81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84800" y="3078000"/>
            <a:ext cx="288144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Gill Sans MT"/>
                <a:ea typeface="Arial"/>
              </a:rPr>
              <a:t>Computer Networking: A Top Down Approach 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6</a:t>
            </a:r>
            <a:r>
              <a:rPr b="0" lang="en-US" sz="2000" spc="-1" strike="noStrike" baseline="30000">
                <a:solidFill>
                  <a:srgbClr val="008000"/>
                </a:solidFill>
                <a:latin typeface="Gill Sans MT"/>
                <a:ea typeface="Arial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 edition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Jim Kurose, Keith Ross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Addison-Wesley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March 20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69720" y="3268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ote on the use of these pp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making these slides freely available to all (faculty, students, readers). The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72960" y="4267080"/>
            <a:ext cx="53784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material copyright 1996-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underline_base"/>
          <p:cNvPicPr/>
          <p:nvPr/>
        </p:nvPicPr>
        <p:blipFill>
          <a:blip r:embed="rId2"/>
          <a:stretch/>
        </p:blipFill>
        <p:spPr>
          <a:xfrm>
            <a:off x="452520" y="2097000"/>
            <a:ext cx="3655800" cy="1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6e_cover.jpg"/>
          <p:cNvPicPr/>
          <p:nvPr/>
        </p:nvPicPr>
        <p:blipFill>
          <a:blip r:embed="rId3"/>
          <a:stretch/>
        </p:blipFill>
        <p:spPr>
          <a:xfrm>
            <a:off x="6232680" y="511200"/>
            <a:ext cx="2306520" cy="2773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-1995480" y="3043080"/>
            <a:ext cx="1843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26AD8D9-0231-4946-A386-513F8018E1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1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1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541680"/>
            <a:ext cx="5845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9C0FE30-66EC-45EF-ABBD-8F2E10C0DF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6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56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>
              <a:gd name="textAreaLeft" fmla="*/ 0 w 144720"/>
              <a:gd name="textAreaRight" fmla="*/ 145080 w 1447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61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613" name="Line 66"/>
            <p:cNvSpPr/>
            <p:nvPr/>
          </p:nvSpPr>
          <p:spPr>
            <a:xfrm flipH="1">
              <a:off x="1736280" y="178308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4" name="Line 67"/>
            <p:cNvSpPr/>
            <p:nvPr/>
          </p:nvSpPr>
          <p:spPr>
            <a:xfrm flipV="1">
              <a:off x="174024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1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>
              <a:gd name="textAreaLeft" fmla="*/ -360 w 144360"/>
              <a:gd name="textAreaRight" fmla="*/ 144360 w 144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1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61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2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2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62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2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62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3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D218D1C-1FEE-4BAD-8B9C-9E94147248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4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64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5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65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66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66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6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66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>
                <a:gd name="textAreaLeft" fmla="*/ 360 w 318240"/>
                <a:gd name="textAreaRight" fmla="*/ 318960 w 318240"/>
                <a:gd name="textAreaTop" fmla="*/ 0 h 275400"/>
                <a:gd name="textAreaBottom" fmla="*/ 275400 h 275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67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7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67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68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68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9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9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E89091D-E5CF-4D9D-B1D9-D2DE96011E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0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7840" indent="-1504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7840" indent="-1504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2840" indent="-222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7840" indent="-1504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7840" indent="-1504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2840" indent="-222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78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EC37432-C69D-401A-B6D8-689082BA06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71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71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CEB3EE2-C3D6-4D38-9F34-356414AE3D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18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719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720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1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2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23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4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725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6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7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28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729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0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31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732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733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4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5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736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7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8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9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40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41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742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3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4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45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6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747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748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9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0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51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2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753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56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757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758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9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0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61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762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3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4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65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1819080"/>
                <a:gd name="textAreaBottom" fmla="*/ 1819440 h 1819080"/>
              </a:gdLst>
              <a:ahLst/>
              <a:rect l="textAreaLeft" t="textAreaTop" r="textAreaRight" b="textAreaBottom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>
                <a:gd name="textAreaLeft" fmla="*/ 0 w 1111320"/>
                <a:gd name="textAreaRight" fmla="*/ 1111320 w 1111320"/>
                <a:gd name="textAreaTop" fmla="*/ 0 h 1668240"/>
                <a:gd name="textAreaBottom" fmla="*/ 1668600 h 1668240"/>
              </a:gdLst>
              <a:ahLst/>
              <a:rect l="textAreaLeft" t="textAreaTop" r="textAreaRight" b="textAreaBottom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67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768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769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72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>
                <a:gd name="textAreaLeft" fmla="*/ -360 w 1174680"/>
                <a:gd name="textAreaRight" fmla="*/ 1174680 w 1174680"/>
                <a:gd name="textAreaTop" fmla="*/ 0 h 1819080"/>
                <a:gd name="textAreaBottom" fmla="*/ 1819440 h 1819080"/>
              </a:gdLst>
              <a:ahLst/>
              <a:rect l="textAreaLeft" t="textAreaTop" r="textAreaRight" b="textAreaBottom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73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774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>
                <a:gd name="textAreaLeft" fmla="*/ 0 w 1111320"/>
                <a:gd name="textAreaRight" fmla="*/ 1111320 w 1111320"/>
                <a:gd name="textAreaTop" fmla="*/ 0 h 1668240"/>
                <a:gd name="textAreaBottom" fmla="*/ 1668600 h 1668240"/>
              </a:gdLst>
              <a:ahLst/>
              <a:rect l="textAreaLeft" t="textAreaTop" r="textAreaRight" b="textAreaBottom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75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776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77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778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9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780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781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782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84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785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6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7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88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89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0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1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2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3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4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95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6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7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8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9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00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801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2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3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04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805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6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7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8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809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810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811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12" name="Rectangle 285"/>
                <p:cNvSpPr/>
                <p:nvPr/>
              </p:nvSpPr>
              <p:spPr>
                <a:xfrm>
                  <a:off x="5576400" y="4049640"/>
                  <a:ext cx="55440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13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14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815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816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17" name="Rectangle 290"/>
                <p:cNvSpPr/>
                <p:nvPr/>
              </p:nvSpPr>
              <p:spPr>
                <a:xfrm>
                  <a:off x="3709800" y="1380960"/>
                  <a:ext cx="55440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18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19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820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821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22" name="Rectangle 295"/>
                <p:cNvSpPr/>
                <p:nvPr/>
              </p:nvSpPr>
              <p:spPr>
                <a:xfrm>
                  <a:off x="7117920" y="1287360"/>
                  <a:ext cx="55440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23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824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47F9DBA-3651-4FD9-B07E-64EB7947AF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7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9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830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831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>
                <a:gd name="textAreaLeft" fmla="*/ 0 w 3938400"/>
                <a:gd name="textAreaRight" fmla="*/ 3938760 w 393840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2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3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4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5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6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7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38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839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40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841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2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3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4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5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6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7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CC8F190-B7A0-44BB-ADC0-02D3ADF5F0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50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853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854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5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56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857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8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9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0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1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>
                  <a:gd name="textAreaLeft" fmla="*/ 0 w 466920"/>
                  <a:gd name="textAreaRight" fmla="*/ 467280 w 4669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2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3715968-4BE6-4A20-8DD6-20AE0DD7EA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5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6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867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8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9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70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871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>
                  <a:gd name="textAreaLeft" fmla="*/ 0 w 604080"/>
                  <a:gd name="textAreaRight" fmla="*/ 604440 w 60408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2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73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4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75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876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7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8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79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880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>
                  <a:gd name="textAreaLeft" fmla="*/ 0 w 604080"/>
                  <a:gd name="textAreaRight" fmla="*/ 604440 w 60408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1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82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3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84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5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6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7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8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9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0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>
              <a:gd name="textAreaLeft" fmla="*/ 0 w 4003560"/>
              <a:gd name="textAreaRight" fmla="*/ 4003560 w 40035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1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2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>
              <a:gd name="textAreaLeft" fmla="*/ 0 w 4044960"/>
              <a:gd name="textAreaRight" fmla="*/ 4045320 w 40449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94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95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6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97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8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99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900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1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E3E45A-1540-48BD-9DEE-DED26717DB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4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7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8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9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0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1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2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3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4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5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6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7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8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9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0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1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2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3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4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5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6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FC6943A-C3EE-4FE5-8FCD-F9EA47DE0F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29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398840" y="1206360"/>
            <a:ext cx="457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-2131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-2131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721D585-F43A-40D3-876C-AB45400AF1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>
              <a:gd name="textAreaLeft" fmla="*/ 0 w 552600"/>
              <a:gd name="textAreaRight" fmla="*/ 552960 w 552600"/>
              <a:gd name="textAreaTop" fmla="*/ 0 h 2082600"/>
              <a:gd name="textAreaBottom" fmla="*/ 2082960 h 2082600"/>
            </a:gdLst>
            <a:ahLst/>
            <a:rect l="textAreaLeft" t="textAreaTop" r="textAreaRight" b="textAreaBottom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>
              <a:gd name="textAreaLeft" fmla="*/ 0 w 460440"/>
              <a:gd name="textAreaRight" fmla="*/ 460800 w 460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>
              <a:gd name="textAreaLeft" fmla="*/ 0 w 505080"/>
              <a:gd name="textAreaRight" fmla="*/ 505440 w 5050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>
                <a:gd name="textAreaLeft" fmla="*/ -360 w 345960"/>
                <a:gd name="textAreaRight" fmla="*/ 345960 w 34596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72480"/>
                <a:gd name="textAreaBottom" fmla="*/ 672840 h 672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4120"/>
                <a:ext cx="1400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52AB1DD-C523-4478-A7E5-56A9B7498C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5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5936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7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4320" indent="-182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4320" indent="-182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4320" indent="-182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4320" indent="-182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720" indent="-2707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4320" indent="-182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4320" indent="-182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8" name="PlaceHolder 3"/>
          <p:cNvSpPr>
            <a:spLocks noGrp="1"/>
          </p:cNvSpPr>
          <p:nvPr>
            <p:ph/>
          </p:nvPr>
        </p:nvSpPr>
        <p:spPr>
          <a:xfrm>
            <a:off x="5495400" y="2389320"/>
            <a:ext cx="33339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CD043DE-65DD-4324-8D26-1AA6C9A5E0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4480" indent="-219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4480" indent="-219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519C8E1-85B6-4E06-8338-FF17D56E82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>
              <a:gd name="textAreaLeft" fmla="*/ 0 w 552240"/>
              <a:gd name="textAreaRight" fmla="*/ 552240 w 552240"/>
              <a:gd name="textAreaTop" fmla="*/ 0 h 2082600"/>
              <a:gd name="textAreaBottom" fmla="*/ 2082960 h 2082600"/>
            </a:gdLst>
            <a:ahLst/>
            <a:rect l="textAreaLeft" t="textAreaTop" r="textAreaRight" b="textAreaBottom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>
              <a:gd name="textAreaLeft" fmla="*/ 0 w 460440"/>
              <a:gd name="textAreaRight" fmla="*/ 460800 w 460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>
              <a:gd name="textAreaLeft" fmla="*/ 0 w 504720"/>
              <a:gd name="textAreaRight" fmla="*/ 504720 w 50472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>
              <a:gd name="textAreaLeft" fmla="*/ 0 w 2695320"/>
              <a:gd name="textAreaRight" fmla="*/ 2695680 w 2695320"/>
              <a:gd name="textAreaTop" fmla="*/ 0 h 2695320"/>
              <a:gd name="textAreaBottom" fmla="*/ 2695680 h 2695320"/>
            </a:gdLst>
            <a:ahLst/>
            <a:rect l="textAreaLeft" t="textAreaTop" r="textAreaRight" b="textAreaBottom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>
              <a:gd name="textAreaLeft" fmla="*/ 0 w 3089520"/>
              <a:gd name="textAreaRight" fmla="*/ 3089880 w 3089520"/>
              <a:gd name="textAreaTop" fmla="*/ 0 h 3252600"/>
              <a:gd name="textAreaBottom" fmla="*/ 3252960 h 3252600"/>
            </a:gdLst>
            <a:ahLst/>
            <a:rect l="textAreaLeft" t="textAreaTop" r="textAreaRight" b="textAreaBottom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>
              <a:gd name="textAreaLeft" fmla="*/ 0 w 1609920"/>
              <a:gd name="textAreaRight" fmla="*/ 1610280 w 160992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760"/>
                <a:ext cx="1400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>
                <a:gd name="textAreaLeft" fmla="*/ 360 w 345600"/>
                <a:gd name="textAreaRight" fmla="*/ 346320 w 34560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64152C8-4A44-4840-9DCC-BB0334273E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>
              <a:gd name="textAreaLeft" fmla="*/ 0 w 552240"/>
              <a:gd name="textAreaRight" fmla="*/ 552240 w 552240"/>
              <a:gd name="textAreaTop" fmla="*/ 0 h 2082600"/>
              <a:gd name="textAreaBottom" fmla="*/ 2082960 h 2082600"/>
            </a:gdLst>
            <a:ahLst/>
            <a:rect l="textAreaLeft" t="textAreaTop" r="textAreaRight" b="textAreaBottom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>
              <a:gd name="textAreaLeft" fmla="*/ 0 w 460440"/>
              <a:gd name="textAreaRight" fmla="*/ 460800 w 460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>
              <a:gd name="textAreaLeft" fmla="*/ 0 w 504720"/>
              <a:gd name="textAreaRight" fmla="*/ 504720 w 50472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>
              <a:gd name="textAreaLeft" fmla="*/ 0 w 2695320"/>
              <a:gd name="textAreaRight" fmla="*/ 2695680 w 2695320"/>
              <a:gd name="textAreaTop" fmla="*/ 0 h 2695320"/>
              <a:gd name="textAreaBottom" fmla="*/ 2695680 h 2695320"/>
            </a:gdLst>
            <a:ahLst/>
            <a:rect l="textAreaLeft" t="textAreaTop" r="textAreaRight" b="textAreaBottom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>
              <a:gd name="textAreaLeft" fmla="*/ 0 w 3089520"/>
              <a:gd name="textAreaRight" fmla="*/ 3089880 w 3089520"/>
              <a:gd name="textAreaTop" fmla="*/ 0 h 3252600"/>
              <a:gd name="textAreaBottom" fmla="*/ 3252960 h 3252600"/>
            </a:gdLst>
            <a:ahLst/>
            <a:rect l="textAreaLeft" t="textAreaTop" r="textAreaRight" b="textAreaBottom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>
              <a:gd name="textAreaLeft" fmla="*/ 0 w 1609920"/>
              <a:gd name="textAreaRight" fmla="*/ 1610280 w 160992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>
                <a:gd name="textAreaLeft" fmla="*/ 360 w 345600"/>
                <a:gd name="textAreaRight" fmla="*/ 346320 w 34560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760"/>
                <a:ext cx="1400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51E773-FC68-4350-AB8C-F0C68CC0E7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2583971-54D1-412E-8A84-F1700F29D6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8CB8AAE-D14A-4157-8A43-E71482D495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03FC27-F3C6-49FF-BDE2-C2E2E93ED7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9400" indent="-20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9400" indent="-20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7DDC4CB-891D-4D8E-A5FD-E446F935DE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>
              <a:gd name="textAreaLeft" fmla="*/ 0 w 6013440"/>
              <a:gd name="textAreaRight" fmla="*/ 6013800 w 6013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C06E618-56EF-47EF-860F-F359B667F2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79A5E9A-927C-4DDB-AA78-3E4A220BE3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4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1F9CD74-305C-468F-A4E6-BCF51DA4A8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7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1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2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4806394-4465-4C7F-BE3F-C5DB9F5F44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6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7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8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59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3AD9AEA-B275-4F0F-A4B7-752538ABFC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4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6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7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BF45269-BAE3-404C-925F-1D1E03CF08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0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2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3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5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6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7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8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9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0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1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2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3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4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5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6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7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8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9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0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1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2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3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4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26F0F67-2782-47EA-9C2E-8F9A2D1E81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8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9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>
              <a:gd name="textAreaLeft" fmla="*/ 0 w 95040"/>
              <a:gd name="textAreaRight" fmla="*/ 95400 w 9504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>
              <a:gd name="textAreaLeft" fmla="*/ -360 w 95400"/>
              <a:gd name="textAreaRight" fmla="*/ 95400 w 95400"/>
              <a:gd name="textAreaTop" fmla="*/ -360 h 580680"/>
              <a:gd name="textAreaBottom" fmla="*/ 580680 h 580680"/>
            </a:gdLst>
            <a:ahLst/>
            <a:rect l="textAreaLeft" t="textAreaTop" r="textAreaRight" b="textAreaBottom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5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6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141728A-DCD8-4EE9-9E2E-D577DD4AA6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1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2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>
              <a:gd name="textAreaLeft" fmla="*/ 0 w 610920"/>
              <a:gd name="textAreaRight" fmla="*/ 611280 w 6109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>
              <a:gd name="textAreaLeft" fmla="*/ 0 w 611280"/>
              <a:gd name="textAreaRight" fmla="*/ 611640 w 61128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8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65DE78B-493F-4C3D-A929-DDD595C3D2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3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4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8AB168A-FAED-4107-B136-7B7A63C62D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0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548BA62-C3E8-4E80-A064-725CB167A5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3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5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0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1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2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4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5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9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0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1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2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754BB53-E991-4CCC-A7A1-888506793F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C13D6B4-A55D-4105-A5D8-EBA0D6962F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0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1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>
              <a:gd name="textAreaLeft" fmla="*/ 0 w 6697800"/>
              <a:gd name="textAreaRight" fmla="*/ 6698160 w 66978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D0AEE80-0DAB-4CC3-8C5B-E34C2FCCB3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1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6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7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8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0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1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3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7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8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9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0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1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2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3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>
              <a:gd name="textAreaLeft" fmla="*/ 0 w 6940440"/>
              <a:gd name="textAreaRight" fmla="*/ 6940800 w 694044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6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7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8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9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2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3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4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5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>
              <a:gd name="textAreaLeft" fmla="*/ 0 w 4378320"/>
              <a:gd name="textAreaRight" fmla="*/ 4378680 w 437832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>
              <a:gd name="textAreaLeft" fmla="*/ 0 w 4073760"/>
              <a:gd name="textAreaRight" fmla="*/ 4073760 w 4073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1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ECFBFB3-26AB-476F-B284-D653743C68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7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8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899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0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C3AD578-B9FD-49B0-B9DE-86307F0FB4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5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>
              <a:gd name="textAreaLeft" fmla="*/ 0 w 952560"/>
              <a:gd name="textAreaRight" fmla="*/ 952920 w 9525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4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5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6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7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>
              <a:gd name="textAreaLeft" fmla="*/ 0 w 1482840"/>
              <a:gd name="textAreaRight" fmla="*/ 1483200 w 148284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>
              <a:gd name="textAreaLeft" fmla="*/ 0 w 466560"/>
              <a:gd name="textAreaRight" fmla="*/ 466920 w 4665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>
              <a:gd name="textAreaLeft" fmla="*/ 0 w 1266840"/>
              <a:gd name="textAreaRight" fmla="*/ 1267200 w 1266840"/>
              <a:gd name="textAreaTop" fmla="*/ 360 h 123840"/>
              <a:gd name="textAreaBottom" fmla="*/ 124560 h 123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>
              <a:gd name="textAreaLeft" fmla="*/ 0 w 1363680"/>
              <a:gd name="textAreaRight" fmla="*/ 1363680 w 1363680"/>
              <a:gd name="textAreaTop" fmla="*/ -360 h 204840"/>
              <a:gd name="textAreaBottom" fmla="*/ 204840 h 204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6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8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39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0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1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225F199-C5B5-4F40-9A35-D807356A5E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5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6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7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8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785880"/>
              <a:gd name="textAreaBottom" fmla="*/ 785880 h 7858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8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>
              <a:gd name="textAreaLeft" fmla="*/ 0 w 839880"/>
              <a:gd name="textAreaRight" fmla="*/ 84024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>
              <a:gd name="textAreaLeft" fmla="*/ 0 w 839880"/>
              <a:gd name="textAreaRight" fmla="*/ 84024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>
              <a:gd name="textAreaLeft" fmla="*/ -360 w 839880"/>
              <a:gd name="textAreaRight" fmla="*/ 83988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>
              <a:gd name="textAreaLeft" fmla="*/ -360 w 839880"/>
              <a:gd name="textAreaRight" fmla="*/ 83988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6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EB6F05E-6B43-4B63-A0C4-F95FA0B47A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4480" indent="-219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3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C909AF0-6C4D-4548-A7AD-F8ADCC3238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6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840" indent="-229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E942FAA-9200-400E-B858-F46C19D9B5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1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3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4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5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6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7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8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>
                <a:gd name="textAreaLeft" fmla="*/ 0 w 1896840"/>
                <a:gd name="textAreaRight" fmla="*/ 1897200 w 1896840"/>
                <a:gd name="textAreaTop" fmla="*/ -360 h 206280"/>
                <a:gd name="textAreaBottom" fmla="*/ 206280 h 206280"/>
              </a:gdLst>
              <a:ahLst/>
              <a:rect l="textAreaLeft" t="textAreaTop" r="textAreaRight" b="textAreaBottom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09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0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1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2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3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4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5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6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7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8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19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0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1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2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>
                  <a:gd name="textAreaLeft" fmla="*/ 0 w 2403360"/>
                  <a:gd name="textAreaRight" fmla="*/ 2403720 w 24033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>
                  <a:gd name="textAreaLeft" fmla="*/ 360 w 490320"/>
                  <a:gd name="textAreaRight" fmla="*/ 491040 w 490320"/>
                  <a:gd name="textAreaTop" fmla="*/ 0 h 1359000"/>
                  <a:gd name="textAreaBottom" fmla="*/ 1359000 h 1359000"/>
                </a:gdLst>
                <a:ahLst/>
                <a:rect l="textAreaLeft" t="textAreaTop" r="textAreaRight" b="textAreaBottom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29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B27A550-66F2-4029-BF64-C94AFD8FAF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4480" indent="-219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4480" indent="-219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5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40C95AB-2EB1-4C81-BF7E-F99805DC5F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9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3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4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5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6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>
              <a:gd name="textAreaLeft" fmla="*/ 0 w 2090520"/>
              <a:gd name="textAreaRight" fmla="*/ 2090880 w 2090520"/>
              <a:gd name="textAreaTop" fmla="*/ 360 h 163440"/>
              <a:gd name="textAreaBottom" fmla="*/ 164160 h 1634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>
              <a:gd name="textAreaLeft" fmla="*/ 0 w 871560"/>
              <a:gd name="textAreaRight" fmla="*/ 871920 w 8715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0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1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2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3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>
              <a:gd name="textAreaLeft" fmla="*/ 0 w 1254240"/>
              <a:gd name="textAreaRight" fmla="*/ 1254600 w 1254240"/>
              <a:gd name="textAreaTop" fmla="*/ -360 h 150840"/>
              <a:gd name="textAreaBottom" fmla="*/ 150840 h 150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>
              <a:gd name="textAreaLeft" fmla="*/ -360 w 1184040"/>
              <a:gd name="textAreaRight" fmla="*/ 1184040 w 1184040"/>
              <a:gd name="textAreaTop" fmla="*/ 360 h 167040"/>
              <a:gd name="textAreaBottom" fmla="*/ 167760 h 1670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>
              <a:gd name="textAreaLeft" fmla="*/ 0 w 461880"/>
              <a:gd name="textAreaRight" fmla="*/ 462240 w 4618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>
              <a:gd name="textAreaLeft" fmla="*/ 0 w 691920"/>
              <a:gd name="textAreaRight" fmla="*/ 691920 w 69192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>
              <a:gd name="textAreaLeft" fmla="*/ 0 w 571680"/>
              <a:gd name="textAreaRight" fmla="*/ 572040 w 571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>
              <a:gd name="textAreaLeft" fmla="*/ 0 w 579240"/>
              <a:gd name="textAreaRight" fmla="*/ 579600 w 57924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8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79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0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1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2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3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4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5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>
              <a:gd name="textAreaLeft" fmla="*/ -360 w 579240"/>
              <a:gd name="textAreaRight" fmla="*/ 579240 w 579240"/>
              <a:gd name="textAreaTop" fmla="*/ 360 h 890640"/>
              <a:gd name="textAreaBottom" fmla="*/ 891360 h 890640"/>
            </a:gdLst>
            <a:ahLst/>
            <a:rect l="textAreaLeft" t="textAreaTop" r="textAreaRight" b="textAreaBottom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2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BB8CD79-0039-4CEF-A9B1-EB6797E762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9560"/>
                  <a:ext cx="89280" cy="2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601240"/>
                  <a:ext cx="89640" cy="2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2800" y="310032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D50B846-90C3-4AEF-8F26-46943ECCDE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8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09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0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1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2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3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4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5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6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7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8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9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0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1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2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3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4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5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6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0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1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2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3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4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5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6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7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8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9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0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1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2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3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4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5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6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7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1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2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3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5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6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7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8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69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0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2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0775146-8F6A-4E37-9D41-BEC639E5E4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6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7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0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1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2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3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6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7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8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9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0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1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2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3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4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5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6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7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8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09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0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1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2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3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4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7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8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9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1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2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3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4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5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7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0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1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2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3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1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2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3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4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5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6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7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8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49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0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2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3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4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5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6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7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8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59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0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4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7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8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9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0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1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2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3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4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5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6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7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8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9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0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1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2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3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4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5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6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7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8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89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0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DE3FA67-74A0-4E25-B417-1097568A70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6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  <a:ea typeface="MS PGothic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MS PGothic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7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9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0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1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2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3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4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5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7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8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9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2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3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35B120-D772-4FB2-AF0B-7828CA924B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7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19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0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2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3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4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5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7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8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234D994-D5A7-4F6C-B0E7-52BDD14A35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1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5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6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7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8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59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0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>
                  <a:gd name="textAreaLeft" fmla="*/ -360 w 221400"/>
                  <a:gd name="textAreaRight" fmla="*/ 221400 w 22140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1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>
              <a:gd name="textAreaLeft" fmla="*/ 0 w 185760"/>
              <a:gd name="textAreaRight" fmla="*/ 186120 w 1857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2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3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4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5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>
                  <a:gd name="textAreaLeft" fmla="*/ -360 w 221400"/>
                  <a:gd name="textAreaRight" fmla="*/ 221400 w 22140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7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8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9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3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4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5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6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7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8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9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0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1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2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3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4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5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6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7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8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9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0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0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1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2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6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7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8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09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0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1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2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3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4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5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6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7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8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9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0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1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2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3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ED411E6-CD4D-478B-96CF-2518509BBB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5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7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8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7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8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9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>
                <a:gd name="textAreaLeft" fmla="*/ 0 w 1326600"/>
                <a:gd name="textAreaRight" fmla="*/ 1326960 w 1326600"/>
                <a:gd name="textAreaTop" fmla="*/ 0 h 585360"/>
                <a:gd name="textAreaBottom" fmla="*/ 585720 h 585360"/>
              </a:gdLst>
              <a:ahLst/>
              <a:rect l="textAreaLeft" t="textAreaTop" r="textAreaRight" b="textAreaBottom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0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1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2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3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4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5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1168560"/>
              <a:gd name="textAreaBottom" fmla="*/ 1168560 h 1168560"/>
            </a:gdLst>
            <a:ahLst/>
            <a:rect l="textAreaLeft" t="textAreaTop" r="textAreaRight" b="textAreaBottom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6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69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0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1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>
                <a:gd name="textAreaLeft" fmla="*/ 0 w 1326600"/>
                <a:gd name="textAreaRight" fmla="*/ 1326960 w 132660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2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3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4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5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6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7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8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9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>
                <a:gd name="textAreaLeft" fmla="*/ 0 w 1326600"/>
                <a:gd name="textAreaRight" fmla="*/ 1326960 w 132660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0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1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2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3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4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5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2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3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9799B6A-4AB1-4093-9063-58EE53DC2E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6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75000"/>
              </a:lnSpc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4480" indent="-219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7DA0C90-90AF-4FCF-93C1-90480920B8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4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5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6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7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9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8B61895-789B-48D1-876D-9B36784482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1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2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3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4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5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>
              <a:gd name="textAreaLeft" fmla="*/ 0 w 393480"/>
              <a:gd name="textAreaRight" fmla="*/ 393840 w 39348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>
              <a:gd name="textAreaLeft" fmla="*/ 0 w 695520"/>
              <a:gd name="textAreaRight" fmla="*/ 695520 w 695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3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EF56DF3-D0C3-4740-94B9-D87548BE83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7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8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>
              <a:gd name="textAreaLeft" fmla="*/ 0 w 828720"/>
              <a:gd name="textAreaRight" fmla="*/ 829080 w 82872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2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45C71DF-8674-4CDC-BF0A-7E8692F806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5578D95-FC5A-4F32-90FD-885A441FF2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6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2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3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6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7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8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0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1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8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89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0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1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2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3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4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5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6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7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8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599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0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1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2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3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4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5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6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7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8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9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0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1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2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3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4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5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6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7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8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19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0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4812692-01EE-43E3-8BC8-DC2217E828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7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1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8DEBEC9-5708-4B13-82A9-164E110A6A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3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4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5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6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E50C06D-BD80-4C8C-8AF8-D3CEC956AB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9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2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3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4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5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6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7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8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49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0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41F7EB2-BF01-4847-B449-96646AF590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3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5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1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2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3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5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6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7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79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0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4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5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6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7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8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9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0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1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2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3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4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5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6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7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8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9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0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1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2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3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4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5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6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7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8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9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0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1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2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3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4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5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6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C1628E-0B5E-4518-8C70-89D548E3E7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5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9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0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1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2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3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4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5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6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7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8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39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0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5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6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7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8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9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6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7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8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9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0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1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2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3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4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5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6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7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8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799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0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1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2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3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4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5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6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7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8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106FFB7-31B3-4421-AB81-30F3FB2FE1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6914A98-101C-49BC-B567-F7F4F490C9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10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10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10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10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0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D4675C8-4009-465A-BA1B-F754F3C8BD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3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5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C9B32CC-A1A1-4D73-8472-1A2C7024BC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9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2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3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4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5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6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1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2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-360 h 1895400"/>
                <a:gd name="textAreaBottom" fmla="*/ 1895400 h 1895400"/>
              </a:gdLst>
              <a:ahLst/>
              <a:rect l="textAreaLeft" t="textAreaTop" r="textAreaRight" b="textAreaBottom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3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4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5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6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7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6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7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8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9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0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1" name="Line 102"/>
            <p:cNvSpPr/>
            <p:nvPr/>
          </p:nvSpPr>
          <p:spPr>
            <a:xfrm flipV="1">
              <a:off x="566928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2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3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4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5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6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7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2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3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307880"/>
                <a:gd name="textAreaBottom" fmla="*/ 1308240 h 1307880"/>
              </a:gdLst>
              <a:ahLst/>
              <a:rect l="textAreaLeft" t="textAreaTop" r="textAreaRight" b="textAreaBottom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00EDEC-F8B3-4EA4-B2EF-28EF3A1D7F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1800"/>
                  <a:ext cx="89280" cy="2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3480"/>
                  <a:ext cx="89640" cy="2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7640" indent="-217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7640" indent="-217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7640" indent="-217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7640" indent="-217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7640" indent="-217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7640" indent="-217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2800" y="298944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F45A6B0-C878-4D03-9451-715FD76842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6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7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8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0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1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5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6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7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8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09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0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8993019-8C28-4EB3-9E9E-2F6671AF03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3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7640" indent="-217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7640" indent="-217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76E9F3F-372C-423F-8D0B-6B28660EBA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19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0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2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3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4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7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3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4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5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3C613B8-DC53-4A5F-846B-71FE667217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-2131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9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0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1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2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3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8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7AB58D1-044F-4A49-A343-54A010820D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6DD281-BA5C-4EBE-8DD6-1194A95C62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0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DEE40FF-4DF2-4193-A032-6FAF625AC0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6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78568D4-6274-4052-9EF7-68AA9B3F7E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9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0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1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3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5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78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79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0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1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2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3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4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5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6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7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8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9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0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1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2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1A862C7-9894-401C-9E40-E980EA0B99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6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8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5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6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7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8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19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0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1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2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3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29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0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1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2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3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4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0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1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2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3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4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5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6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7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8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9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0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1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2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3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4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5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6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8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59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0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1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>
                <a:gd name="textAreaLeft" fmla="*/ -360 w 306360"/>
                <a:gd name="textAreaRight" fmla="*/ 306360 w 3063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2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3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4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5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6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7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>
                <a:gd name="textAreaLeft" fmla="*/ -360 w 306360"/>
                <a:gd name="textAreaRight" fmla="*/ 306360 w 3063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8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69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0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7DBD074-504E-47C5-B4E6-6321BB74F3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4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6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3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4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5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6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7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8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1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2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3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4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5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6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7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8" name="Line 62"/>
              <p:cNvSpPr/>
              <p:nvPr/>
            </p:nvSpPr>
            <p:spPr>
              <a:xfrm flipH="1">
                <a:off x="1086840" y="484920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99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0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1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2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3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4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5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6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7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08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09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0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>
                <a:gd name="textAreaLeft" fmla="*/ -360 w 306360"/>
                <a:gd name="textAreaRight" fmla="*/ 306360 w 3063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1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2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3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A706FE8-9F32-4AAE-8CC0-46909278C4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45162F7-2A8A-47D2-89AC-44308C3AD9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7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9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0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1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2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3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80CA53-6525-4724-9449-9B9965853F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9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9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9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0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1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3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39327B7-F885-4A1C-A87D-5439EBDEE9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6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3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4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5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6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7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58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59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0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1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2" name="Line 55"/>
              <p:cNvSpPr/>
              <p:nvPr/>
            </p:nvSpPr>
            <p:spPr>
              <a:xfrm>
                <a:off x="288108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3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4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5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6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7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68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9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0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1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2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4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5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6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7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79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0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1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>
                <a:gd name="textAreaLeft" fmla="*/ -360 w 306360"/>
                <a:gd name="textAreaRight" fmla="*/ 306360 w 3063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2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3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4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745FCEC-1A53-482D-995B-FBF9E107D4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0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F8E9E9E-7B3F-44F3-BB9B-02D6793A0D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4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>
              <a:gd name="textAreaLeft" fmla="*/ 0 w 581040"/>
              <a:gd name="textAreaRight" fmla="*/ 581400 w 581040"/>
              <a:gd name="textAreaTop" fmla="*/ 0 h 4206960"/>
              <a:gd name="textAreaBottom" fmla="*/ 4207320 h 420696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6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98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299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0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1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3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>
              <a:gd name="textAreaLeft" fmla="*/ 0 w 529920"/>
              <a:gd name="textAreaRight" fmla="*/ 530280 w 529920"/>
              <a:gd name="textAreaTop" fmla="*/ 0 h 2504880"/>
              <a:gd name="textAreaBottom" fmla="*/ 2505240 h 2504880"/>
            </a:gdLst>
            <a:ahLst/>
            <a:rect l="textAreaLeft" t="textAreaTop" r="textAreaRight" b="textAreaBottom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8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09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0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1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3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>
              <a:gd name="textAreaLeft" fmla="*/ 0 w 530280"/>
              <a:gd name="textAreaRight" fmla="*/ 530640 w 53028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4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5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6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7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8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9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0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2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3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4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5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6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7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8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3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4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5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6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7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38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9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0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1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2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3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4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5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82A2B28-9302-4ECD-B5BB-D7DB49AC55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49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0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1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2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3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4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6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7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8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4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5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6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6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4342970-A6CF-433F-A7E6-0D45EB8E11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03864E0-9BB0-4A90-B0B1-740CAF731F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5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6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7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0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1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PGothic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2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3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4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5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7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8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9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>
              <a:gd name="textAreaLeft" fmla="*/ -360 w 468360"/>
              <a:gd name="textAreaRight" fmla="*/ 468360 w 46836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PGothic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08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09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0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1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3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4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5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>
              <a:gd name="textAreaLeft" fmla="*/ 0 w 468360"/>
              <a:gd name="textAreaRight" fmla="*/ 468720 w 46836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2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3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4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5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6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7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8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1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2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3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4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5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6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7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8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9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0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1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2" name="AutoShape 109"/>
              <p:cNvSpPr/>
              <p:nvPr/>
            </p:nvSpPr>
            <p:spPr>
              <a:xfrm>
                <a:off x="8252640" y="5241600"/>
                <a:ext cx="162000" cy="3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3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4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5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6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7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8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9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64D8866-711E-4F81-B85D-02DB076377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0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1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2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3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4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5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0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1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2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3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4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5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6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7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8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1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2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3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4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5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6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7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8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9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0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1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2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3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4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5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6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7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8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9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5597F91-CAC1-4E3A-AA4B-6A306F76AF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0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2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3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4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5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6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7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58880"/>
                <a:gd name="textAreaBottom" fmla="*/ 2559240 h 2558880"/>
              </a:gdLst>
              <a:ahLst/>
              <a:rect l="textAreaLeft" t="textAreaTop" r="textAreaRight" b="textAreaBottom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8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0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1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2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3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4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5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6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7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9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0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1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59240"/>
                <a:gd name="textAreaBottom" fmla="*/ 2559240 h 2559240"/>
              </a:gdLst>
              <a:ahLst/>
              <a:rect l="textAreaLeft" t="textAreaTop" r="textAreaRight" b="textAreaBottom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2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1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2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3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4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2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3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4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5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6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7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>
                  <a:gd name="textAreaLeft" fmla="*/ 360 w 301680"/>
                  <a:gd name="textAreaRight" fmla="*/ 302400 w 30168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8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79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0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1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4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5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6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7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8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89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0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1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2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3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4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5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6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7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598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9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0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1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>
                  <a:gd name="textAreaLeft" fmla="*/ 0 w 55800"/>
                  <a:gd name="textAreaRight" fmla="*/ 55800 w 558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2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1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2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3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4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5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6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7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28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9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0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3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4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5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6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7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38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9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>
                  <a:gd name="textAreaLeft" fmla="*/ 360 w 301680"/>
                  <a:gd name="textAreaRight" fmla="*/ 302400 w 3016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0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1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2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3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6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7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48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49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0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1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2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3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4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5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6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7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8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9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0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1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2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3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>
                  <a:gd name="textAreaLeft" fmla="*/ 0 w 55800"/>
                  <a:gd name="textAreaRight" fmla="*/ 55800 w 558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4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D395EA4-A061-461C-A05C-705AAC01E1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>
              <a:gd name="textAreaLeft" fmla="*/ 0 w 552600"/>
              <a:gd name="textAreaRight" fmla="*/ 552960 w 552600"/>
              <a:gd name="textAreaTop" fmla="*/ 0 h 2082960"/>
              <a:gd name="textAreaBottom" fmla="*/ 2083320 h 2082960"/>
            </a:gdLst>
            <a:ahLst/>
            <a:rect l="textAreaLeft" t="textAreaTop" r="textAreaRight" b="textAreaBottom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5924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1896840"/>
              <a:gd name="textAreaBottom" fmla="*/ 1897200 h 1896840"/>
            </a:gdLst>
            <a:ahLst/>
            <a:rect l="textAreaLeft" t="textAreaTop" r="textAreaRight" b="textAreaBottom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>
              <a:gd name="textAreaLeft" fmla="*/ 0 w 581040"/>
              <a:gd name="textAreaRight" fmla="*/ 581400 w 581040"/>
              <a:gd name="textAreaTop" fmla="*/ 0 h 2038320"/>
              <a:gd name="textAreaBottom" fmla="*/ 2038320 h 203832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>
              <a:gd name="textAreaLeft" fmla="*/ 0 w 552240"/>
              <a:gd name="textAreaRight" fmla="*/ 552240 w 552240"/>
              <a:gd name="textAreaTop" fmla="*/ 0 h 2082960"/>
              <a:gd name="textAreaBottom" fmla="*/ 2083320 h 2082960"/>
            </a:gdLst>
            <a:ahLst/>
            <a:rect l="textAreaLeft" t="textAreaTop" r="textAreaRight" b="textAreaBottom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>
              <a:gd name="textAreaLeft" fmla="*/ 0 w 2172960"/>
              <a:gd name="textAreaRight" fmla="*/ 2173320 w 217296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1876680"/>
              <a:gd name="textAreaBottom" fmla="*/ 1876680 h 1876680"/>
            </a:gdLst>
            <a:ahLst/>
            <a:rect l="textAreaLeft" t="textAreaTop" r="textAreaRight" b="textAreaBottom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>
                <a:gd name="textAreaLeft" fmla="*/ 0 w 929880"/>
                <a:gd name="textAreaRight" fmla="*/ 930240 w 92988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>
                <a:gd name="textAreaLeft" fmla="*/ 360 w 388800"/>
                <a:gd name="textAreaRight" fmla="*/ 389520 w 38880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358200"/>
                <a:gd name="textAreaBottom" fmla="*/ 358200 h 358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6280"/>
                <a:ext cx="1400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35E08D6-190F-41C7-BBEB-83A0F02D50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5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7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8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79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0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1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3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4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5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6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7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8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0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1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2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3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6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7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8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9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0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1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2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3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4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5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6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7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8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9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1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2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3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>
                  <a:gd name="textAreaLeft" fmla="*/ 0 w 312480"/>
                  <a:gd name="textAreaRight" fmla="*/ 312480 w 3124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4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5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6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7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0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1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2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3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4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5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6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7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8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9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0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1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2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3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4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5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6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7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>
                  <a:gd name="textAreaLeft" fmla="*/ 0 w 55800"/>
                  <a:gd name="textAreaRight" fmla="*/ 55800 w 558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8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0E153DC-2CD9-490C-8EF0-4F6B30B2CE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0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1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2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3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4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5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6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7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8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9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0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1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2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3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4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5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6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7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8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69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0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1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2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3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>
              <a:gd name="textAreaLeft" fmla="*/ 0 w 914400"/>
              <a:gd name="textAreaRight" fmla="*/ 914760 w 9144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>
              <a:gd name="textAreaLeft" fmla="*/ 0 w 1579680"/>
              <a:gd name="textAreaRight" fmla="*/ 1580040 w 1579680"/>
              <a:gd name="textAreaTop" fmla="*/ -360 h 373320"/>
              <a:gd name="textAreaBottom" fmla="*/ 373320 h 373320"/>
            </a:gdLst>
            <a:ahLst/>
            <a:rect l="textAreaLeft" t="textAreaTop" r="textAreaRight" b="textAreaBottom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>
              <a:gd name="textAreaLeft" fmla="*/ 360 w 947520"/>
              <a:gd name="textAreaRight" fmla="*/ 948240 w 947520"/>
              <a:gd name="textAreaTop" fmla="*/ 360 h 372960"/>
              <a:gd name="textAreaBottom" fmla="*/ 373680 h 372960"/>
            </a:gdLst>
            <a:ahLst/>
            <a:rect l="textAreaLeft" t="textAreaTop" r="textAreaRight" b="textAreaBottom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6AD7FBD-C510-44E1-AF27-FE001B53D0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3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81D1F15-A7E4-4E76-9DD1-1F32F25929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8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9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0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1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2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3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4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5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6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7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08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9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0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1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2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3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4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5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6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7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8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1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2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3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4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5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6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7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8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9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0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1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2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3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4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5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0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1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2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3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4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5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6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9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0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1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3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4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5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>
                <a:gd name="textAreaLeft" fmla="*/ 0 w 312480"/>
                <a:gd name="textAreaRight" fmla="*/ 312480 w 3124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6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7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8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9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2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3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4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5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6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7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8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9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0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1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2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3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4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5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6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7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8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9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0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521EC22-404F-4C4D-8558-825B76BA1A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9BB51B-193F-4A96-93CE-4EE318811F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7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8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899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9D3C707-593B-4178-8E73-A7E0265424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2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3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4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5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6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7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>
              <a:gd name="textAreaLeft" fmla="*/ 0 w 250560"/>
              <a:gd name="textAreaRight" fmla="*/ 250920 w 25056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8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>
              <a:gd name="textAreaLeft" fmla="*/ 0 w 250920"/>
              <a:gd name="textAreaRight" fmla="*/ 251280 w 25092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9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>
              <a:gd name="textAreaLeft" fmla="*/ 360 w 250560"/>
              <a:gd name="textAreaRight" fmla="*/ 251280 w 25056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1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2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3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4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5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19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0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1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2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3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4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5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6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7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8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9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0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1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2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3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7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8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9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0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1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2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3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7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8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9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2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3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4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5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59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0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1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2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6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7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8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2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3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4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5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4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5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6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7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8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9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2"/>
            <p:cNvSpPr/>
            <p:nvPr/>
          </p:nvSpPr>
          <p:spPr>
            <a:xfrm rot="16200000">
              <a:off x="165060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8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3999" name="Line 109"/>
            <p:cNvSpPr/>
            <p:nvPr/>
          </p:nvSpPr>
          <p:spPr>
            <a:xfrm>
              <a:off x="578988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0" name="Line 110"/>
            <p:cNvSpPr/>
            <p:nvPr/>
          </p:nvSpPr>
          <p:spPr>
            <a:xfrm flipV="1">
              <a:off x="5780160" y="5439960"/>
              <a:ext cx="14648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1" name="Line 111"/>
            <p:cNvSpPr/>
            <p:nvPr/>
          </p:nvSpPr>
          <p:spPr>
            <a:xfrm>
              <a:off x="692424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Freeform 112"/>
            <p:cNvSpPr/>
            <p:nvPr/>
          </p:nvSpPr>
          <p:spPr>
            <a:xfrm>
              <a:off x="5783400" y="4000680"/>
              <a:ext cx="1148400" cy="1436400"/>
            </a:xfrm>
            <a:custGeom>
              <a:avLst/>
              <a:gdLst>
                <a:gd name="textAreaLeft" fmla="*/ 0 w 1148400"/>
                <a:gd name="textAreaRight" fmla="*/ 1148760 w 1148400"/>
                <a:gd name="textAreaTop" fmla="*/ 0 h 1436400"/>
                <a:gd name="textAreaBottom" fmla="*/ 1436760 h 1436400"/>
              </a:gdLst>
              <a:ahLst/>
              <a:rect l="textAreaLeft" t="textAreaTop" r="textAreaRight" b="textAreaBottom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4"/>
            <p:cNvSpPr/>
            <p:nvPr/>
          </p:nvSpPr>
          <p:spPr>
            <a:xfrm>
              <a:off x="692100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Text Box 116"/>
            <p:cNvSpPr/>
            <p:nvPr/>
          </p:nvSpPr>
          <p:spPr>
            <a:xfrm>
              <a:off x="671076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Text Box 117"/>
            <p:cNvSpPr/>
            <p:nvPr/>
          </p:nvSpPr>
          <p:spPr>
            <a:xfrm rot="16200000">
              <a:off x="5177880" y="46929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8"/>
            <p:cNvSpPr/>
            <p:nvPr/>
          </p:nvSpPr>
          <p:spPr>
            <a:xfrm>
              <a:off x="619632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7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08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09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0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1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4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5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6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7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8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19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0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1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2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3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4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5" name="AutoShape 144"/>
              <p:cNvSpPr/>
              <p:nvPr/>
            </p:nvSpPr>
            <p:spPr>
              <a:xfrm>
                <a:off x="8791200" y="2653920"/>
                <a:ext cx="910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6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7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28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9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0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1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2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1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2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3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4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5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6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7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0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1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2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3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4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5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6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7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8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9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0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1" name="AutoShape 180"/>
              <p:cNvSpPr/>
              <p:nvPr/>
            </p:nvSpPr>
            <p:spPr>
              <a:xfrm>
                <a:off x="8474040" y="36190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2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3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4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5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6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7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8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8FFA094-BA26-4076-8A06-1CB191E3AE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9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2040"/>
              <a:gd name="textAreaBottom" fmla="*/ 1202400 h 12020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0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1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2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3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4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5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6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8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2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3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4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5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6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7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8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2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3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4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5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09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0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1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2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3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4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5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9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0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1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5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6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7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8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2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3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4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5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39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0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1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3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4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5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6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1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2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>
              <a:gd name="textAreaLeft" fmla="*/ 0 w 4854600"/>
              <a:gd name="textAreaRight" fmla="*/ 4854960 w 485460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3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>
              <a:gd name="textAreaLeft" fmla="*/ 0 w 4210200"/>
              <a:gd name="textAreaRight" fmla="*/ 4210560 w 421020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0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1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2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3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4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5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6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7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8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9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2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3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4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5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6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7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8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9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0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1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2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3" name="AutoShape 273"/>
              <p:cNvSpPr/>
              <p:nvPr/>
            </p:nvSpPr>
            <p:spPr>
              <a:xfrm>
                <a:off x="7651440" y="4787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4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5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6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7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8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9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0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99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0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1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2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5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6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7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08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9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0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1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2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3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4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5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6" name="AutoShape 306"/>
              <p:cNvSpPr/>
              <p:nvPr/>
            </p:nvSpPr>
            <p:spPr>
              <a:xfrm>
                <a:off x="7234200" y="60908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7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8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19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0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1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2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3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2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3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4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8C6A328-730A-41DD-8247-AB622906E8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7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2040"/>
              <a:gd name="textAreaBottom" fmla="*/ 1202400 h 12020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38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39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0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1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2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3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5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7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1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2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3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4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5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6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7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1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2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3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4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68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9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0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1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2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3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7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8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9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2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3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4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5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89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0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1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2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6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7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8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0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1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2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3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08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9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>
              <a:gd name="textAreaLeft" fmla="*/ 0 w 4854600"/>
              <a:gd name="textAreaRight" fmla="*/ 4854960 w 485460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0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>
              <a:gd name="textAreaLeft" fmla="*/ 0 w 4210200"/>
              <a:gd name="textAreaRight" fmla="*/ 4210560 w 421020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0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1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2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3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6"/>
            <p:cNvSpPr/>
            <p:nvPr/>
          </p:nvSpPr>
          <p:spPr>
            <a:xfrm rot="16200000">
              <a:off x="4988880" y="177048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2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3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4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5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6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7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8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9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2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3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4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5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6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7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8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9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0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1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2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3" name="AutoShape 327"/>
              <p:cNvSpPr/>
              <p:nvPr/>
            </p:nvSpPr>
            <p:spPr>
              <a:xfrm>
                <a:off x="7651440" y="4787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4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5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6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7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8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9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0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69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0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1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2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5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6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7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78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9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0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1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2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3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4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5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6" name="AutoShape 360"/>
              <p:cNvSpPr/>
              <p:nvPr/>
            </p:nvSpPr>
            <p:spPr>
              <a:xfrm>
                <a:off x="7234200" y="60908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7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8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89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0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1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2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3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2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3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4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438980C-0486-4DB2-B0E2-593CD49F62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7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2040"/>
              <a:gd name="textAreaBottom" fmla="*/ 1202400 h 12020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08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09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0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1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2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3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4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8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19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0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1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2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3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4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7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28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9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0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4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5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6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7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8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9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3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4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5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48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49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0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1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5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6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7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8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2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3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4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5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6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7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8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3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4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>
              <a:gd name="textAreaLeft" fmla="*/ 0 w 4854600"/>
              <a:gd name="textAreaRight" fmla="*/ 4854960 w 485460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5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>
              <a:gd name="textAreaLeft" fmla="*/ 0 w 4210200"/>
              <a:gd name="textAreaRight" fmla="*/ 4210560 w 421020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6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7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88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9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0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3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4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5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6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99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0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1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2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3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4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5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6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7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8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09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0" name="AutoShape 276"/>
              <p:cNvSpPr/>
              <p:nvPr/>
            </p:nvSpPr>
            <p:spPr>
              <a:xfrm>
                <a:off x="7651440" y="4787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1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2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3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4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5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6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7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6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7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8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9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2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3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4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5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6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7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8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9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0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1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2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3" name="AutoShape 309"/>
              <p:cNvSpPr/>
              <p:nvPr/>
            </p:nvSpPr>
            <p:spPr>
              <a:xfrm>
                <a:off x="7234200" y="60908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4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5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6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7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8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9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0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9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0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40096C3-6707-4907-BEE4-11456CEB22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169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169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169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200" indent="-250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5738E33-CFCB-4789-A626-D3C4B674E1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4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2040"/>
              <a:gd name="textAreaBottom" fmla="*/ 1202400 h 12020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5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6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7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68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69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0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1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5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6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7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8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79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0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1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4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5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6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7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1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2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3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4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5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6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0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1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2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5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6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7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8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2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3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4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5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19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0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1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2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3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4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5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0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1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>
              <a:gd name="textAreaLeft" fmla="*/ 0 w 4854600"/>
              <a:gd name="textAreaRight" fmla="*/ 4854960 w 485460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2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>
              <a:gd name="textAreaLeft" fmla="*/ 0 w 4210200"/>
              <a:gd name="textAreaRight" fmla="*/ 4210560 w 421020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1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4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5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6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7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>
                <a:gd name="textAreaLeft" fmla="*/ 0 w 2597040"/>
                <a:gd name="textAreaRight" fmla="*/ 2597400 w 259704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2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3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4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5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6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7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1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2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3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6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7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8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9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2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3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4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5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6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7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8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9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0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1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2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3" name="AutoShape 298"/>
              <p:cNvSpPr/>
              <p:nvPr/>
            </p:nvSpPr>
            <p:spPr>
              <a:xfrm>
                <a:off x="7651440" y="4787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4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5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6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7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8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9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0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99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0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1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2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5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6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7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08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9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0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1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2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3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4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5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6" name="AutoShape 331"/>
              <p:cNvSpPr/>
              <p:nvPr/>
            </p:nvSpPr>
            <p:spPr>
              <a:xfrm>
                <a:off x="7234200" y="60908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7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8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19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0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1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2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3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2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3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4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A2D85AC-4F9B-44AD-BFEA-D6E2862ABB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7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2040"/>
              <a:gd name="textAreaBottom" fmla="*/ 1202400 h 12020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38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39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0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1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2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3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7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48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9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0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1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2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3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6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7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8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9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3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4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5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6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7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8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9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3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4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5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78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79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0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1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5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6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7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8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2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3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4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5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6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7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8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3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4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>
              <a:gd name="textAreaLeft" fmla="*/ 0 w 4854600"/>
              <a:gd name="textAreaRight" fmla="*/ 4854960 w 485460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5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>
              <a:gd name="textAreaLeft" fmla="*/ 0 w 4210200"/>
              <a:gd name="textAreaRight" fmla="*/ 4210560 w 421020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5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6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7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8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9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0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1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2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3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6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7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8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29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0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1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2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3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4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6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>
              <a:gd name="textAreaLeft" fmla="*/ 0 w 2535120"/>
              <a:gd name="textAreaRight" fmla="*/ 2535480 w 2535120"/>
              <a:gd name="textAreaTop" fmla="*/ 0 h 1382400"/>
              <a:gd name="textAreaBottom" fmla="*/ 1382400 h 1382400"/>
            </a:gdLst>
            <a:ahLst/>
            <a:rect l="textAreaLeft" t="textAreaTop" r="textAreaRight" b="textAreaBottom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7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8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2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4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5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6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7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0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1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2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3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4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5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6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7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8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9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0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1" name="AutoShape 305"/>
              <p:cNvSpPr/>
              <p:nvPr/>
            </p:nvSpPr>
            <p:spPr>
              <a:xfrm>
                <a:off x="7651440" y="4787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2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3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4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5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6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7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8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7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78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9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0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3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4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5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6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7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88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9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0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1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2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3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4" name="AutoShape 338"/>
              <p:cNvSpPr/>
              <p:nvPr/>
            </p:nvSpPr>
            <p:spPr>
              <a:xfrm>
                <a:off x="7234200" y="60908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5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6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7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8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9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0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1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0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1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2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A1E96B0-C0B9-4721-BDDA-9D262CAEBD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5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0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1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2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3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5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>
              <a:gd name="textAreaLeft" fmla="*/ 0 w 2535120"/>
              <a:gd name="textAreaRight" fmla="*/ 2535480 w 2535120"/>
              <a:gd name="textAreaTop" fmla="*/ 0 h 1382400"/>
              <a:gd name="textAreaBottom" fmla="*/ 1382400 h 1382400"/>
            </a:gdLst>
            <a:ahLst/>
            <a:rect l="textAreaLeft" t="textAreaTop" r="textAreaRight" b="textAreaBottom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6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7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9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0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1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2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4" name="Rectangle 273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434BD67-6E11-43AD-99D3-0FEDD8CF1C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7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>
              <a:gd name="textAreaLeft" fmla="*/ -360 w 236520"/>
              <a:gd name="textAreaRight" fmla="*/ 236520 w 236520"/>
              <a:gd name="textAreaTop" fmla="*/ 0 h 1014120"/>
              <a:gd name="textAreaBottom" fmla="*/ 1014480 h 101412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>
              <a:gd name="textAreaLeft" fmla="*/ -360 w 236520"/>
              <a:gd name="textAreaRight" fmla="*/ 236520 w 236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>
              <a:gd name="textAreaLeft" fmla="*/ 0 w 236520"/>
              <a:gd name="textAreaRight" fmla="*/ 236880 w 236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>
              <a:gd name="textAreaLeft" fmla="*/ 0 w 236520"/>
              <a:gd name="textAreaRight" fmla="*/ 236880 w 236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2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4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6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7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8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9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3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4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5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6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7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8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2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3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4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>
              <a:gd name="textAreaLeft" fmla="*/ 0 w 519120"/>
              <a:gd name="textAreaRight" fmla="*/ 519480 w 519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>
              <a:gd name="textAreaLeft" fmla="*/ 0 w 382680"/>
              <a:gd name="textAreaRight" fmla="*/ 383040 w 382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>
              <a:gd name="textAreaLeft" fmla="*/ 0 w 163440"/>
              <a:gd name="textAreaRight" fmla="*/ 163800 w 163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>
              <a:gd name="textAreaLeft" fmla="*/ 0 w 107640"/>
              <a:gd name="textAreaRight" fmla="*/ 108000 w 1076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>
              <a:gd name="textAreaLeft" fmla="*/ 0 w 642960"/>
              <a:gd name="textAreaRight" fmla="*/ 643320 w 642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>
              <a:gd name="textAreaLeft" fmla="*/ 0 w 122400"/>
              <a:gd name="textAreaRight" fmla="*/ 122760 w 12240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>
              <a:gd name="textAreaLeft" fmla="*/ 0 w 104760"/>
              <a:gd name="textAreaRight" fmla="*/ 105120 w 1047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>
              <a:gd name="textAreaLeft" fmla="*/ 0 w 87120"/>
              <a:gd name="textAreaRight" fmla="*/ 87480 w 871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>
              <a:gd name="textAreaLeft" fmla="*/ 0 w 71280"/>
              <a:gd name="textAreaRight" fmla="*/ 71280 w 7128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>
              <a:gd name="textAreaLeft" fmla="*/ 0 w 52560"/>
              <a:gd name="textAreaRight" fmla="*/ 52920 w 525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>
              <a:gd name="textAreaLeft" fmla="*/ 0 w 34920"/>
              <a:gd name="textAreaRight" fmla="*/ 35280 w 34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>
              <a:gd name="textAreaLeft" fmla="*/ 0 w 76320"/>
              <a:gd name="textAreaRight" fmla="*/ 76680 w 763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>
              <a:gd name="textAreaLeft" fmla="*/ 0 w 103320"/>
              <a:gd name="textAreaRight" fmla="*/ 103680 w 1033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>
              <a:gd name="textAreaLeft" fmla="*/ 0 w 66600"/>
              <a:gd name="textAreaRight" fmla="*/ 66960 w 6660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>
              <a:gd name="textAreaLeft" fmla="*/ 0 w 55440"/>
              <a:gd name="textAreaRight" fmla="*/ 55800 w 554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>
              <a:gd name="textAreaLeft" fmla="*/ 0 w 47880"/>
              <a:gd name="textAreaRight" fmla="*/ 48240 w 478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>
              <a:gd name="textAreaLeft" fmla="*/ 0 w 36720"/>
              <a:gd name="textAreaRight" fmla="*/ 36720 w 367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>
              <a:gd name="textAreaLeft" fmla="*/ 0 w 27000"/>
              <a:gd name="textAreaRight" fmla="*/ 27360 w 27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>
              <a:gd name="textAreaLeft" fmla="*/ 0 w 90360"/>
              <a:gd name="textAreaRight" fmla="*/ 90360 w 903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>
              <a:gd name="textAreaLeft" fmla="*/ 0 w 75960"/>
              <a:gd name="textAreaRight" fmla="*/ 76320 w 75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>
              <a:gd name="textAreaLeft" fmla="*/ 0 w 63360"/>
              <a:gd name="textAreaRight" fmla="*/ 63720 w 63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>
              <a:gd name="textAreaLeft" fmla="*/ 0 w 50760"/>
              <a:gd name="textAreaRight" fmla="*/ 51120 w 50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>
              <a:gd name="textAreaLeft" fmla="*/ 0 w 36360"/>
              <a:gd name="textAreaRight" fmla="*/ 36720 w 36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>
              <a:gd name="textAreaLeft" fmla="*/ 0 w 181080"/>
              <a:gd name="textAreaRight" fmla="*/ 181440 w 1810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>
              <a:gd name="textAreaLeft" fmla="*/ 0 w 149040"/>
              <a:gd name="textAreaRight" fmla="*/ 149400 w 149040"/>
              <a:gd name="textAreaTop" fmla="*/ 0 h 39960"/>
              <a:gd name="textAreaBottom" fmla="*/ 39960 h 39960"/>
            </a:gdLst>
            <a:ahLst/>
            <a:rect l="textAreaLeft" t="textAreaTop" r="textAreaRight" b="textAreaBottom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>
              <a:gd name="textAreaLeft" fmla="*/ 0 w 149040"/>
              <a:gd name="textAreaRight" fmla="*/ 149400 w 1490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>
              <a:gd name="textAreaLeft" fmla="*/ 0 w 241200"/>
              <a:gd name="textAreaRight" fmla="*/ 241560 w 2412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>
              <a:gd name="textAreaLeft" fmla="*/ 0 w 522360"/>
              <a:gd name="textAreaRight" fmla="*/ 522720 w 52236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>
              <a:gd name="textAreaLeft" fmla="*/ 0 w 530280"/>
              <a:gd name="textAreaRight" fmla="*/ 530640 w 53028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>
              <a:gd name="textAreaLeft" fmla="*/ 0 w 525240"/>
              <a:gd name="textAreaRight" fmla="*/ 525600 w 5252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>
              <a:gd name="textAreaLeft" fmla="*/ 0 w 527040"/>
              <a:gd name="textAreaRight" fmla="*/ 527400 w 52704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4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5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6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7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1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2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3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4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18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9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0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2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3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4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5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29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0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1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2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3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4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5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6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7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38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9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0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5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6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7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8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9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0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1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6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7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8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9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0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1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2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3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4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5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6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7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2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3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4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>
              <a:gd name="textAreaLeft" fmla="*/ 0 w 3305160"/>
              <a:gd name="textAreaRight" fmla="*/ 3305520 w 330516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1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2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3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4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5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6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7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8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9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0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1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2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7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8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9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3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4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5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6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7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08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9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0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1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2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3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4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5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0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>
              <a:gd name="textAreaLeft" fmla="*/ 0 w 5067360"/>
              <a:gd name="textAreaRight" fmla="*/ 5067720 w 5067360"/>
              <a:gd name="textAreaTop" fmla="*/ 0 h 2933640"/>
              <a:gd name="textAreaBottom" fmla="*/ 2934000 h 2933640"/>
            </a:gdLst>
            <a:ahLst/>
            <a:rect l="textAreaLeft" t="textAreaTop" r="textAreaRight" b="textAreaBottom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1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>
              <a:gd name="textAreaLeft" fmla="*/ 0 w 5743440"/>
              <a:gd name="textAreaRight" fmla="*/ 5743800 w 5743440"/>
              <a:gd name="textAreaTop" fmla="*/ 0 h 2886120"/>
              <a:gd name="textAreaBottom" fmla="*/ 2886480 h 2886120"/>
            </a:gdLst>
            <a:ahLst/>
            <a:rect l="textAreaLeft" t="textAreaTop" r="textAreaRight" b="textAreaBottom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2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>
              <a:gd name="textAreaLeft" fmla="*/ 0 w 5790960"/>
              <a:gd name="textAreaRight" fmla="*/ 5791320 w 579096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3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4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5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6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7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8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9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0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1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2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3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4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5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6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1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2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3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4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7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48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9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0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1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2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3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4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5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6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7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8" name="AutoShape 375"/>
              <p:cNvSpPr/>
              <p:nvPr/>
            </p:nvSpPr>
            <p:spPr>
              <a:xfrm>
                <a:off x="7527600" y="4370040"/>
                <a:ext cx="910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9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0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1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2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3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4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5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4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5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6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7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0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1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2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3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4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5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6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7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8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9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0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1" name="AutoShape 408"/>
              <p:cNvSpPr/>
              <p:nvPr/>
            </p:nvSpPr>
            <p:spPr>
              <a:xfrm>
                <a:off x="7048440" y="6227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2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3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4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5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6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7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8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7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08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9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0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3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4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5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6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7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18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9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0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1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2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3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4" name="AutoShape 441"/>
              <p:cNvSpPr/>
              <p:nvPr/>
            </p:nvSpPr>
            <p:spPr>
              <a:xfrm>
                <a:off x="495000" y="60638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5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6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7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8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9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0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1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0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1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2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3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6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7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8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49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0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1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2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3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4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5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6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7" name="AutoShape 474"/>
              <p:cNvSpPr/>
              <p:nvPr/>
            </p:nvSpPr>
            <p:spPr>
              <a:xfrm>
                <a:off x="2509560" y="40590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8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9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0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1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2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3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4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E9C25D7-4D07-44C0-AA74-2DB8A289D5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5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79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0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1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2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6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7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88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9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0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4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5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6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98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299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0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1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5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6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7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8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2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3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4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5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19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0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1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2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3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4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5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6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7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28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9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0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5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6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7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8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39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0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1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5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6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7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8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49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0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1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2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3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4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5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6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1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2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3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>
              <a:gd name="textAreaLeft" fmla="*/ 0 w 1442880"/>
              <a:gd name="textAreaRight" fmla="*/ 1443240 w 144288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0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1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2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3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4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5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6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7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8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79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0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1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6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7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8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2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3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4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5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6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7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8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9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0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1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2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3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4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9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>
              <a:gd name="textAreaLeft" fmla="*/ 0 w 2212920"/>
              <a:gd name="textAreaRight" fmla="*/ 2213280 w 22129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0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>
              <a:gd name="textAreaLeft" fmla="*/ 0 w 2508120"/>
              <a:gd name="textAreaRight" fmla="*/ 2508480 w 250812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1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>
              <a:gd name="textAreaLeft" fmla="*/ 0 w 2530440"/>
              <a:gd name="textAreaRight" fmla="*/ 2530800 w 253044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2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3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4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5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6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7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8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19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0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1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3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4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5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>
              <a:gd name="textAreaLeft" fmla="*/ 0 w 2489040"/>
              <a:gd name="textAreaRight" fmla="*/ 2489400 w 24890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75CFD2B-569F-4073-846B-24B6B36132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476280" y="2725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pproaches towards congestion control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5" name="Rectangle 5"/>
          <p:cNvSpPr/>
          <p:nvPr/>
        </p:nvSpPr>
        <p:spPr>
          <a:xfrm>
            <a:off x="542880" y="1504800"/>
            <a:ext cx="8155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broad approaches towards congestion cont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36" name="Picture 7" descr="underline_base"/>
          <p:cNvPicPr/>
          <p:nvPr/>
        </p:nvPicPr>
        <p:blipFill>
          <a:blip r:embed="rId1"/>
          <a:stretch/>
        </p:blipFill>
        <p:spPr>
          <a:xfrm>
            <a:off x="452520" y="9190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437" name="Rectangle 8"/>
          <p:cNvSpPr/>
          <p:nvPr/>
        </p:nvSpPr>
        <p:spPr>
          <a:xfrm>
            <a:off x="507960" y="2786040"/>
            <a:ext cx="3487680" cy="3251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8" name="Rectangle 9"/>
          <p:cNvSpPr/>
          <p:nvPr/>
        </p:nvSpPr>
        <p:spPr>
          <a:xfrm>
            <a:off x="768240" y="2529000"/>
            <a:ext cx="297972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723960" y="2390400"/>
            <a:ext cx="3295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end-en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0" name="Rectangle 10"/>
          <p:cNvSpPr/>
          <p:nvPr/>
        </p:nvSpPr>
        <p:spPr>
          <a:xfrm>
            <a:off x="4678200" y="2814480"/>
            <a:ext cx="3691080" cy="32515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Rectangle 11"/>
          <p:cNvSpPr/>
          <p:nvPr/>
        </p:nvSpPr>
        <p:spPr>
          <a:xfrm>
            <a:off x="4865760" y="2550960"/>
            <a:ext cx="309240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4786200" y="2392200"/>
            <a:ext cx="3549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1080" indent="-271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2960" indent="-172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bit indicating congestion (SNA, DECbit, TCP/IP ECN, AT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2960" indent="-172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licit rate for sender to send 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BC20880-2A9D-40C2-B6EC-6848F1407C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299520" y="172800"/>
            <a:ext cx="819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se study: ATM ABR congestion control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BR: available bit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servic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n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ath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load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hould use available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n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path congested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hrottled to minimum guaranteed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38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M (resource management) cel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t by sender, interspersed with data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ts in RM cell set by switch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etwork-assisted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I bi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no increase in rate (mild conges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I bi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gestion ind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M cells returned to sender by receiver, with bits int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9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48" name="Picture 5" descr="underline_base"/>
          <p:cNvPicPr/>
          <p:nvPr/>
        </p:nvPicPr>
        <p:blipFill>
          <a:blip r:embed="rId1"/>
          <a:stretch/>
        </p:blipFill>
        <p:spPr>
          <a:xfrm>
            <a:off x="452520" y="91908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1AE4E86-96A5-4818-B134-871296E97E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1" name="Picture 112" descr="underline_base"/>
          <p:cNvPicPr/>
          <p:nvPr/>
        </p:nvPicPr>
        <p:blipFill>
          <a:blip r:embed="rId1"/>
          <a:stretch/>
        </p:blipFill>
        <p:spPr>
          <a:xfrm>
            <a:off x="452520" y="80028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5452" name="PlaceHolder 1"/>
          <p:cNvSpPr>
            <a:spLocks noGrp="1"/>
          </p:cNvSpPr>
          <p:nvPr>
            <p:ph type="title"/>
          </p:nvPr>
        </p:nvSpPr>
        <p:spPr>
          <a:xfrm>
            <a:off x="414360" y="144360"/>
            <a:ext cx="799128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se study: ATM ABR congestion control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53" name="PlaceHolder 2"/>
          <p:cNvSpPr>
            <a:spLocks noGrp="1"/>
          </p:cNvSpPr>
          <p:nvPr>
            <p:ph/>
          </p:nvPr>
        </p:nvSpPr>
        <p:spPr>
          <a:xfrm>
            <a:off x="495000" y="3876840"/>
            <a:ext cx="80485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-byte ER (explicit rate) field in RM ce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ed switch may lower ER value in c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 rate thus max supportable rate on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FCI bit in data cells: set to 1 in congested 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data cell preceding RM cell has EFCI set, receiver sets CI bit in returned RM c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54" name="Group 11"/>
          <p:cNvGrpSpPr/>
          <p:nvPr/>
        </p:nvGrpSpPr>
        <p:grpSpPr>
          <a:xfrm>
            <a:off x="5111640" y="2728800"/>
            <a:ext cx="951120" cy="365040"/>
            <a:chOff x="5111640" y="2728800"/>
            <a:chExt cx="951120" cy="365040"/>
          </a:xfrm>
        </p:grpSpPr>
        <p:sp>
          <p:nvSpPr>
            <p:cNvPr id="5455" name="Rectangle 12"/>
            <p:cNvSpPr/>
            <p:nvPr/>
          </p:nvSpPr>
          <p:spPr>
            <a:xfrm>
              <a:off x="5111640" y="2949120"/>
              <a:ext cx="709920" cy="1414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6" name="AutoShape 13"/>
            <p:cNvSpPr/>
            <p:nvPr/>
          </p:nvSpPr>
          <p:spPr>
            <a:xfrm>
              <a:off x="5111640" y="2733840"/>
              <a:ext cx="951120" cy="219960"/>
            </a:xfrm>
            <a:prstGeom prst="parallelogram">
              <a:avLst>
                <a:gd name="adj" fmla="val 10810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7" name="Freeform 14"/>
            <p:cNvSpPr/>
            <p:nvPr/>
          </p:nvSpPr>
          <p:spPr>
            <a:xfrm>
              <a:off x="5820120" y="2728800"/>
              <a:ext cx="242640" cy="36504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8" name="Freeform 15"/>
            <p:cNvSpPr/>
            <p:nvPr/>
          </p:nvSpPr>
          <p:spPr>
            <a:xfrm>
              <a:off x="5204880" y="2777760"/>
              <a:ext cx="725400" cy="12996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9" name="Freeform 16"/>
            <p:cNvSpPr/>
            <p:nvPr/>
          </p:nvSpPr>
          <p:spPr>
            <a:xfrm>
              <a:off x="5374080" y="2771280"/>
              <a:ext cx="420120" cy="15156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60" name="Group 17"/>
          <p:cNvGrpSpPr/>
          <p:nvPr/>
        </p:nvGrpSpPr>
        <p:grpSpPr>
          <a:xfrm>
            <a:off x="3254400" y="2755800"/>
            <a:ext cx="950760" cy="365040"/>
            <a:chOff x="3254400" y="2755800"/>
            <a:chExt cx="950760" cy="365040"/>
          </a:xfrm>
        </p:grpSpPr>
        <p:sp>
          <p:nvSpPr>
            <p:cNvPr id="5461" name="Rectangle 18"/>
            <p:cNvSpPr/>
            <p:nvPr/>
          </p:nvSpPr>
          <p:spPr>
            <a:xfrm>
              <a:off x="3254400" y="2976120"/>
              <a:ext cx="709560" cy="1414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2" name="AutoShape 19"/>
            <p:cNvSpPr/>
            <p:nvPr/>
          </p:nvSpPr>
          <p:spPr>
            <a:xfrm>
              <a:off x="3254400" y="2760840"/>
              <a:ext cx="950760" cy="219960"/>
            </a:xfrm>
            <a:prstGeom prst="parallelogram">
              <a:avLst>
                <a:gd name="adj" fmla="val 10806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3" name="Freeform 20"/>
            <p:cNvSpPr/>
            <p:nvPr/>
          </p:nvSpPr>
          <p:spPr>
            <a:xfrm>
              <a:off x="3962520" y="2755800"/>
              <a:ext cx="242280" cy="3650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4" name="Freeform 21"/>
            <p:cNvSpPr/>
            <p:nvPr/>
          </p:nvSpPr>
          <p:spPr>
            <a:xfrm>
              <a:off x="3347640" y="2804760"/>
              <a:ext cx="725400" cy="12996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5" name="Freeform 22"/>
            <p:cNvSpPr/>
            <p:nvPr/>
          </p:nvSpPr>
          <p:spPr>
            <a:xfrm>
              <a:off x="3516480" y="2798280"/>
              <a:ext cx="419760" cy="15156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66" name="Freeform 24"/>
          <p:cNvSpPr/>
          <p:nvPr/>
        </p:nvSpPr>
        <p:spPr>
          <a:xfrm>
            <a:off x="1128600" y="1658880"/>
            <a:ext cx="360360" cy="1403280"/>
          </a:xfrm>
          <a:custGeom>
            <a:avLst/>
            <a:gdLst>
              <a:gd name="textAreaLeft" fmla="*/ 0 w 360360"/>
              <a:gd name="textAreaRight" fmla="*/ 360720 w 36036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354" h="1200">
                <a:moveTo>
                  <a:pt x="0" y="1194"/>
                </a:moveTo>
                <a:lnTo>
                  <a:pt x="354" y="0"/>
                </a:lnTo>
                <a:lnTo>
                  <a:pt x="342" y="1146"/>
                </a:lnTo>
                <a:lnTo>
                  <a:pt x="180" y="1200"/>
                </a:lnTo>
                <a:lnTo>
                  <a:pt x="0" y="11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Rectangle 23"/>
          <p:cNvSpPr/>
          <p:nvPr/>
        </p:nvSpPr>
        <p:spPr>
          <a:xfrm>
            <a:off x="1509840" y="1639800"/>
            <a:ext cx="771480" cy="1298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68" name="Group 26"/>
          <p:cNvGrpSpPr/>
          <p:nvPr/>
        </p:nvGrpSpPr>
        <p:grpSpPr>
          <a:xfrm>
            <a:off x="1477800" y="1700280"/>
            <a:ext cx="755280" cy="1285920"/>
            <a:chOff x="1477800" y="1700280"/>
            <a:chExt cx="755280" cy="1285920"/>
          </a:xfrm>
        </p:grpSpPr>
        <p:sp>
          <p:nvSpPr>
            <p:cNvPr id="5469" name="Rectangle 24"/>
            <p:cNvSpPr/>
            <p:nvPr/>
          </p:nvSpPr>
          <p:spPr>
            <a:xfrm>
              <a:off x="1477800" y="1700280"/>
              <a:ext cx="750960" cy="128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0" name="Line 25"/>
            <p:cNvSpPr/>
            <p:nvPr/>
          </p:nvSpPr>
          <p:spPr>
            <a:xfrm>
              <a:off x="1483200" y="1936440"/>
              <a:ext cx="74520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1" name="Line 27"/>
            <p:cNvSpPr/>
            <p:nvPr/>
          </p:nvSpPr>
          <p:spPr>
            <a:xfrm>
              <a:off x="1487880" y="2212920"/>
              <a:ext cx="74520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2" name="Line 28"/>
            <p:cNvSpPr/>
            <p:nvPr/>
          </p:nvSpPr>
          <p:spPr>
            <a:xfrm>
              <a:off x="1479600" y="2478960"/>
              <a:ext cx="74520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3" name="Line 29"/>
            <p:cNvSpPr/>
            <p:nvPr/>
          </p:nvSpPr>
          <p:spPr>
            <a:xfrm>
              <a:off x="1479600" y="2725200"/>
              <a:ext cx="74520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4" name="Freeform 34"/>
          <p:cNvSpPr/>
          <p:nvPr/>
        </p:nvSpPr>
        <p:spPr>
          <a:xfrm>
            <a:off x="7599240" y="1590840"/>
            <a:ext cx="347760" cy="1514160"/>
          </a:xfrm>
          <a:custGeom>
            <a:avLst/>
            <a:gdLst>
              <a:gd name="textAreaLeft" fmla="*/ 0 w 347760"/>
              <a:gd name="textAreaRight" fmla="*/ 348120 w 347760"/>
              <a:gd name="textAreaTop" fmla="*/ 0 h 1514160"/>
              <a:gd name="textAreaBottom" fmla="*/ 1514520 h 1514160"/>
            </a:gdLst>
            <a:ahLst/>
            <a:rect l="textAreaLeft" t="textAreaTop" r="textAreaRight" b="textAreaBottom"/>
            <a:pathLst>
              <a:path w="219" h="954">
                <a:moveTo>
                  <a:pt x="198" y="762"/>
                </a:moveTo>
                <a:lnTo>
                  <a:pt x="0" y="0"/>
                </a:lnTo>
                <a:lnTo>
                  <a:pt x="8" y="844"/>
                </a:lnTo>
                <a:lnTo>
                  <a:pt x="219" y="954"/>
                </a:lnTo>
                <a:lnTo>
                  <a:pt x="198" y="76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5" name="Rectangle 23"/>
          <p:cNvSpPr/>
          <p:nvPr/>
        </p:nvSpPr>
        <p:spPr>
          <a:xfrm>
            <a:off x="6843600" y="1627200"/>
            <a:ext cx="771480" cy="1298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76" name="Group 36"/>
          <p:cNvGrpSpPr/>
          <p:nvPr/>
        </p:nvGrpSpPr>
        <p:grpSpPr>
          <a:xfrm>
            <a:off x="6811920" y="1687680"/>
            <a:ext cx="755280" cy="1285560"/>
            <a:chOff x="6811920" y="1687680"/>
            <a:chExt cx="755280" cy="1285560"/>
          </a:xfrm>
        </p:grpSpPr>
        <p:sp>
          <p:nvSpPr>
            <p:cNvPr id="5477" name="Rectangle 24"/>
            <p:cNvSpPr/>
            <p:nvPr/>
          </p:nvSpPr>
          <p:spPr>
            <a:xfrm>
              <a:off x="6811920" y="1687680"/>
              <a:ext cx="750960" cy="128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8" name="Line 25"/>
            <p:cNvSpPr/>
            <p:nvPr/>
          </p:nvSpPr>
          <p:spPr>
            <a:xfrm>
              <a:off x="6817320" y="1923840"/>
              <a:ext cx="74520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9" name="Line 27"/>
            <p:cNvSpPr/>
            <p:nvPr/>
          </p:nvSpPr>
          <p:spPr>
            <a:xfrm>
              <a:off x="6822000" y="2199960"/>
              <a:ext cx="74520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0" name="Line 28"/>
            <p:cNvSpPr/>
            <p:nvPr/>
          </p:nvSpPr>
          <p:spPr>
            <a:xfrm>
              <a:off x="6813720" y="2466000"/>
              <a:ext cx="74520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1" name="Line 29"/>
            <p:cNvSpPr/>
            <p:nvPr/>
          </p:nvSpPr>
          <p:spPr>
            <a:xfrm>
              <a:off x="6813720" y="2712240"/>
              <a:ext cx="74520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82" name="Freeform 45"/>
          <p:cNvSpPr/>
          <p:nvPr/>
        </p:nvSpPr>
        <p:spPr>
          <a:xfrm>
            <a:off x="1974960" y="2022480"/>
            <a:ext cx="5079960" cy="7779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200" h="490">
                <a:moveTo>
                  <a:pt x="0" y="64"/>
                </a:moveTo>
                <a:lnTo>
                  <a:pt x="0" y="490"/>
                </a:lnTo>
                <a:lnTo>
                  <a:pt x="3200" y="490"/>
                </a:lnTo>
                <a:lnTo>
                  <a:pt x="3200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Freeform 46"/>
          <p:cNvSpPr/>
          <p:nvPr/>
        </p:nvSpPr>
        <p:spPr>
          <a:xfrm>
            <a:off x="1693800" y="2075040"/>
            <a:ext cx="5581800" cy="969840"/>
          </a:xfrm>
          <a:custGeom>
            <a:avLst/>
            <a:gdLst>
              <a:gd name="textAreaLeft" fmla="*/ 0 w 5581800"/>
              <a:gd name="textAreaRight" fmla="*/ 5581800 w 55818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516" h="611">
                <a:moveTo>
                  <a:pt x="0" y="2"/>
                </a:moveTo>
                <a:lnTo>
                  <a:pt x="3" y="611"/>
                </a:lnTo>
                <a:lnTo>
                  <a:pt x="3516" y="611"/>
                </a:lnTo>
                <a:lnTo>
                  <a:pt x="3516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84" name="Group 61"/>
          <p:cNvGrpSpPr/>
          <p:nvPr/>
        </p:nvGrpSpPr>
        <p:grpSpPr>
          <a:xfrm>
            <a:off x="2530440" y="2314440"/>
            <a:ext cx="712800" cy="534960"/>
            <a:chOff x="2530440" y="2314440"/>
            <a:chExt cx="712800" cy="534960"/>
          </a:xfrm>
        </p:grpSpPr>
        <p:sp>
          <p:nvSpPr>
            <p:cNvPr id="5485" name="Rectangle 47"/>
            <p:cNvSpPr/>
            <p:nvPr/>
          </p:nvSpPr>
          <p:spPr>
            <a:xfrm>
              <a:off x="2774880" y="2314440"/>
              <a:ext cx="88920" cy="5317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6" name="Rectangle 48"/>
            <p:cNvSpPr/>
            <p:nvPr/>
          </p:nvSpPr>
          <p:spPr>
            <a:xfrm>
              <a:off x="2651040" y="231768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7" name="Rectangle 49"/>
            <p:cNvSpPr/>
            <p:nvPr/>
          </p:nvSpPr>
          <p:spPr>
            <a:xfrm>
              <a:off x="2530440" y="231768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8" name="Rectangle 50"/>
            <p:cNvSpPr/>
            <p:nvPr/>
          </p:nvSpPr>
          <p:spPr>
            <a:xfrm>
              <a:off x="3154320" y="2314440"/>
              <a:ext cx="88920" cy="5317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9" name="Rectangle 51"/>
            <p:cNvSpPr/>
            <p:nvPr/>
          </p:nvSpPr>
          <p:spPr>
            <a:xfrm>
              <a:off x="3030480" y="231768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0" name="Rectangle 52"/>
            <p:cNvSpPr/>
            <p:nvPr/>
          </p:nvSpPr>
          <p:spPr>
            <a:xfrm>
              <a:off x="2909880" y="231768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1" name="Group 62"/>
          <p:cNvGrpSpPr/>
          <p:nvPr/>
        </p:nvGrpSpPr>
        <p:grpSpPr>
          <a:xfrm>
            <a:off x="4297320" y="2332080"/>
            <a:ext cx="712800" cy="534960"/>
            <a:chOff x="4297320" y="2332080"/>
            <a:chExt cx="712800" cy="534960"/>
          </a:xfrm>
        </p:grpSpPr>
        <p:sp>
          <p:nvSpPr>
            <p:cNvPr id="5492" name="Rectangle 63"/>
            <p:cNvSpPr/>
            <p:nvPr/>
          </p:nvSpPr>
          <p:spPr>
            <a:xfrm>
              <a:off x="4541760" y="2332080"/>
              <a:ext cx="88920" cy="5317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3" name="Rectangle 64"/>
            <p:cNvSpPr/>
            <p:nvPr/>
          </p:nvSpPr>
          <p:spPr>
            <a:xfrm>
              <a:off x="4417920" y="233532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4" name="Rectangle 65"/>
            <p:cNvSpPr/>
            <p:nvPr/>
          </p:nvSpPr>
          <p:spPr>
            <a:xfrm>
              <a:off x="4297320" y="233532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5" name="Rectangle 66"/>
            <p:cNvSpPr/>
            <p:nvPr/>
          </p:nvSpPr>
          <p:spPr>
            <a:xfrm>
              <a:off x="4921200" y="2332080"/>
              <a:ext cx="88920" cy="5317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6" name="Rectangle 67"/>
            <p:cNvSpPr/>
            <p:nvPr/>
          </p:nvSpPr>
          <p:spPr>
            <a:xfrm>
              <a:off x="4797360" y="233532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7" name="Rectangle 68"/>
            <p:cNvSpPr/>
            <p:nvPr/>
          </p:nvSpPr>
          <p:spPr>
            <a:xfrm>
              <a:off x="4676760" y="233532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8" name="Group 76"/>
          <p:cNvGrpSpPr/>
          <p:nvPr/>
        </p:nvGrpSpPr>
        <p:grpSpPr>
          <a:xfrm>
            <a:off x="6203880" y="2320920"/>
            <a:ext cx="333360" cy="534960"/>
            <a:chOff x="6203880" y="2320920"/>
            <a:chExt cx="333360" cy="534960"/>
          </a:xfrm>
        </p:grpSpPr>
        <p:sp>
          <p:nvSpPr>
            <p:cNvPr id="5499" name="Rectangle 70"/>
            <p:cNvSpPr/>
            <p:nvPr/>
          </p:nvSpPr>
          <p:spPr>
            <a:xfrm>
              <a:off x="6448320" y="2320920"/>
              <a:ext cx="88920" cy="5317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0" name="Rectangle 71"/>
            <p:cNvSpPr/>
            <p:nvPr/>
          </p:nvSpPr>
          <p:spPr>
            <a:xfrm>
              <a:off x="6324480" y="232416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1" name="Rectangle 72"/>
            <p:cNvSpPr/>
            <p:nvPr/>
          </p:nvSpPr>
          <p:spPr>
            <a:xfrm>
              <a:off x="6203880" y="2324160"/>
              <a:ext cx="88920" cy="53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02" name="AutoShape 77"/>
          <p:cNvSpPr/>
          <p:nvPr/>
        </p:nvSpPr>
        <p:spPr>
          <a:xfrm>
            <a:off x="3295800" y="2395440"/>
            <a:ext cx="434880" cy="260280"/>
          </a:xfrm>
          <a:prstGeom prst="rightArrow">
            <a:avLst>
              <a:gd name="adj1" fmla="val 50000"/>
              <a:gd name="adj2" fmla="val 41770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AutoShape 78"/>
          <p:cNvSpPr/>
          <p:nvPr/>
        </p:nvSpPr>
        <p:spPr>
          <a:xfrm>
            <a:off x="5062680" y="2398680"/>
            <a:ext cx="434880" cy="260280"/>
          </a:xfrm>
          <a:prstGeom prst="rightArrow">
            <a:avLst>
              <a:gd name="adj1" fmla="val 50000"/>
              <a:gd name="adj2" fmla="val 41770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80"/>
          <p:cNvSpPr/>
          <p:nvPr/>
        </p:nvSpPr>
        <p:spPr>
          <a:xfrm>
            <a:off x="6605640" y="2963880"/>
            <a:ext cx="88920" cy="5317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5" name="Group 91"/>
          <p:cNvGrpSpPr/>
          <p:nvPr/>
        </p:nvGrpSpPr>
        <p:grpSpPr>
          <a:xfrm>
            <a:off x="4305240" y="2941560"/>
            <a:ext cx="468000" cy="531720"/>
            <a:chOff x="4305240" y="2941560"/>
            <a:chExt cx="468000" cy="531720"/>
          </a:xfrm>
        </p:grpSpPr>
        <p:sp>
          <p:nvSpPr>
            <p:cNvPr id="5506" name="Rectangle 92"/>
            <p:cNvSpPr/>
            <p:nvPr/>
          </p:nvSpPr>
          <p:spPr>
            <a:xfrm>
              <a:off x="4305240" y="2941560"/>
              <a:ext cx="88920" cy="5317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7" name="Rectangle 93"/>
            <p:cNvSpPr/>
            <p:nvPr/>
          </p:nvSpPr>
          <p:spPr>
            <a:xfrm>
              <a:off x="4684680" y="2941560"/>
              <a:ext cx="88560" cy="5317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08" name="Group 94"/>
          <p:cNvGrpSpPr/>
          <p:nvPr/>
        </p:nvGrpSpPr>
        <p:grpSpPr>
          <a:xfrm>
            <a:off x="2435400" y="2946240"/>
            <a:ext cx="468000" cy="532080"/>
            <a:chOff x="2435400" y="2946240"/>
            <a:chExt cx="468000" cy="532080"/>
          </a:xfrm>
        </p:grpSpPr>
        <p:sp>
          <p:nvSpPr>
            <p:cNvPr id="5509" name="Rectangle 95"/>
            <p:cNvSpPr/>
            <p:nvPr/>
          </p:nvSpPr>
          <p:spPr>
            <a:xfrm>
              <a:off x="2435400" y="2946240"/>
              <a:ext cx="88920" cy="5320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0" name="Rectangle 96"/>
            <p:cNvSpPr/>
            <p:nvPr/>
          </p:nvSpPr>
          <p:spPr>
            <a:xfrm>
              <a:off x="2814840" y="2946240"/>
              <a:ext cx="88560" cy="5320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11" name="AutoShape 97"/>
          <p:cNvSpPr/>
          <p:nvPr/>
        </p:nvSpPr>
        <p:spPr>
          <a:xfrm rot="10800000">
            <a:off x="1959120" y="3132000"/>
            <a:ext cx="434880" cy="260640"/>
          </a:xfrm>
          <a:prstGeom prst="rightArrow">
            <a:avLst>
              <a:gd name="adj1" fmla="val 50000"/>
              <a:gd name="adj2" fmla="val 41713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AutoShape 98"/>
          <p:cNvSpPr/>
          <p:nvPr/>
        </p:nvSpPr>
        <p:spPr>
          <a:xfrm rot="10800000">
            <a:off x="3889440" y="3134880"/>
            <a:ext cx="434880" cy="260280"/>
          </a:xfrm>
          <a:prstGeom prst="rightArrow">
            <a:avLst>
              <a:gd name="adj1" fmla="val 50000"/>
              <a:gd name="adj2" fmla="val 41770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AutoShape 99"/>
          <p:cNvSpPr/>
          <p:nvPr/>
        </p:nvSpPr>
        <p:spPr>
          <a:xfrm rot="10800000">
            <a:off x="6086520" y="3138120"/>
            <a:ext cx="434880" cy="260280"/>
          </a:xfrm>
          <a:prstGeom prst="rightArrow">
            <a:avLst>
              <a:gd name="adj1" fmla="val 50000"/>
              <a:gd name="adj2" fmla="val 41770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Rectangle 101"/>
          <p:cNvSpPr/>
          <p:nvPr/>
        </p:nvSpPr>
        <p:spPr>
          <a:xfrm>
            <a:off x="2948040" y="1363680"/>
            <a:ext cx="98280" cy="407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102"/>
          <p:cNvSpPr/>
          <p:nvPr/>
        </p:nvSpPr>
        <p:spPr>
          <a:xfrm>
            <a:off x="3032280" y="151920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M ce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Rectangle 108"/>
          <p:cNvSpPr/>
          <p:nvPr/>
        </p:nvSpPr>
        <p:spPr>
          <a:xfrm>
            <a:off x="4138560" y="1363680"/>
            <a:ext cx="98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109"/>
          <p:cNvSpPr/>
          <p:nvPr/>
        </p:nvSpPr>
        <p:spPr>
          <a:xfrm>
            <a:off x="4220640" y="15192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e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8" name="Group 113"/>
          <p:cNvGrpSpPr/>
          <p:nvPr/>
        </p:nvGrpSpPr>
        <p:grpSpPr>
          <a:xfrm>
            <a:off x="666360" y="2622600"/>
            <a:ext cx="687240" cy="636480"/>
            <a:chOff x="666360" y="2622600"/>
            <a:chExt cx="687240" cy="636480"/>
          </a:xfrm>
        </p:grpSpPr>
        <p:pic>
          <p:nvPicPr>
            <p:cNvPr id="5519" name="Picture 11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66360" y="2622600"/>
              <a:ext cx="68724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0" name="Freeform 115"/>
            <p:cNvSpPr/>
            <p:nvPr/>
          </p:nvSpPr>
          <p:spPr>
            <a:xfrm flipH="1">
              <a:off x="959400" y="2683440"/>
              <a:ext cx="334080" cy="29124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1" name="Group 116"/>
          <p:cNvGrpSpPr/>
          <p:nvPr/>
        </p:nvGrpSpPr>
        <p:grpSpPr>
          <a:xfrm>
            <a:off x="7794720" y="2671920"/>
            <a:ext cx="642960" cy="636480"/>
            <a:chOff x="7794720" y="2671920"/>
            <a:chExt cx="642960" cy="636480"/>
          </a:xfrm>
        </p:grpSpPr>
        <p:pic>
          <p:nvPicPr>
            <p:cNvPr id="5522" name="Picture 11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794720" y="2671920"/>
              <a:ext cx="64296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3" name="Freeform 118"/>
            <p:cNvSpPr/>
            <p:nvPr/>
          </p:nvSpPr>
          <p:spPr>
            <a:xfrm>
              <a:off x="7851240" y="2732760"/>
              <a:ext cx="312480" cy="291240"/>
            </a:xfrm>
            <a:custGeom>
              <a:avLst/>
              <a:gdLst>
                <a:gd name="textAreaLeft" fmla="*/ 0 w 312480"/>
                <a:gd name="textAreaRight" fmla="*/ 312480 w 31248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F86BF70-692C-46C6-88BA-C1E31AD275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2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5E444AF-63E4-47E3-9424-DD4C24739A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3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5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3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54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4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54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5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>
              <a:gd name="textAreaLeft" fmla="*/ 0 w 858960"/>
              <a:gd name="textAreaRight" fmla="*/ 859320 w 85896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>
              <a:gd name="textAreaLeft" fmla="*/ 0 w 797040"/>
              <a:gd name="textAreaRight" fmla="*/ 797400 w 797040"/>
              <a:gd name="textAreaTop" fmla="*/ 0 h 1000440"/>
              <a:gd name="textAreaBottom" fmla="*/ 1000800 h 1000440"/>
            </a:gdLst>
            <a:ahLst/>
            <a:rect l="textAreaLeft" t="textAreaTop" r="textAreaRight" b="textAreaBottom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>
              <a:gd name="textAreaLeft" fmla="*/ 0 w 406440"/>
              <a:gd name="textAreaRight" fmla="*/ 406800 w 40644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>
              <a:gd name="textAreaLeft" fmla="*/ 0 w 168480"/>
              <a:gd name="textAreaRight" fmla="*/ 168840 w 1684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romain</cp:lastModifiedBy>
  <cp:lastPrinted>2000-04-27T09:23:27Z</cp:lastPrinted>
  <dcterms:modified xsi:type="dcterms:W3CDTF">2013-08-28T03:00:41Z</dcterms:modified>
  <cp:revision>268</cp:revision>
  <dc:subject/>
  <dc:title>3rd Edition: Chapter 3</dc:title>
</cp:coreProperties>
</file>