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A9604-B1A3-43AB-9C4A-ADEA072FE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247D7-7E16-4CB7-B182-F62501F23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83B83-057E-452F-961E-9E8D019DC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2416A-90DE-4550-A77E-B9A8981AF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33D73-2155-4F95-B19E-C9C02CD3E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BEE8-A43D-44A1-B01F-01DD96CCA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6149C-072D-4900-95DF-3EE19923B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4CE53-41EA-4AF3-B064-2795A83E1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9839F-E0EB-47AA-B266-9FA96360E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21D31-E50C-4F68-9786-E4A88E53F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88B7F-2D5F-4800-BF44-07022C51C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5B3E8-1275-4B91-85F0-FF6125911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2DE4D-B769-4FD5-BCC4-152525F23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07E9A-14BE-4C2E-92F3-0EF4A4617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6428-D86F-4504-AB7F-4F5933FD6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2CA8-979E-4FFF-BC20-8E175F2F3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A8F21-53F6-40D6-BA5D-1C99AE52D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87E21-2ABB-4ED4-89EF-47B146A90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9161-3532-49BF-8211-317B11993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FBBCC-93ED-439F-B65C-6445C470E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96697-3225-47D7-9DA5-8CB5196C4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B111C-D700-4EB9-806E-B7632FC12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95867-A6B3-4D3A-A492-ECB7A561F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1FACF-C70D-4353-B808-ABADE0D40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7BF55-06E2-471B-9C9A-72F92766C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FCC1-C3E0-42BE-8F46-D70208602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0A6CA-3D17-4340-9DDE-41C793694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C2BD1-222C-438D-B410-20E61A7D3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1883-D395-43C8-B453-9A4417043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B791F-68E6-41A3-A8C9-FF45217CD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D7AE-98FB-46FD-A201-CFEE5A979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A746A-94C9-4AFA-8600-EF93545D0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F68F-3950-4A98-A03A-0A2D84219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0BF2-A1FB-4A2F-B2A1-A76A8DFC1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3A560-C6DE-4D87-939C-279DEA405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4CF7-8D2B-4BE9-A449-4F215132B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87153-4BDF-4CD3-A281-9B21EF467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6F401-3584-4D06-B79E-6CE148949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558EF-BD7E-4811-8B26-04D047561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11A6-8B6D-4537-A6AB-66F86E0F1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37B9D-2B58-4CCA-A1BD-ACCA122CF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A874-A53A-4D5D-B067-1AB6543F1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A44A5-C9D6-4B11-9950-276302983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EE773-40FA-45D8-AE63-8E45E3F80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FF3C-569E-42CD-B4EC-2DDD48440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3B0D3-53EB-4F24-86DE-F8837D974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BBCC1-45E9-48E2-A35C-02BA2F82F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85C14-40AF-4F8D-AB23-F472564F3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EB91-298F-472C-ABC0-0DC67ABC8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630DF-B8B7-45E3-977E-B30E31DB4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441EE-3149-479D-95DF-5AF1EEA2A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D4270-ABFD-46BD-9A71-FD96BE025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50B3-D768-4F33-A3BB-9A3C6BC56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178A6-861A-4D78-9A88-7F3739D2B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91A79-15AE-476D-A047-2B8FCAB88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DDEBE-0676-4069-A201-14E8E8376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5914-8641-488B-9B5E-383CCCF5E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1F3FF-B449-4449-BE2B-EFE271818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7E8D9-68ED-48C8-9DE4-5EEF1FD8E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310C4-34E4-43C6-A677-0D961007C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ADB9B-D18B-4400-B70B-7C8C819DF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CA93-645D-4EF4-96DC-3344D9F75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47897-02D6-4DAC-AEF2-795409CB2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0D675-E521-472F-8F40-EAFBC33F8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6378E-AD27-454C-8206-F8669D262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D4B31-0564-4466-A936-7E62ACB22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98C29-A723-48E1-B6F7-DB0FD0E9A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13901-AA95-427D-B0C4-DA876C126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2AF11-BD71-4B44-9FCB-74221273D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5E76-92BA-4A8E-B4B0-A5B00F778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92DC5-928B-4228-A397-49AF2743B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2C853-02AD-49B1-B3AE-41FF7903F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3AE94-6E3B-419F-8F02-5D5D154D1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09D1-84FA-43A8-B400-1A020E308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72581-438B-42BE-ACA4-28D3E2E21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B7CB6-5924-4C89-81F2-2FC7727E0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E8226-AF30-4D0B-8035-99B63A0DA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61D85-62CF-4C67-9482-15BBA9A52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17C56-79A0-4EC2-B9C4-274A84716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325EE-64E5-4E20-ACF7-E1AF3C739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A03A-D3A1-45BB-BC7A-91816A878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31CC-F08F-417C-A753-899A8503E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E28-FB92-42C0-B802-DB783107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F37-F9B2-452A-A5E4-7A5D4AC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A98E5-C674-4EE6-85D5-44754A5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E3B6E-20A5-4DAE-AD4C-D240B09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E9899-9033-4DEB-BB93-C16E9E39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60C32-6E51-456D-88CA-0357A08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3A460-36CB-4EEF-8648-4E5B076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972EF-A71C-46B3-9C19-4AC14048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334BE-B4C1-4CAB-910E-11647ED0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F967-4007-42F1-A3E7-D17FC0E7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F62E7-472A-4396-9ED3-481BD1C7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1FBD-7C96-4D62-AF7B-F2B9E8A9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7D4-4AEF-4B44-8A05-7509B171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DDF4-BCBE-4BCD-862C-63FF4A4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4D26D-0789-4691-B8E9-E9C00CFF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6635D-69EF-4F21-AA28-EA64A0B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85B0E-A3D5-49EB-865C-3FF63392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90542-F2FC-4BCA-9082-94FB9BF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A2DC-A601-4E68-A648-33375FB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E8BA2-FB48-438D-8454-D17ABE6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9A751-C47D-4262-9BD3-10466C2C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8F623-CC02-42B4-9CF8-04608EAA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6A093-CAA3-490A-9247-818E3C5B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BF4-30FA-4BAD-A918-C91D8F1C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40EC-CA0A-47C1-9374-738E5407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80FE4-5F8E-418B-B391-6D149CC3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DC67-77D0-44A0-94E7-CD09574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E043-B811-4410-B33B-BAA40B67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38A84-9E65-4334-B39F-0A1BEBEB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43E8C-2EFE-4C40-933D-409B599A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2BB1-94A5-4344-918A-D9307D0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50F6-1FD4-4E56-9D9B-F5DA72B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D8896-361A-4FBC-85C6-8F5729E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E65A6-C5E1-4F4B-BAEC-873C663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4B20-051E-4D67-A5F6-850EB901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8D2C-7B8F-4D99-92A3-901FB20E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A06A8-739A-434C-929A-E35FFCEE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87AB-3977-41E1-B22E-4C0E1FBA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20AB2-7AA1-4DDA-A9B7-F5892F6C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31579-C13A-44B9-BB53-4E7C0AA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555B7-CF5D-4A36-BB60-554120D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1D7B4-FEA0-47B8-AFFD-D6C19B8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0AFB0-6FF6-4751-AB4F-62D1E4D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4C0B2-67BC-4657-A660-A44738AB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729EF-B10A-42D5-BD8F-174324A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08F-A18E-4DD9-B253-8AB9D3D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BFB5D-2AFB-4327-A0EF-2C2D943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6EFB-7F93-437C-9357-0BC607D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F52C6-9E8D-413E-99FE-88C035E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DB3B7-BA11-4963-A646-808C5CFC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C4E8-9B15-426A-8E61-90ED5D97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A0C38-E5A6-41DF-AC84-B56775B9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11365-D5AB-4427-8018-21DA81D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B14CC-CC2A-44D3-B4D0-017F1B38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A8A25-C2C0-41EB-B0AD-772EC39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C7E6E-D515-432B-A806-3F518211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4CD-3545-464C-B377-562634A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F1404-626E-4F4E-B26F-BBFC9A5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BBBE1-367B-44D1-871F-517EBB1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2D1AA-AFF0-4CBA-8EA3-3E654AE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A1E1F-6C43-4B45-AE40-1F4D8C2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E8572-2484-45D4-973D-D548525C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2C0EA-9AD7-40FE-A684-9FFF1F9E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4ACC9-175D-4728-92FD-D1A83A0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F0C27-B750-448E-A031-CFDE71A5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13618-24FB-467E-A719-C88DAA6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CB1B5-71BF-4E65-BDEB-8215C6B8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C36-BED0-400C-9CEB-00F2484E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05684-A205-411C-83D6-68F501B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9C941-9FAE-4D68-ADC2-A523049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F4326-81A9-4F26-AF77-94884E44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B8E5A-9517-4E33-BF69-C9B4328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65587-2B7C-4703-8BDD-CA76DF2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323CF-E136-4DCB-9ABF-1071888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5DB8B-8EFE-42C0-B8B5-44F0B12F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F61DC-9B35-471F-85A6-902BC185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567C7-6837-48A0-AA89-542B2A1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11004-5356-40F0-B228-05EB741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53BE-CD25-4FE7-A0CF-54AA2A7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0DDFF-F2BC-46E9-B370-0F15DD2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8619E-18B1-48BF-8254-A9ED9B2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97605-4274-4CFD-95E9-41BE2D7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91129-2C28-4C22-9B94-4887A1D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B9ADE-3901-45FB-90FD-5495196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0176D-94F8-45C2-A50F-40AE859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888FE-6812-4488-A9A1-7BF96C1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3A187-8474-4F4B-A60A-9EDF6C8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218BB-EAB5-43FC-9493-A31771B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8709E-E025-4AAD-8BE1-4D138FB6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291A-7F7D-4EDD-99F1-4DACAC4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50A56-47F0-4DB3-83DC-79C1171E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C4030-EB08-45E2-91F7-F2D9DAD2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A31BF-FDB6-4CF7-8953-CE6B936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D42FF-368E-4575-9F94-453B48A5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3601B-E558-42E6-B54C-B540404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8D8D7-BB72-4495-A63C-5EAD97F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C235E-569F-40A8-8812-B2B49F3E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4F60F-0733-4F69-B3C5-1065F85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742DE-C55A-486C-BB8D-3E91ADA8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98291-C7D9-42FD-A2C6-A7F8E15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3443-D5C7-4F4D-9298-2F8466E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FCACA-90A5-4770-8F31-54235ED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B4E5A-BBB6-4228-B960-4908F687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7A306-16FA-439B-8191-6F1344B4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0B3-28DC-4EE3-89CD-40DFE30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70F3-DAED-41AA-B93F-B1E8501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91C-9278-4378-8BA3-18C9810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8754-80B4-4CC5-B613-84743F9B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8807-B12C-49D1-8893-B074AEC3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452D-DEE7-4A1C-8CED-5ACD46AF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0B5B-CE69-43E4-AB4F-B0430E13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E7DC-D9BD-45A8-9349-BB385C9E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5752-511C-48BE-AF54-B0B18448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13B3-0A8C-4FE0-89CC-EF6C003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3CCE-CB1E-4F1D-B748-266E024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197-A0A8-460E-BE69-2FBA262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FEC9-081A-4BF3-858E-6E76CB36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75C9-F613-45D1-839C-2F941F4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6E19-01E3-4DA5-9C69-E716770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D350-2843-46FE-9C0C-876AD6D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13BA-089A-43CB-93E1-8D0412A8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CBB9-D8A9-4FAE-B0ED-EB24322E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802F-23CA-4F2A-96A8-C2050267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3210-6C3A-4C17-AF60-E3D901A6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3102-636F-447C-AF8B-5DB7B6E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A217-0AD7-4FDA-93D6-8C41E9AE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455-823F-4ADD-BFD5-83EF307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8013-605A-4BF5-8C0E-CC708491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5A4D-192A-47A0-B113-87BEDAC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7EA8-B3EF-4815-BF5B-674E913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F8B1-B84B-4370-BB10-EFEA8EE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3CA8-6D16-4DBC-A37D-4B90404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BFFF-E60E-4BBB-940B-D057587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8C5D-5164-4ED9-95A4-7403A43C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86C5F-187F-414C-8D60-41C6556D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DF64-5B0E-46BF-B0EF-203B6EC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0104A-9E30-46EF-BFC3-88EB1E04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5F2-FAD5-47E0-89EE-AB2F5D99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0E7C-8312-4D17-908A-A4E5C17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C64D-CABB-48F0-AC78-437AF53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61E3-9F96-4A68-8EA8-57526290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9431-B0A4-450C-8AE7-905C031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EBAB-A542-453C-A6CF-93C1435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A180-D355-43D4-843E-C633CED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D910-25D9-4A31-A523-847F351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F8AD-0B4A-4C68-ADDE-DD96CBF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214E8-CAD3-4157-A7F9-98CB6536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4F24-8D06-4248-A32C-132ECFE8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B7F-84E7-4541-A4AF-BE3F087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4E2C-2339-4B2E-93CA-0966A21C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A61D-5B4D-4D4E-958B-4F990B4F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5DCDF-B90C-483F-B53E-E1FAE638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11A9-F7AE-4838-B28D-62C4D8CC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28E5-7384-4291-91DA-D9434BB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2F19-4C47-4453-948F-8D52B5D5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4C32-9408-4E76-A580-40B8D08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46CB9-CB3A-41B5-A4F4-531EB64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0652A-BB5E-4232-96FC-EE1B8F8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C153-21CA-4B8B-A568-A32341E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CD5-D02D-43FE-AA8C-E07DC4E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4F83-4232-45E2-9C7F-CC67D9C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F108-59A8-4956-8C55-0C12D033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47E7-8657-4832-9782-51181029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7AA9-D4B5-4541-9291-0B8C6AEA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09B7D-AA7C-4C93-B999-86609BC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1CF2A-6071-4756-9559-64739F4A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AAEF-83D9-4463-ACE3-BCBA579A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F51E6-CA6A-4E24-BBC9-CDCAFDC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F3B0-C0C5-41A8-B63E-F0861944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279E-160C-43F2-9A14-B4A01C6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3AA-5FD9-4B30-B2A8-3DE176F9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CF54-A5C4-4310-AEF0-963CDD1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60AD-9153-4D97-9244-8F47612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B3272-DA41-440B-ACBC-DF29FB5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5850-4B90-493A-B67A-BF6AEDB2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0E80-6158-4490-9068-AC1C1D5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7267-2274-40DD-8638-8A473B79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1AC8-290F-4230-BAEA-D5F3ED1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B66F3-9F2F-470E-8FDC-958FABD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A0218-645A-4F4A-9997-FDA5DF2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37E75-C9C2-4771-8246-43E3868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F5E-670A-47BE-A04A-5AA311E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076D-DF00-4D7D-B7F3-B0E5C25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CA720-8E9A-414E-B60D-16F2225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1611-251F-4D04-A032-65031B2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0C57-6A6A-470D-A08C-7A91327B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F44D-CDE2-48F8-A9D8-27E5C5F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1983-F466-4E60-B1D4-5AB481A5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4AAF-8BEE-4D23-BD35-E11FDDA3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BD83F-684E-433C-AE02-693801CD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45DB7-4BB7-474B-BFC2-8E34C49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36940-D7A4-4DA0-A652-9EB5943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4E7-1A6B-49A9-A1B4-43F74C4D54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0700BC-B21C-4D87-B5F8-F61231FE57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3B2A-D319-4925-9BC4-94D5B0BA99A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352D8BC8-5DE7-4813-A79C-85CB982A2A2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7C1-7466-4A27-A225-BDADC23556A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F49BCE34-3DA3-4AE8-9DB0-E1D64709A5D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726D-48A8-4166-BE85-C20D62D6027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08D84884-90F6-4D15-8E08-D4E0815B258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808-D64C-4A5F-B994-0C1BAD9363D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E2B2F2B-A4A9-45C1-A4B5-1F04A146A0C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77C-DEE8-439F-A00A-2D7E158EF18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6E191769-2359-4FDF-A4D1-BD8DA5933AA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A42-310A-4204-B375-0E3709B4459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914A82A4-9352-4B9A-8833-B460E8D2436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FCA-83DA-481D-862E-3CBD99F9A46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fld id="{6231350A-2F81-48C0-ABC1-96DBE58783D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Applic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6807-C330-47D1-951C-5DE541C55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2E7-4759-4CA1-8C9A-C7082F305F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01B449-E0C2-422A-8054-78C3ECAF2D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D1A1-40DD-4F5E-940E-548B29379EF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11F988B-9DD4-4398-95A4-4FF1CDDB75D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996-CC66-4D48-9CF7-64A7480895E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2843D6FF-193F-4787-940E-3D199D95CB5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442-75A5-4482-8C70-5493843FB5C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9C782915-675A-4016-9D1A-83CFE28FF4F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4DD-7642-4FBB-B5EB-C40CD7A23A4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A8313C2D-45BD-43AA-80BA-D322518C4D4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EE10-6167-49AE-9A8C-2115DBC383B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68F7BA34-AEC4-479E-9E0D-A19B533E6C8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B57-D94C-4B1D-B4DD-D7CEF23F553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AC9337CC-ECBF-4E92-9426-BD599124FC8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EF831B2D-C723-47A7-AA94-98B1DCF52F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5904BE-A379-4BCF-A9B7-472B246D23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4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95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915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9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932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943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946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7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D363E24-73BD-471F-8CF9-FB9FD7CC47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0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4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5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6166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3793AC-4767-41EA-98BE-2C2E3D7FFB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171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6172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4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6175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6176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8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9" name="Group 11"/>
          <p:cNvGrpSpPr/>
          <p:nvPr/>
        </p:nvGrpSpPr>
        <p:grpSpPr>
          <a:xfrm>
            <a:off x="5131800" y="3023280"/>
            <a:ext cx="2360880" cy="729360"/>
            <a:chOff x="5131800" y="3023280"/>
            <a:chExt cx="2360880" cy="729360"/>
          </a:xfrm>
        </p:grpSpPr>
        <p:sp>
          <p:nvSpPr>
            <p:cNvPr id="6180" name="Text Box 12"/>
            <p:cNvSpPr/>
            <p:nvPr/>
          </p:nvSpPr>
          <p:spPr>
            <a:xfrm>
              <a:off x="5131800" y="302328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2" name="Text Box 22"/>
          <p:cNvSpPr/>
          <p:nvPr/>
        </p:nvSpPr>
        <p:spPr>
          <a:xfrm>
            <a:off x="54396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4" name="Group 24"/>
          <p:cNvGrpSpPr/>
          <p:nvPr/>
        </p:nvGrpSpPr>
        <p:grpSpPr>
          <a:xfrm>
            <a:off x="2978280" y="3808440"/>
            <a:ext cx="4046760" cy="1371600"/>
            <a:chOff x="2978280" y="3808440"/>
            <a:chExt cx="4046760" cy="1371600"/>
          </a:xfrm>
        </p:grpSpPr>
        <p:sp>
          <p:nvSpPr>
            <p:cNvPr id="6185" name="Line 25"/>
            <p:cNvSpPr/>
            <p:nvPr/>
          </p:nvSpPr>
          <p:spPr>
            <a:xfrm flipH="1">
              <a:off x="6064560" y="4503600"/>
              <a:ext cx="936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6" name="Group 26"/>
            <p:cNvGrpSpPr/>
            <p:nvPr/>
          </p:nvGrpSpPr>
          <p:grpSpPr>
            <a:xfrm>
              <a:off x="2978280" y="3808440"/>
              <a:ext cx="4046760" cy="819000"/>
              <a:chOff x="2978280" y="3808440"/>
              <a:chExt cx="4046760" cy="819000"/>
            </a:xfrm>
          </p:grpSpPr>
          <p:sp>
            <p:nvSpPr>
              <p:cNvPr id="6187" name="Text Box 27"/>
              <p:cNvSpPr/>
              <p:nvPr/>
            </p:nvSpPr>
            <p:spPr>
              <a:xfrm>
                <a:off x="5334120" y="404388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Line 28"/>
              <p:cNvSpPr/>
              <p:nvPr/>
            </p:nvSpPr>
            <p:spPr>
              <a:xfrm>
                <a:off x="606456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Line 29"/>
              <p:cNvSpPr/>
              <p:nvPr/>
            </p:nvSpPr>
            <p:spPr>
              <a:xfrm flipH="1">
                <a:off x="2978280" y="4227480"/>
                <a:ext cx="240984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0" name="Group 30"/>
          <p:cNvGrpSpPr/>
          <p:nvPr/>
        </p:nvGrpSpPr>
        <p:grpSpPr>
          <a:xfrm>
            <a:off x="1343880" y="3903840"/>
            <a:ext cx="4100760" cy="1488600"/>
            <a:chOff x="1343880" y="3903840"/>
            <a:chExt cx="4100760" cy="1488600"/>
          </a:xfrm>
        </p:grpSpPr>
        <p:sp>
          <p:nvSpPr>
            <p:cNvPr id="6191" name="Text Box 31"/>
            <p:cNvSpPr/>
            <p:nvPr/>
          </p:nvSpPr>
          <p:spPr>
            <a:xfrm>
              <a:off x="134388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Text Box 32"/>
            <p:cNvSpPr/>
            <p:nvPr/>
          </p:nvSpPr>
          <p:spPr>
            <a:xfrm>
              <a:off x="139140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6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197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8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6199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1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2" name="Group 53"/>
          <p:cNvGrpSpPr/>
          <p:nvPr/>
        </p:nvGrpSpPr>
        <p:grpSpPr>
          <a:xfrm>
            <a:off x="1298520" y="4251240"/>
            <a:ext cx="5443920" cy="1952280"/>
            <a:chOff x="1298520" y="4251240"/>
            <a:chExt cx="5443920" cy="1952280"/>
          </a:xfrm>
        </p:grpSpPr>
        <p:sp>
          <p:nvSpPr>
            <p:cNvPr id="6203" name="Text Box 15"/>
            <p:cNvSpPr/>
            <p:nvPr/>
          </p:nvSpPr>
          <p:spPr>
            <a:xfrm>
              <a:off x="135036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6" name="Group 18"/>
            <p:cNvGrpSpPr/>
            <p:nvPr/>
          </p:nvGrpSpPr>
          <p:grpSpPr>
            <a:xfrm>
              <a:off x="5360760" y="5102280"/>
              <a:ext cx="1381680" cy="1101240"/>
              <a:chOff x="5360760" y="5102280"/>
              <a:chExt cx="1381680" cy="1101240"/>
            </a:xfrm>
          </p:grpSpPr>
          <p:sp>
            <p:nvSpPr>
              <p:cNvPr id="6207" name="Text Box 19"/>
              <p:cNvSpPr/>
              <p:nvPr/>
            </p:nvSpPr>
            <p:spPr>
              <a:xfrm>
                <a:off x="536076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Text Box 20"/>
              <p:cNvSpPr/>
              <p:nvPr/>
            </p:nvSpPr>
            <p:spPr>
              <a:xfrm>
                <a:off x="540000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6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6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B9A874-CB02-4562-A5B7-D5D9880E50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From Server:’, modified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5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6216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8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9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6220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6221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8E0986-6EBF-44F1-9EE7-B03D27C6AB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TextBox 1"/>
          <p:cNvSpPr/>
          <p:nvPr/>
        </p:nvSpPr>
        <p:spPr>
          <a:xfrm>
            <a:off x="2734200" y="1650960"/>
            <a:ext cx="59644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TextBox 2"/>
          <p:cNvSpPr/>
          <p:nvPr/>
        </p:nvSpPr>
        <p:spPr>
          <a:xfrm>
            <a:off x="2771280" y="11685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8" name="Group 13"/>
          <p:cNvGrpSpPr/>
          <p:nvPr/>
        </p:nvGrpSpPr>
        <p:grpSpPr>
          <a:xfrm>
            <a:off x="152280" y="2173320"/>
            <a:ext cx="2559240" cy="564480"/>
            <a:chOff x="152280" y="2173320"/>
            <a:chExt cx="2559240" cy="564480"/>
          </a:xfrm>
        </p:grpSpPr>
        <p:sp>
          <p:nvSpPr>
            <p:cNvPr id="6229" name="TextBox 31"/>
            <p:cNvSpPr/>
            <p:nvPr/>
          </p:nvSpPr>
          <p:spPr>
            <a:xfrm>
              <a:off x="152280" y="217332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Straight Connector 32"/>
            <p:cNvSpPr/>
            <p:nvPr/>
          </p:nvSpPr>
          <p:spPr>
            <a:xfrm>
              <a:off x="1695960" y="259560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1" name="Group 14"/>
          <p:cNvGrpSpPr/>
          <p:nvPr/>
        </p:nvGrpSpPr>
        <p:grpSpPr>
          <a:xfrm>
            <a:off x="131760" y="3036960"/>
            <a:ext cx="2540160" cy="520200"/>
            <a:chOff x="131760" y="3036960"/>
            <a:chExt cx="2540160" cy="520200"/>
          </a:xfrm>
        </p:grpSpPr>
        <p:sp>
          <p:nvSpPr>
            <p:cNvPr id="6232" name="TextBox 26"/>
            <p:cNvSpPr/>
            <p:nvPr/>
          </p:nvSpPr>
          <p:spPr>
            <a:xfrm>
              <a:off x="131760" y="303696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Straight Connector 30"/>
            <p:cNvSpPr/>
            <p:nvPr/>
          </p:nvSpPr>
          <p:spPr>
            <a:xfrm>
              <a:off x="1944720" y="332172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4" name="Group 15"/>
          <p:cNvGrpSpPr/>
          <p:nvPr/>
        </p:nvGrpSpPr>
        <p:grpSpPr>
          <a:xfrm>
            <a:off x="528480" y="3816360"/>
            <a:ext cx="2156040" cy="297000"/>
            <a:chOff x="528480" y="3816360"/>
            <a:chExt cx="2156040" cy="297000"/>
          </a:xfrm>
        </p:grpSpPr>
        <p:sp>
          <p:nvSpPr>
            <p:cNvPr id="6235" name="TextBox 34"/>
            <p:cNvSpPr/>
            <p:nvPr/>
          </p:nvSpPr>
          <p:spPr>
            <a:xfrm>
              <a:off x="528480" y="381636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Straight Connector 35"/>
            <p:cNvSpPr/>
            <p:nvPr/>
          </p:nvSpPr>
          <p:spPr>
            <a:xfrm flipV="1">
              <a:off x="1240560" y="406584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198360" y="4176720"/>
            <a:ext cx="2813040" cy="747360"/>
            <a:chOff x="198360" y="4176720"/>
            <a:chExt cx="2813040" cy="747360"/>
          </a:xfrm>
        </p:grpSpPr>
        <p:sp>
          <p:nvSpPr>
            <p:cNvPr id="6238" name="TextBox 36"/>
            <p:cNvSpPr/>
            <p:nvPr/>
          </p:nvSpPr>
          <p:spPr>
            <a:xfrm>
              <a:off x="198360" y="417672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Straight Connector 39"/>
            <p:cNvSpPr/>
            <p:nvPr/>
          </p:nvSpPr>
          <p:spPr>
            <a:xfrm flipV="1">
              <a:off x="2375280" y="444024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0" name="Group 18"/>
          <p:cNvGrpSpPr/>
          <p:nvPr/>
        </p:nvGrpSpPr>
        <p:grpSpPr>
          <a:xfrm>
            <a:off x="258840" y="5149800"/>
            <a:ext cx="2860560" cy="520200"/>
            <a:chOff x="258840" y="5149800"/>
            <a:chExt cx="2860560" cy="520200"/>
          </a:xfrm>
        </p:grpSpPr>
        <p:sp>
          <p:nvSpPr>
            <p:cNvPr id="6241" name="TextBox 61"/>
            <p:cNvSpPr/>
            <p:nvPr/>
          </p:nvSpPr>
          <p:spPr>
            <a:xfrm>
              <a:off x="258840" y="514980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Straight Connector 62"/>
            <p:cNvSpPr/>
            <p:nvPr/>
          </p:nvSpPr>
          <p:spPr>
            <a:xfrm>
              <a:off x="1818360" y="516996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3" name="Group 28"/>
          <p:cNvGrpSpPr/>
          <p:nvPr/>
        </p:nvGrpSpPr>
        <p:grpSpPr>
          <a:xfrm>
            <a:off x="127080" y="5759280"/>
            <a:ext cx="2878200" cy="733320"/>
            <a:chOff x="127080" y="5759280"/>
            <a:chExt cx="2878200" cy="733320"/>
          </a:xfrm>
        </p:grpSpPr>
        <p:sp>
          <p:nvSpPr>
            <p:cNvPr id="6244" name="TextBox 29"/>
            <p:cNvSpPr/>
            <p:nvPr/>
          </p:nvSpPr>
          <p:spPr>
            <a:xfrm>
              <a:off x="127080" y="575928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Straight Connector 33"/>
            <p:cNvSpPr/>
            <p:nvPr/>
          </p:nvSpPr>
          <p:spPr>
            <a:xfrm>
              <a:off x="2149200" y="591624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46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6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6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500"/>
                                        <p:tgtEl>
                                          <p:spTgt spid="6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6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6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6B1BE0-CE36-4DAB-92D3-FF39C1DA86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9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3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, D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3E2EEC-C511-4FAA-84BF-21AE3E7E7E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PlaceHolder 1"/>
          <p:cNvSpPr>
            <a:spLocks noGrp="1"/>
          </p:cNvSpPr>
          <p:nvPr>
            <p:ph/>
          </p:nvPr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s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: info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7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data m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sg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8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259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58C9EA-67E0-466B-BAF4-86A47C8C6B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0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4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7254AAF-0549-4719-B905-D7E9045069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7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E1F810-5DBD-4B8F-9CDC-F8E5E66811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7944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04640" y="3723840"/>
            <a:ext cx="38102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6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7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68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3A05B3-C7AD-45D4-B767-175C4499C2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1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3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742E3D-865A-465F-BEAD-5CA99A126D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533160" y="1533240"/>
            <a:ext cx="409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0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28B0F59-46BF-442F-9DB0-F49ADAB8B7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3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5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s use SSL libraries, which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encry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e Chapter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320484-E9D8-47D4-AF17-BE093D4634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351" descr="underline_base"/>
          <p:cNvPicPr/>
          <p:nvPr/>
        </p:nvPicPr>
        <p:blipFill>
          <a:blip r:embed="rId1"/>
          <a:stretch/>
        </p:blipFill>
        <p:spPr>
          <a:xfrm>
            <a:off x="460440" y="1050840"/>
            <a:ext cx="282564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FE8FBB9-B666-449F-AB2D-1F4BB0E41E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6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DE7200C-F3EF-42EE-A87B-940965DCD1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21" name="Group 10"/>
          <p:cNvGrpSpPr/>
          <p:nvPr/>
        </p:nvGrpSpPr>
        <p:grpSpPr>
          <a:xfrm>
            <a:off x="1198080" y="4486320"/>
            <a:ext cx="6839280" cy="1146960"/>
            <a:chOff x="1198080" y="4486320"/>
            <a:chExt cx="6839280" cy="1146960"/>
          </a:xfrm>
        </p:grpSpPr>
        <p:sp>
          <p:nvSpPr>
            <p:cNvPr id="2022" name="Text Box 5"/>
            <p:cNvSpPr/>
            <p:nvPr/>
          </p:nvSpPr>
          <p:spPr>
            <a:xfrm>
              <a:off x="119808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7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BDEE717-2CF8-4662-B068-18D7FE0152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7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374AFF-8058-48FA-A230-4E035804FD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2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23"/>
          <p:cNvSpPr/>
          <p:nvPr/>
        </p:nvSpPr>
        <p:spPr>
          <a:xfrm>
            <a:off x="4820760" y="5218200"/>
            <a:ext cx="152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5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2036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2039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1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656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042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2043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2046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8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2049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205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2053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8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2059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1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2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2063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7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2068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0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1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2072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4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F09396A-BB12-4BCD-A2AE-FE60A6ADB4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2" name="Rectangle 6"/>
          <p:cNvSpPr/>
          <p:nvPr/>
        </p:nvSpPr>
        <p:spPr>
          <a:xfrm>
            <a:off x="4919760" y="346392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5D2743-CCC8-4B91-B742-930EE47AFD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0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5ADB156-13EF-4206-82B5-FC1944A190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104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9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FF4F5D-BBE8-49AB-8527-B4AF8F9371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1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4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00FFDB-A76C-4CC0-BA1B-0ED60160EE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2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5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156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1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162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4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5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166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171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175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7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89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249D260-E647-48A6-AE5A-CE4D6A9EA6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6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06BB56C-1867-451E-BCD4-9FAA84F36B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9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2" name="Text Box 5"/>
          <p:cNvSpPr/>
          <p:nvPr/>
        </p:nvSpPr>
        <p:spPr>
          <a:xfrm>
            <a:off x="224640" y="303696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6"/>
          <p:cNvSpPr/>
          <p:nvPr/>
        </p:nvSpPr>
        <p:spPr>
          <a:xfrm>
            <a:off x="1925640" y="336852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7"/>
          <p:cNvSpPr/>
          <p:nvPr/>
        </p:nvSpPr>
        <p:spPr>
          <a:xfrm>
            <a:off x="2776680" y="370512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8"/>
          <p:cNvSpPr/>
          <p:nvPr/>
        </p:nvSpPr>
        <p:spPr>
          <a:xfrm>
            <a:off x="1739880" y="422280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10"/>
          <p:cNvSpPr/>
          <p:nvPr/>
        </p:nvSpPr>
        <p:spPr>
          <a:xfrm>
            <a:off x="2309760" y="578952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11"/>
          <p:cNvSpPr/>
          <p:nvPr/>
        </p:nvSpPr>
        <p:spPr>
          <a:xfrm>
            <a:off x="187560" y="5121360"/>
            <a:ext cx="234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16"/>
          <p:cNvSpPr/>
          <p:nvPr/>
        </p:nvSpPr>
        <p:spPr>
          <a:xfrm>
            <a:off x="2454840" y="340344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17"/>
          <p:cNvSpPr/>
          <p:nvPr/>
        </p:nvSpPr>
        <p:spPr>
          <a:xfrm flipH="1">
            <a:off x="6333840" y="292104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Text Box 18"/>
          <p:cNvSpPr/>
          <p:nvPr/>
        </p:nvSpPr>
        <p:spPr>
          <a:xfrm>
            <a:off x="6046920" y="263376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9"/>
          <p:cNvSpPr/>
          <p:nvPr/>
        </p:nvSpPr>
        <p:spPr>
          <a:xfrm>
            <a:off x="6197040" y="293040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Line 20"/>
          <p:cNvSpPr/>
          <p:nvPr/>
        </p:nvSpPr>
        <p:spPr>
          <a:xfrm flipH="1">
            <a:off x="6614640" y="323064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112B05-3DE1-41FA-9632-D5EE68F584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31"/>
          <p:cNvSpPr/>
          <p:nvPr/>
        </p:nvSpPr>
        <p:spPr>
          <a:xfrm>
            <a:off x="560448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23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Text Box 41"/>
            <p:cNvSpPr/>
            <p:nvPr/>
          </p:nvSpPr>
          <p:spPr>
            <a:xfrm>
              <a:off x="452484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24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52"/>
            <p:cNvSpPr/>
            <p:nvPr/>
          </p:nvSpPr>
          <p:spPr>
            <a:xfrm>
              <a:off x="452160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25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26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Group 77"/>
          <p:cNvGrpSpPr/>
          <p:nvPr/>
        </p:nvGrpSpPr>
        <p:grpSpPr>
          <a:xfrm>
            <a:off x="851040" y="4065480"/>
            <a:ext cx="1464480" cy="446040"/>
            <a:chOff x="851040" y="4065480"/>
            <a:chExt cx="1464480" cy="446040"/>
          </a:xfrm>
        </p:grpSpPr>
        <p:sp>
          <p:nvSpPr>
            <p:cNvPr id="226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Text Box 73"/>
            <p:cNvSpPr/>
            <p:nvPr/>
          </p:nvSpPr>
          <p:spPr>
            <a:xfrm>
              <a:off x="85104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27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27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DC7A18-FA5A-486C-94BE-8E45E3C32B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8" name="Text Box 5"/>
          <p:cNvSpPr/>
          <p:nvPr/>
        </p:nvSpPr>
        <p:spPr>
          <a:xfrm>
            <a:off x="178632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45E3DF-7A15-47D7-942B-DE9C763D4B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0F4ED9-68D0-4274-892C-CBFEDCB66A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E3BBEA9-009A-4D42-B4EB-DABB8CF493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0"/>
          <p:cNvSpPr/>
          <p:nvPr/>
        </p:nvSpPr>
        <p:spPr>
          <a:xfrm>
            <a:off x="293400" y="529740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0AAA5DA-9426-4F2A-8C27-6C8F1C4AB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8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1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BBE4131-5D5F-49EA-BFBE-4B6AFF6CBB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4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Text Box 5"/>
          <p:cNvSpPr/>
          <p:nvPr/>
        </p:nvSpPr>
        <p:spPr>
          <a:xfrm>
            <a:off x="3984120" y="2155680"/>
            <a:ext cx="44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at cis.poly.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11"/>
          <p:cNvSpPr/>
          <p:nvPr/>
        </p:nvSpPr>
        <p:spPr>
          <a:xfrm>
            <a:off x="4849200" y="40989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-397080" y="6029280"/>
            <a:ext cx="9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5135E0-437C-491A-BBF2-8FAA776893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1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656FC89-C2DF-4D12-BF26-44685B363C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4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36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8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339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0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341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3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344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5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346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8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351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5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356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8" name="Group 81"/>
          <p:cNvGrpSpPr/>
          <p:nvPr/>
        </p:nvGrpSpPr>
        <p:grpSpPr>
          <a:xfrm>
            <a:off x="935640" y="1922400"/>
            <a:ext cx="1069200" cy="565200"/>
            <a:chOff x="935640" y="1922400"/>
            <a:chExt cx="1069200" cy="565200"/>
          </a:xfrm>
        </p:grpSpPr>
        <p:sp>
          <p:nvSpPr>
            <p:cNvPr id="2359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Text Box 60"/>
            <p:cNvSpPr/>
            <p:nvPr/>
          </p:nvSpPr>
          <p:spPr>
            <a:xfrm>
              <a:off x="93564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362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366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9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370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373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5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376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Group 77"/>
          <p:cNvGrpSpPr/>
          <p:nvPr/>
        </p:nvGrpSpPr>
        <p:grpSpPr>
          <a:xfrm>
            <a:off x="865080" y="5351400"/>
            <a:ext cx="1389240" cy="633600"/>
            <a:chOff x="865080" y="5351400"/>
            <a:chExt cx="1389240" cy="633600"/>
          </a:xfrm>
        </p:grpSpPr>
        <p:sp>
          <p:nvSpPr>
            <p:cNvPr id="2382" name="AutoShape 78"/>
            <p:cNvSpPr/>
            <p:nvPr/>
          </p:nvSpPr>
          <p:spPr>
            <a:xfrm>
              <a:off x="935640" y="5351400"/>
              <a:ext cx="1146960" cy="6336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4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6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87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2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93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5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6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97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9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1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402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4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5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406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8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9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420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1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2A9BA6-E5FA-43FD-9A3F-46DE3F3CA1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4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7" name="Rectangle 13"/>
          <p:cNvSpPr/>
          <p:nvPr/>
        </p:nvSpPr>
        <p:spPr>
          <a:xfrm>
            <a:off x="4911840" y="1411200"/>
            <a:ext cx="3809880" cy="223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5"/>
          <p:cNvSpPr/>
          <p:nvPr/>
        </p:nvSpPr>
        <p:spPr>
          <a:xfrm>
            <a:off x="41112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F08446-956C-4D32-98E9-81B298E5E7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433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4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436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7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439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445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7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8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449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1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3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454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6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7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458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0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472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7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478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0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1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82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4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6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87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9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0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91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4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1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512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515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518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1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4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525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526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9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0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1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532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533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8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539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1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2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543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5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7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548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0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1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552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4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0791B8-D440-4EEB-A995-B79F54DDCC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7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2BCD68-553E-4769-ADF9-48E4882D04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3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574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76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2" name="Group 11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593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6" name="Group 11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597" name="Freeform 11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1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9" name="Line 11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Line 11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1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2602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5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2606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8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0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3" name="Group 139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614" name="Freeform 140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41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42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43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44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9" name="Group 145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620" name="AutoShape 146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AutoShape 147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2" name="Rectangle 148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3" name="Group 149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624" name="AutoShape 150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AutoShape 151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6" name="Rectangle 152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153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8" name="Group 154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629" name="AutoShape 155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AutoShape 156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1" name="Freeform 157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2" name="Group 158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633" name="AutoShape 159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AutoShape 160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5" name="Rectangle 161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62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63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64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65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AutoShape 166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AutoShape 167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168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Oval 169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Oval 170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71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6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2647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Group 175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650" name="Freeform 176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Rectangle 177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78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79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Rectangle 180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181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656" name="AutoShape 182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183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184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9" name="Group 185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660" name="AutoShape 186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AutoShape 187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2" name="Rectangle 188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189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4" name="Group 190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665" name="AutoShape 191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AutoShape 192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7" name="Freeform 193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8" name="Group 194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669" name="AutoShape 195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AutoShape 196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1" name="Rectangle 197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98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99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Oval 200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01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AutoShape 202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AutoShape 203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Oval 204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Oval 205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206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Rectangle 207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Group 208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683" name="Freeform 209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210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11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12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Rectangle 213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14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689" name="AutoShape 215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16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17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2" name="Group 218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693" name="AutoShape 219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AutoShape 220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Rectangle 221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222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7" name="Group 223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698" name="AutoShape 224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AutoShape 225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0" name="Freeform 226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1" name="Group 227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702" name="AutoShape 228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AutoShape 229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4" name="Rectangle 230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31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32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Oval 233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34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AutoShape 235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AutoShape 236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Oval 237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Oval 238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Oval 239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240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5" name="Group 241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716" name="Freeform 242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Rectangle 243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44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45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246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247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722" name="AutoShape 248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249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250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251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726" name="AutoShape 252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AutoShape 253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8" name="Rectangle 254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Rectangle 255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0" name="Group 256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731" name="AutoShape 257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AutoShape 258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3" name="Freeform 259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4" name="Group 260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735" name="AutoShape 261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AutoShape 262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7" name="Rectangle 263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64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65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Oval 266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67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AutoShape 268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AutoShape 269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Oval 270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Oval 271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Oval 272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273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274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749" name="Freeform 275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276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77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78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Rectangle 279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4" name="Group 280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755" name="AutoShape 281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AutoShape 282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7" name="Rectangle 283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8" name="Group 284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759" name="AutoShape 285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AutoShape 286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1" name="Rectangle 287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Rectangle 288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3" name="Group 289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2764" name="AutoShape 290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AutoShape 291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6" name="Freeform 292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7" name="Group 293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2768" name="AutoShape 294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AutoShape 295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0" name="Rectangle 296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97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98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Oval 299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300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AutoShape 301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AutoShape 302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Oval 303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Oval 304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Oval 305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Rectangle 306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1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2782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7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2788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0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1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2792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4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6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2797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9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0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2801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4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2815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6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2818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9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401792-94E1-4746-9C61-6CFA4ED83A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1EEBAAF-4D0A-46A3-9902-3563248CB1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3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53"/>
          <p:cNvSpPr/>
          <p:nvPr/>
        </p:nvSpPr>
        <p:spPr>
          <a:xfrm>
            <a:off x="67057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54"/>
          <p:cNvSpPr/>
          <p:nvPr/>
        </p:nvSpPr>
        <p:spPr>
          <a:xfrm>
            <a:off x="74473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55"/>
          <p:cNvSpPr/>
          <p:nvPr/>
        </p:nvSpPr>
        <p:spPr>
          <a:xfrm>
            <a:off x="176220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56"/>
          <p:cNvSpPr/>
          <p:nvPr/>
        </p:nvSpPr>
        <p:spPr>
          <a:xfrm>
            <a:off x="2214360" y="564516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57"/>
          <p:cNvSpPr/>
          <p:nvPr/>
        </p:nvSpPr>
        <p:spPr>
          <a:xfrm>
            <a:off x="259560" y="605160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59"/>
          <p:cNvSpPr/>
          <p:nvPr/>
        </p:nvSpPr>
        <p:spPr>
          <a:xfrm>
            <a:off x="2928960" y="4683240"/>
            <a:ext cx="706320" cy="117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Group 68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844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7" name="Group 72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848" name="Freeform 73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74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0" name="Line 75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76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77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853" name="Freeform 78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79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80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81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Rectangle 82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83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859" name="AutoShape 84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85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86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2" name="Group 87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863" name="AutoShape 88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AutoShape 89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5" name="Rectangle 90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Rectangle 91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7" name="Group 92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868" name="AutoShape 93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AutoShape 94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0" name="Freeform 95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1" name="Group 96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872" name="AutoShape 97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98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4" name="Rectangle 99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00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01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Oval 102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103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AutoShape 104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AutoShape 105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Oval 106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Oval 107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Oval 108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Rectangle 109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110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886" name="Freeform 111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Rectangle 112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13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14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115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16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892" name="AutoShape 117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18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19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5" name="Group 120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896" name="AutoShape 121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AutoShape 122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8" name="Rectangle 123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Rectangle 124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0" name="Group 125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901" name="AutoShape 126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AutoShape 127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3" name="Freeform 128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4" name="Group 129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905" name="AutoShape 130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AutoShape 131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7" name="Rectangle 132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33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34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135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136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AutoShape 137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AutoShape 138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Oval 139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Oval 140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Oval 141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Rectangle 142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Group 143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919" name="Freeform 144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Rectangle 145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146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147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148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149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925" name="AutoShape 150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151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152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8" name="Group 153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929" name="AutoShape 154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AutoShape 155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1" name="Rectangle 156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157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3" name="Group 158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934" name="AutoShape 159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AutoShape 160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6" name="Freeform 161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7" name="Group 162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938" name="AutoShape 163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AutoShape 164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0" name="Rectangle 165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66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67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Oval 168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69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AutoShape 170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AutoShape 171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172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173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Oval 174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Rectangle 175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Group 176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952" name="Freeform 177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Rectangle 178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179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80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Rectangle 181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7" name="Group 182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958" name="AutoShape 183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AutoShape 184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0" name="Rectangle 185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1" name="Group 186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962" name="AutoShape 187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AutoShape 188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4" name="Rectangle 189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Rectangle 190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6" name="Group 191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967" name="AutoShape 192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AutoShape 193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9" name="Freeform 194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0" name="Group 195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971" name="AutoShape 196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AutoShape 197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3" name="Rectangle 198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199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200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Oval 201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202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AutoShape 203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AutoShape 204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Oval 205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Oval 206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207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Rectangle 208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Group 209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985" name="Freeform 210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Rectangle 211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12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13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214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Group 215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991" name="AutoShape 216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AutoShape 217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3" name="Rectangle 218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4" name="Group 219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995" name="AutoShape 220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AutoShape 221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7" name="Rectangle 222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Rectangle 223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9" name="Group 224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000" name="AutoShape 225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AutoShape 226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2" name="Freeform 227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3" name="Group 228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004" name="AutoShape 229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AutoShape 230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6" name="Rectangle 231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232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233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Oval 234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235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AutoShape 236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AutoShape 237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238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Oval 239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Oval 240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241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7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4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025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8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029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1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3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034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5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6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037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2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043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5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6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047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9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1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052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4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5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056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8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9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70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1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73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4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5" name="Line 95"/>
          <p:cNvSpPr/>
          <p:nvPr/>
        </p:nvSpPr>
        <p:spPr>
          <a:xfrm>
            <a:off x="659124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3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084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7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088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0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093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4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5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96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7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8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99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0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D5C1CE-8BCD-4090-A5D6-C548C51EE9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109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1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Group 9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125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8" name="Group 9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129" name="Freeform 9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1" name="Line 9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9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3" name="Group 10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134" name="Freeform 10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Rectangle 10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Rectangle 10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0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140" name="AutoShape 10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0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0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Group 11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144" name="AutoShape 11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AutoShape 11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6" name="Rectangle 11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Rectangle 11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8" name="Group 11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149" name="AutoShape 11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AutoShape 11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1" name="Freeform 11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2" name="Group 11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153" name="AutoShape 12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AutoShape 12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5" name="Rectangle 12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12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12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Oval 12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12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AutoShape 12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AutoShape 12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12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13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13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Rectangle 13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Group 13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167" name="Freeform 13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3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13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13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Rectangle 13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13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173" name="AutoShape 14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14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14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6" name="Group 14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177" name="AutoShape 14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AutoShape 14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9" name="Rectangle 14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14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1" name="Group 14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182" name="AutoShape 14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AutoShape 15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4" name="Freeform 15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5" name="Group 15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186" name="AutoShape 15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AutoShape 15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8" name="Rectangle 15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5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5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Oval 15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5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AutoShape 16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AutoShape 16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Oval 16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Oval 16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Oval 16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Rectangle 16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9" name="Group 16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200" name="Freeform 16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6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16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17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Rectangle 17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17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206" name="AutoShape 17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17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17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9" name="Group 17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210" name="AutoShape 17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AutoShape 17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2" name="Rectangle 17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Rectangle 18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4" name="Group 18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215" name="AutoShape 18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AutoShape 18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7" name="Freeform 18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8" name="Group 18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219" name="AutoShape 18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AutoShape 18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1" name="Rectangle 18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18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19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Oval 19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19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AutoShape 19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AutoShape 19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Oval 19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Oval 19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Oval 19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Rectangle 19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Group 19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233" name="Freeform 20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Rectangle 20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20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20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Rectangle 20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20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239" name="AutoShape 20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20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20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2" name="Group 20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243" name="AutoShape 21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AutoShape 21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5" name="Rectangle 21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Rectangle 21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7" name="Group 21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248" name="AutoShape 21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AutoShape 21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Freeform 21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1" name="Group 21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252" name="AutoShape 21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AutoShape 22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4" name="Rectangle 22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22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22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22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22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AutoShape 22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AutoShape 22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22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22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Oval 23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Rectangle 23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Group 23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266" name="Freeform 23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Rectangle 23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23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23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Rectangle 23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1" name="Group 23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272" name="AutoShape 23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AutoShape 24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4" name="Rectangle 24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5" name="Group 24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276" name="AutoShape 24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AutoShape 24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8" name="Rectangle 24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Rectangle 24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0" name="Group 24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281" name="AutoShape 24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AutoShape 24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3" name="Freeform 25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25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285" name="AutoShape 25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25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25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25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25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Oval 25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25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AutoShape 25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AutoShape 26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Oval 26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Oval 26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Oval 26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Rectangle 26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8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299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4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305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7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8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309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1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314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6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318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0C03C4A-BE4B-4C20-B652-FD40D0F421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3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509760" y="129060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6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Rectangle 4"/>
          <p:cNvSpPr/>
          <p:nvPr/>
        </p:nvSpPr>
        <p:spPr>
          <a:xfrm>
            <a:off x="506520" y="3057480"/>
            <a:ext cx="4459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rate to browsers over access link 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Rectangle 4"/>
          <p:cNvSpPr/>
          <p:nvPr/>
        </p:nvSpPr>
        <p:spPr>
          <a:xfrm>
            <a:off x="538200" y="4557600"/>
            <a:ext cx="44593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8" name="Group 7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349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2" name="Group 7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353" name="Freeform 7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7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Line 7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Line 7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Group 8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358" name="Freeform 8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Rectangle 8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8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8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Rectangle 8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8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364" name="AutoShape 8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8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8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7" name="Group 9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368" name="AutoShape 9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AutoShape 9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0" name="Rectangle 9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Rectangle 9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2" name="Group 9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373" name="AutoShape 9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AutoShape 9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5" name="Freeform 9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6" name="Group 9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377" name="AutoShape 10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AutoShape 10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9" name="Rectangle 10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0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0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Oval 10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0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AutoShape 10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AutoShape 10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Oval 10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Oval 11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Oval 11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Rectangle 11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0" name="Group 11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391" name="Freeform 11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11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1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1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Rectangle 11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1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397" name="AutoShape 12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12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12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0" name="Group 12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401" name="AutoShape 12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AutoShape 12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3" name="Rectangle 12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Rectangle 12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5" name="Group 12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406" name="AutoShape 12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AutoShape 13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8" name="Freeform 13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9" name="Group 13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410" name="AutoShape 13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AutoShape 13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2" name="Rectangle 13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3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3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Oval 13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3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AutoShape 14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AutoShape 14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Oval 14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Oval 14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Oval 14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Rectangle 14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4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424" name="Freeform 14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14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4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5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Rectangle 15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15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430" name="AutoShape 15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15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15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3" name="Group 15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434" name="AutoShape 15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AutoShape 15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6" name="Rectangle 15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16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8" name="Group 16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439" name="AutoShape 16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AutoShape 16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1" name="Freeform 16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2" name="Group 16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443" name="AutoShape 16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AutoShape 16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5" name="Rectangle 16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6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7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Oval 17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7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AutoShape 17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AutoShape 17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Oval 17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17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Oval 17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Rectangle 17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6" name="Group 17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457" name="Freeform 18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Rectangle 18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18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18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Rectangle 18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2" name="Group 18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463" name="AutoShape 18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AutoShape 18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5" name="Rectangle 18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6" name="Group 18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467" name="AutoShape 19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AutoShape 19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9" name="Rectangle 19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Rectangle 19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1" name="Group 19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472" name="AutoShape 19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AutoShape 19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4" name="Freeform 19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5" name="Group 19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476" name="AutoShape 19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AutoShape 20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8" name="Rectangle 20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20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20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Oval 20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20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AutoShape 20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AutoShape 20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Oval 20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Oval 20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Oval 21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Rectangle 21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9" name="Group 21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490" name="Freeform 21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Rectangle 21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21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21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Rectangle 21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5" name="Group 21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496" name="AutoShape 21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AutoShape 22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8" name="Rectangle 22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9" name="Group 22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500" name="AutoShape 22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AutoShape 22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2" name="Rectangle 22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22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4" name="Group 22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505" name="AutoShape 22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AutoShape 22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7" name="Freeform 23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8" name="Group 23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509" name="AutoShape 23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AutoShape 23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1" name="Rectangle 23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23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23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Oval 23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23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AutoShape 23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AutoShape 24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Oval 24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Oval 24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24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Rectangle 24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2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530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3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534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6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539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0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542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3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545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6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548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551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557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9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0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561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5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566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8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9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570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2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DD82EF1-D291-4831-A15E-6F5467B802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7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0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91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3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2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603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604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9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610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2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3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614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6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8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619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1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2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623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5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6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637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8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3E38C8-A0C8-4911-9240-24FA51419A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4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D34C1A7-2BF6-4807-8678-32A5FC3B75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7" name="Picture 48" descr="underline_base"/>
          <p:cNvPicPr/>
          <p:nvPr/>
        </p:nvPicPr>
        <p:blipFill>
          <a:blip r:embed="rId1"/>
          <a:stretch/>
        </p:blipFill>
        <p:spPr>
          <a:xfrm>
            <a:off x="414360" y="8352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3648" name="Freeform 46"/>
          <p:cNvSpPr/>
          <p:nvPr/>
        </p:nvSpPr>
        <p:spPr>
          <a:xfrm>
            <a:off x="6161040" y="2220840"/>
            <a:ext cx="1100160" cy="28260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93" h="178">
                <a:moveTo>
                  <a:pt x="0" y="116"/>
                </a:moveTo>
                <a:lnTo>
                  <a:pt x="247" y="0"/>
                </a:lnTo>
                <a:lnTo>
                  <a:pt x="693" y="0"/>
                </a:lnTo>
                <a:lnTo>
                  <a:pt x="137" y="178"/>
                </a:lnTo>
                <a:lnTo>
                  <a:pt x="0" y="11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Freeform 43"/>
          <p:cNvSpPr/>
          <p:nvPr/>
        </p:nvSpPr>
        <p:spPr>
          <a:xfrm>
            <a:off x="2602080" y="2220840"/>
            <a:ext cx="1784160" cy="28260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4" h="178">
                <a:moveTo>
                  <a:pt x="0" y="178"/>
                </a:moveTo>
                <a:lnTo>
                  <a:pt x="41" y="7"/>
                </a:lnTo>
                <a:lnTo>
                  <a:pt x="1124" y="0"/>
                </a:lnTo>
                <a:lnTo>
                  <a:pt x="247" y="171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380880" y="2062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: the file transfer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51" name="Text Box 16"/>
          <p:cNvSpPr/>
          <p:nvPr/>
        </p:nvSpPr>
        <p:spPr>
          <a:xfrm>
            <a:off x="4645080" y="125568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l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2" name="Group 17"/>
          <p:cNvGrpSpPr/>
          <p:nvPr/>
        </p:nvGrpSpPr>
        <p:grpSpPr>
          <a:xfrm>
            <a:off x="6539400" y="1411200"/>
            <a:ext cx="744480" cy="828720"/>
            <a:chOff x="6539400" y="1411200"/>
            <a:chExt cx="744480" cy="828720"/>
          </a:xfrm>
        </p:grpSpPr>
        <p:sp>
          <p:nvSpPr>
            <p:cNvPr id="3653" name="Rectangle 18"/>
            <p:cNvSpPr/>
            <p:nvPr/>
          </p:nvSpPr>
          <p:spPr>
            <a:xfrm>
              <a:off x="6562440" y="141120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Text Box 19"/>
            <p:cNvSpPr/>
            <p:nvPr/>
          </p:nvSpPr>
          <p:spPr>
            <a:xfrm>
              <a:off x="6539400" y="1533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Group 20"/>
          <p:cNvGrpSpPr/>
          <p:nvPr/>
        </p:nvGrpSpPr>
        <p:grpSpPr>
          <a:xfrm>
            <a:off x="2583000" y="1401840"/>
            <a:ext cx="1788480" cy="851040"/>
            <a:chOff x="2583000" y="1401840"/>
            <a:chExt cx="1788480" cy="851040"/>
          </a:xfrm>
        </p:grpSpPr>
        <p:sp>
          <p:nvSpPr>
            <p:cNvPr id="3656" name="Rectangle 21"/>
            <p:cNvSpPr/>
            <p:nvPr/>
          </p:nvSpPr>
          <p:spPr>
            <a:xfrm>
              <a:off x="3666960" y="1401840"/>
              <a:ext cx="7045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Rectangle 22"/>
            <p:cNvSpPr/>
            <p:nvPr/>
          </p:nvSpPr>
          <p:spPr>
            <a:xfrm>
              <a:off x="2676240" y="1411560"/>
              <a:ext cx="96156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Text Box 23"/>
            <p:cNvSpPr/>
            <p:nvPr/>
          </p:nvSpPr>
          <p:spPr>
            <a:xfrm>
              <a:off x="2583000" y="1428840"/>
              <a:ext cx="117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Text Box 24"/>
            <p:cNvSpPr/>
            <p:nvPr/>
          </p:nvSpPr>
          <p:spPr>
            <a:xfrm>
              <a:off x="3687840" y="152424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0" name="Text Box 32"/>
          <p:cNvSpPr/>
          <p:nvPr/>
        </p:nvSpPr>
        <p:spPr>
          <a:xfrm>
            <a:off x="3881520" y="2522520"/>
            <a:ext cx="107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Line 33"/>
          <p:cNvSpPr/>
          <p:nvPr/>
        </p:nvSpPr>
        <p:spPr>
          <a:xfrm>
            <a:off x="3219480" y="223992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Line 34"/>
          <p:cNvSpPr/>
          <p:nvPr/>
        </p:nvSpPr>
        <p:spPr>
          <a:xfrm flipH="1">
            <a:off x="3714840" y="22305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41"/>
          <p:cNvSpPr/>
          <p:nvPr/>
        </p:nvSpPr>
        <p:spPr>
          <a:xfrm>
            <a:off x="7161120" y="233352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Line 42"/>
          <p:cNvSpPr/>
          <p:nvPr/>
        </p:nvSpPr>
        <p:spPr>
          <a:xfrm>
            <a:off x="6915240" y="223992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5" name="Picture 43" descr="Alice"/>
          <p:cNvPicPr/>
          <p:nvPr/>
        </p:nvPicPr>
        <p:blipFill>
          <a:blip r:embed="rId2"/>
          <a:stretch/>
        </p:blipFill>
        <p:spPr>
          <a:xfrm>
            <a:off x="1490760" y="145404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666" name="Text Box 44"/>
          <p:cNvSpPr/>
          <p:nvPr/>
        </p:nvSpPr>
        <p:spPr>
          <a:xfrm>
            <a:off x="1379520" y="216216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45"/>
          <p:cNvSpPr/>
          <p:nvPr/>
        </p:nvSpPr>
        <p:spPr>
          <a:xfrm>
            <a:off x="2028960" y="184932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AutoShape 327"/>
          <p:cNvSpPr/>
          <p:nvPr/>
        </p:nvSpPr>
        <p:spPr>
          <a:xfrm>
            <a:off x="3333600" y="2673360"/>
            <a:ext cx="570240" cy="428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AutoShape 327"/>
          <p:cNvSpPr/>
          <p:nvPr/>
        </p:nvSpPr>
        <p:spPr>
          <a:xfrm>
            <a:off x="6665760" y="2629080"/>
            <a:ext cx="570240" cy="42840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744480" y="3751200"/>
            <a:ext cx="80136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file to/from remot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side that initiates transfer (either to/from rem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remot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: RFC 9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 server: port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Line 49"/>
          <p:cNvSpPr/>
          <p:nvPr/>
        </p:nvSpPr>
        <p:spPr>
          <a:xfrm>
            <a:off x="4365720" y="1714680"/>
            <a:ext cx="218736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2" name="Group 51"/>
          <p:cNvGrpSpPr/>
          <p:nvPr/>
        </p:nvGrpSpPr>
        <p:grpSpPr>
          <a:xfrm>
            <a:off x="6008760" y="2327400"/>
            <a:ext cx="476280" cy="749160"/>
            <a:chOff x="6008760" y="2327400"/>
            <a:chExt cx="476280" cy="749160"/>
          </a:xfrm>
        </p:grpSpPr>
        <p:sp>
          <p:nvSpPr>
            <p:cNvPr id="3673" name="Freeform 52"/>
            <p:cNvSpPr/>
            <p:nvPr/>
          </p:nvSpPr>
          <p:spPr>
            <a:xfrm>
              <a:off x="6385320" y="2328480"/>
              <a:ext cx="94320" cy="714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714960"/>
                <a:gd name="textAreaBottom" fmla="*/ 715320 h 7149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Rectangle 53"/>
            <p:cNvSpPr/>
            <p:nvPr/>
          </p:nvSpPr>
          <p:spPr>
            <a:xfrm>
              <a:off x="6031080" y="2327400"/>
              <a:ext cx="348840" cy="714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54"/>
            <p:cNvSpPr/>
            <p:nvPr/>
          </p:nvSpPr>
          <p:spPr>
            <a:xfrm>
              <a:off x="6403320" y="2371320"/>
              <a:ext cx="56160" cy="6613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5"/>
            <p:cNvSpPr/>
            <p:nvPr/>
          </p:nvSpPr>
          <p:spPr>
            <a:xfrm>
              <a:off x="6390720" y="2706120"/>
              <a:ext cx="87840" cy="590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Rectangle 56"/>
            <p:cNvSpPr/>
            <p:nvPr/>
          </p:nvSpPr>
          <p:spPr>
            <a:xfrm>
              <a:off x="6032160" y="240984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8" name="Group 57"/>
            <p:cNvGrpSpPr/>
            <p:nvPr/>
          </p:nvGrpSpPr>
          <p:grpSpPr>
            <a:xfrm>
              <a:off x="6212160" y="2401920"/>
              <a:ext cx="194040" cy="45000"/>
              <a:chOff x="6212160" y="2401920"/>
              <a:chExt cx="194040" cy="45000"/>
            </a:xfrm>
          </p:grpSpPr>
          <p:sp>
            <p:nvSpPr>
              <p:cNvPr id="3679" name="AutoShape 58"/>
              <p:cNvSpPr/>
              <p:nvPr/>
            </p:nvSpPr>
            <p:spPr>
              <a:xfrm>
                <a:off x="6212160" y="2401920"/>
                <a:ext cx="1940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59"/>
              <p:cNvSpPr/>
              <p:nvPr/>
            </p:nvSpPr>
            <p:spPr>
              <a:xfrm>
                <a:off x="6216840" y="2406240"/>
                <a:ext cx="181440" cy="3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1" name="Rectangle 60"/>
            <p:cNvSpPr/>
            <p:nvPr/>
          </p:nvSpPr>
          <p:spPr>
            <a:xfrm>
              <a:off x="6037200" y="251136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2" name="Group 61"/>
            <p:cNvGrpSpPr/>
            <p:nvPr/>
          </p:nvGrpSpPr>
          <p:grpSpPr>
            <a:xfrm>
              <a:off x="6211440" y="2503800"/>
              <a:ext cx="194040" cy="41760"/>
              <a:chOff x="6211440" y="2503800"/>
              <a:chExt cx="194040" cy="41760"/>
            </a:xfrm>
          </p:grpSpPr>
          <p:sp>
            <p:nvSpPr>
              <p:cNvPr id="3683" name="AutoShape 62"/>
              <p:cNvSpPr/>
              <p:nvPr/>
            </p:nvSpPr>
            <p:spPr>
              <a:xfrm>
                <a:off x="6211440" y="2503800"/>
                <a:ext cx="1940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AutoShape 63"/>
              <p:cNvSpPr/>
              <p:nvPr/>
            </p:nvSpPr>
            <p:spPr>
              <a:xfrm>
                <a:off x="6216120" y="2508480"/>
                <a:ext cx="1846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Rectangle 64"/>
            <p:cNvSpPr/>
            <p:nvPr/>
          </p:nvSpPr>
          <p:spPr>
            <a:xfrm>
              <a:off x="6033960" y="261792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Rectangle 65"/>
            <p:cNvSpPr/>
            <p:nvPr/>
          </p:nvSpPr>
          <p:spPr>
            <a:xfrm>
              <a:off x="6038640" y="271152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7" name="Group 66"/>
            <p:cNvGrpSpPr/>
            <p:nvPr/>
          </p:nvGrpSpPr>
          <p:grpSpPr>
            <a:xfrm>
              <a:off x="6207480" y="2702160"/>
              <a:ext cx="194400" cy="47160"/>
              <a:chOff x="6207480" y="2702160"/>
              <a:chExt cx="194400" cy="47160"/>
            </a:xfrm>
          </p:grpSpPr>
          <p:sp>
            <p:nvSpPr>
              <p:cNvPr id="3688" name="AutoShape 67"/>
              <p:cNvSpPr/>
              <p:nvPr/>
            </p:nvSpPr>
            <p:spPr>
              <a:xfrm>
                <a:off x="6207480" y="2702160"/>
                <a:ext cx="194400" cy="47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AutoShape 68"/>
              <p:cNvSpPr/>
              <p:nvPr/>
            </p:nvSpPr>
            <p:spPr>
              <a:xfrm>
                <a:off x="6212160" y="2706840"/>
                <a:ext cx="18504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0" name="Freeform 69"/>
            <p:cNvSpPr/>
            <p:nvPr/>
          </p:nvSpPr>
          <p:spPr>
            <a:xfrm>
              <a:off x="6392160" y="2616480"/>
              <a:ext cx="87480" cy="58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1" name="Group 70"/>
            <p:cNvGrpSpPr/>
            <p:nvPr/>
          </p:nvGrpSpPr>
          <p:grpSpPr>
            <a:xfrm>
              <a:off x="6208920" y="2608200"/>
              <a:ext cx="194400" cy="43200"/>
              <a:chOff x="6208920" y="2608200"/>
              <a:chExt cx="194400" cy="43200"/>
            </a:xfrm>
          </p:grpSpPr>
          <p:sp>
            <p:nvSpPr>
              <p:cNvPr id="3692" name="AutoShape 71"/>
              <p:cNvSpPr/>
              <p:nvPr/>
            </p:nvSpPr>
            <p:spPr>
              <a:xfrm>
                <a:off x="6208920" y="2608200"/>
                <a:ext cx="19440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AutoShape 72"/>
              <p:cNvSpPr/>
              <p:nvPr/>
            </p:nvSpPr>
            <p:spPr>
              <a:xfrm>
                <a:off x="6213600" y="2612880"/>
                <a:ext cx="18504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4" name="Rectangle 73"/>
            <p:cNvSpPr/>
            <p:nvPr/>
          </p:nvSpPr>
          <p:spPr>
            <a:xfrm>
              <a:off x="6380280" y="2327400"/>
              <a:ext cx="22320" cy="715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74"/>
            <p:cNvSpPr/>
            <p:nvPr/>
          </p:nvSpPr>
          <p:spPr>
            <a:xfrm>
              <a:off x="6400080" y="25081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75"/>
            <p:cNvSpPr/>
            <p:nvPr/>
          </p:nvSpPr>
          <p:spPr>
            <a:xfrm>
              <a:off x="6401160" y="2405880"/>
              <a:ext cx="81360" cy="7488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Oval 76"/>
            <p:cNvSpPr/>
            <p:nvPr/>
          </p:nvSpPr>
          <p:spPr>
            <a:xfrm>
              <a:off x="6469200" y="3009960"/>
              <a:ext cx="1584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77"/>
            <p:cNvSpPr/>
            <p:nvPr/>
          </p:nvSpPr>
          <p:spPr>
            <a:xfrm>
              <a:off x="6396840" y="3010680"/>
              <a:ext cx="81720" cy="622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AutoShape 78"/>
            <p:cNvSpPr/>
            <p:nvPr/>
          </p:nvSpPr>
          <p:spPr>
            <a:xfrm>
              <a:off x="6008760" y="3030840"/>
              <a:ext cx="399960" cy="45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AutoShape 79"/>
            <p:cNvSpPr/>
            <p:nvPr/>
          </p:nvSpPr>
          <p:spPr>
            <a:xfrm>
              <a:off x="6031080" y="3041640"/>
              <a:ext cx="357120" cy="2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Oval 80"/>
            <p:cNvSpPr/>
            <p:nvPr/>
          </p:nvSpPr>
          <p:spPr>
            <a:xfrm>
              <a:off x="6064200" y="2938320"/>
              <a:ext cx="5400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Oval 81"/>
            <p:cNvSpPr/>
            <p:nvPr/>
          </p:nvSpPr>
          <p:spPr>
            <a:xfrm>
              <a:off x="6124680" y="2938320"/>
              <a:ext cx="54000" cy="44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Oval 82"/>
            <p:cNvSpPr/>
            <p:nvPr/>
          </p:nvSpPr>
          <p:spPr>
            <a:xfrm>
              <a:off x="6183360" y="2938320"/>
              <a:ext cx="522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Rectangle 83"/>
            <p:cNvSpPr/>
            <p:nvPr/>
          </p:nvSpPr>
          <p:spPr>
            <a:xfrm>
              <a:off x="6316560" y="2766960"/>
              <a:ext cx="28440" cy="2379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5" name="Group 84"/>
          <p:cNvGrpSpPr/>
          <p:nvPr/>
        </p:nvGrpSpPr>
        <p:grpSpPr>
          <a:xfrm>
            <a:off x="2220840" y="2352600"/>
            <a:ext cx="830160" cy="849240"/>
            <a:chOff x="2220840" y="2352600"/>
            <a:chExt cx="830160" cy="849240"/>
          </a:xfrm>
        </p:grpSpPr>
        <p:pic>
          <p:nvPicPr>
            <p:cNvPr id="3706" name="Picture 8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220840" y="2352600"/>
              <a:ext cx="830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7" name="Freeform 86"/>
            <p:cNvSpPr/>
            <p:nvPr/>
          </p:nvSpPr>
          <p:spPr>
            <a:xfrm flipH="1">
              <a:off x="2573640" y="2433960"/>
              <a:ext cx="403560" cy="388800"/>
            </a:xfrm>
            <a:custGeom>
              <a:avLst/>
              <a:gdLst>
                <a:gd name="textAreaLeft" fmla="*/ -360 w 403560"/>
                <a:gd name="textAreaRight" fmla="*/ 403560 w 4035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80ABC7-8594-4FE0-A634-37D3369049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336600" y="163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TP: separate control, data connection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399600" y="1504800"/>
            <a:ext cx="431820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client contacts FTP server at port 21, using TCP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authorized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browses remote directory, sends commands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server receives file transfer command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pe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data connection (for file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fter transferring one file, server closes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2" name="Text Box 15"/>
          <p:cNvSpPr/>
          <p:nvPr/>
        </p:nvSpPr>
        <p:spPr>
          <a:xfrm>
            <a:off x="4841280" y="2533680"/>
            <a:ext cx="712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16"/>
          <p:cNvSpPr/>
          <p:nvPr/>
        </p:nvSpPr>
        <p:spPr>
          <a:xfrm>
            <a:off x="7858800" y="2543040"/>
            <a:ext cx="81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Line 17"/>
          <p:cNvSpPr/>
          <p:nvPr/>
        </p:nvSpPr>
        <p:spPr>
          <a:xfrm>
            <a:off x="5508720" y="2011320"/>
            <a:ext cx="25621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Line 18"/>
          <p:cNvSpPr/>
          <p:nvPr/>
        </p:nvSpPr>
        <p:spPr>
          <a:xfrm flipV="1">
            <a:off x="5527800" y="2325240"/>
            <a:ext cx="2562120" cy="97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Text Box 19"/>
          <p:cNvSpPr/>
          <p:nvPr/>
        </p:nvSpPr>
        <p:spPr>
          <a:xfrm>
            <a:off x="5580000" y="147312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control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20"/>
          <p:cNvSpPr/>
          <p:nvPr/>
        </p:nvSpPr>
        <p:spPr>
          <a:xfrm>
            <a:off x="5554800" y="240048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data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4703760" y="3425760"/>
            <a:ext cx="406728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opens another TCP data connection to transfer anoth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connection: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ut of band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server maintain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urrent directory, earlie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9" name="Picture 28" descr="underline_base"/>
          <p:cNvPicPr/>
          <p:nvPr/>
        </p:nvPicPr>
        <p:blipFill>
          <a:blip r:embed="rId1"/>
          <a:stretch/>
        </p:blipFill>
        <p:spPr>
          <a:xfrm>
            <a:off x="366840" y="8683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3720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32"/>
          <p:cNvGrpSpPr/>
          <p:nvPr/>
        </p:nvGrpSpPr>
        <p:grpSpPr>
          <a:xfrm>
            <a:off x="8129520" y="1674720"/>
            <a:ext cx="444240" cy="728640"/>
            <a:chOff x="8129520" y="1674720"/>
            <a:chExt cx="444240" cy="728640"/>
          </a:xfrm>
        </p:grpSpPr>
        <p:sp>
          <p:nvSpPr>
            <p:cNvPr id="3722" name="Freeform 33"/>
            <p:cNvSpPr/>
            <p:nvPr/>
          </p:nvSpPr>
          <p:spPr>
            <a:xfrm>
              <a:off x="8481600" y="1675800"/>
              <a:ext cx="88200" cy="695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34"/>
            <p:cNvSpPr/>
            <p:nvPr/>
          </p:nvSpPr>
          <p:spPr>
            <a:xfrm>
              <a:off x="8150040" y="1674720"/>
              <a:ext cx="326880" cy="6951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5"/>
            <p:cNvSpPr/>
            <p:nvPr/>
          </p:nvSpPr>
          <p:spPr>
            <a:xfrm>
              <a:off x="8498160" y="1717560"/>
              <a:ext cx="52560" cy="643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6"/>
            <p:cNvSpPr/>
            <p:nvPr/>
          </p:nvSpPr>
          <p:spPr>
            <a:xfrm>
              <a:off x="8486640" y="2043000"/>
              <a:ext cx="82080" cy="572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Rectangle 37"/>
            <p:cNvSpPr/>
            <p:nvPr/>
          </p:nvSpPr>
          <p:spPr>
            <a:xfrm>
              <a:off x="8151480" y="175536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7" name="Group 38"/>
            <p:cNvGrpSpPr/>
            <p:nvPr/>
          </p:nvGrpSpPr>
          <p:grpSpPr>
            <a:xfrm>
              <a:off x="8319600" y="1747440"/>
              <a:ext cx="181080" cy="43920"/>
              <a:chOff x="8319600" y="1747440"/>
              <a:chExt cx="181080" cy="43920"/>
            </a:xfrm>
          </p:grpSpPr>
          <p:sp>
            <p:nvSpPr>
              <p:cNvPr id="3728" name="AutoShape 39"/>
              <p:cNvSpPr/>
              <p:nvPr/>
            </p:nvSpPr>
            <p:spPr>
              <a:xfrm>
                <a:off x="8319600" y="1747440"/>
                <a:ext cx="18108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AutoShape 40"/>
              <p:cNvSpPr/>
              <p:nvPr/>
            </p:nvSpPr>
            <p:spPr>
              <a:xfrm>
                <a:off x="8324280" y="1752120"/>
                <a:ext cx="171720" cy="3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0" name="Rectangle 41"/>
            <p:cNvSpPr/>
            <p:nvPr/>
          </p:nvSpPr>
          <p:spPr>
            <a:xfrm>
              <a:off x="8156520" y="185400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1" name="Group 42"/>
            <p:cNvGrpSpPr/>
            <p:nvPr/>
          </p:nvGrpSpPr>
          <p:grpSpPr>
            <a:xfrm>
              <a:off x="8318880" y="1846440"/>
              <a:ext cx="181080" cy="40680"/>
              <a:chOff x="8318880" y="1846440"/>
              <a:chExt cx="181080" cy="40680"/>
            </a:xfrm>
          </p:grpSpPr>
          <p:sp>
            <p:nvSpPr>
              <p:cNvPr id="3732" name="AutoShape 43"/>
              <p:cNvSpPr/>
              <p:nvPr/>
            </p:nvSpPr>
            <p:spPr>
              <a:xfrm>
                <a:off x="8318880" y="1846440"/>
                <a:ext cx="1810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AutoShape 44"/>
              <p:cNvSpPr/>
              <p:nvPr/>
            </p:nvSpPr>
            <p:spPr>
              <a:xfrm>
                <a:off x="8323560" y="1850760"/>
                <a:ext cx="1717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Rectangle 45"/>
            <p:cNvSpPr/>
            <p:nvPr/>
          </p:nvSpPr>
          <p:spPr>
            <a:xfrm>
              <a:off x="8152920" y="195732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Rectangle 46"/>
            <p:cNvSpPr/>
            <p:nvPr/>
          </p:nvSpPr>
          <p:spPr>
            <a:xfrm>
              <a:off x="8156520" y="204804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47"/>
            <p:cNvGrpSpPr/>
            <p:nvPr/>
          </p:nvGrpSpPr>
          <p:grpSpPr>
            <a:xfrm>
              <a:off x="8315280" y="2039040"/>
              <a:ext cx="181440" cy="45720"/>
              <a:chOff x="8315280" y="2039040"/>
              <a:chExt cx="181440" cy="45720"/>
            </a:xfrm>
          </p:grpSpPr>
          <p:sp>
            <p:nvSpPr>
              <p:cNvPr id="3737" name="AutoShape 48"/>
              <p:cNvSpPr/>
              <p:nvPr/>
            </p:nvSpPr>
            <p:spPr>
              <a:xfrm>
                <a:off x="8315280" y="2039040"/>
                <a:ext cx="1814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AutoShape 49"/>
              <p:cNvSpPr/>
              <p:nvPr/>
            </p:nvSpPr>
            <p:spPr>
              <a:xfrm>
                <a:off x="8319960" y="2044080"/>
                <a:ext cx="17208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9" name="Freeform 50"/>
            <p:cNvSpPr/>
            <p:nvPr/>
          </p:nvSpPr>
          <p:spPr>
            <a:xfrm>
              <a:off x="8487720" y="1955880"/>
              <a:ext cx="81720" cy="5688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0" name="Group 51"/>
            <p:cNvGrpSpPr/>
            <p:nvPr/>
          </p:nvGrpSpPr>
          <p:grpSpPr>
            <a:xfrm>
              <a:off x="8316360" y="1947600"/>
              <a:ext cx="181440" cy="42120"/>
              <a:chOff x="8316360" y="1947600"/>
              <a:chExt cx="181440" cy="42120"/>
            </a:xfrm>
          </p:grpSpPr>
          <p:sp>
            <p:nvSpPr>
              <p:cNvPr id="3741" name="AutoShape 52"/>
              <p:cNvSpPr/>
              <p:nvPr/>
            </p:nvSpPr>
            <p:spPr>
              <a:xfrm>
                <a:off x="8316360" y="1947600"/>
                <a:ext cx="181440" cy="42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AutoShape 53"/>
              <p:cNvSpPr/>
              <p:nvPr/>
            </p:nvSpPr>
            <p:spPr>
              <a:xfrm>
                <a:off x="8321040" y="1952280"/>
                <a:ext cx="1720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3" name="Rectangle 54"/>
            <p:cNvSpPr/>
            <p:nvPr/>
          </p:nvSpPr>
          <p:spPr>
            <a:xfrm>
              <a:off x="8475480" y="1674720"/>
              <a:ext cx="20520" cy="69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55"/>
            <p:cNvSpPr/>
            <p:nvPr/>
          </p:nvSpPr>
          <p:spPr>
            <a:xfrm>
              <a:off x="8495280" y="185040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56"/>
            <p:cNvSpPr/>
            <p:nvPr/>
          </p:nvSpPr>
          <p:spPr>
            <a:xfrm>
              <a:off x="8496360" y="1751040"/>
              <a:ext cx="75960" cy="727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Oval 57"/>
            <p:cNvSpPr/>
            <p:nvPr/>
          </p:nvSpPr>
          <p:spPr>
            <a:xfrm>
              <a:off x="8559720" y="2338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58"/>
            <p:cNvSpPr/>
            <p:nvPr/>
          </p:nvSpPr>
          <p:spPr>
            <a:xfrm>
              <a:off x="8492040" y="2339280"/>
              <a:ext cx="76320" cy="608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AutoShape 59"/>
            <p:cNvSpPr/>
            <p:nvPr/>
          </p:nvSpPr>
          <p:spPr>
            <a:xfrm>
              <a:off x="8129520" y="2359080"/>
              <a:ext cx="374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AutoShape 60"/>
            <p:cNvSpPr/>
            <p:nvPr/>
          </p:nvSpPr>
          <p:spPr>
            <a:xfrm>
              <a:off x="8150040" y="2368440"/>
              <a:ext cx="333720" cy="2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Oval 61"/>
            <p:cNvSpPr/>
            <p:nvPr/>
          </p:nvSpPr>
          <p:spPr>
            <a:xfrm>
              <a:off x="8181720" y="2268360"/>
              <a:ext cx="4932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Oval 62"/>
            <p:cNvSpPr/>
            <p:nvPr/>
          </p:nvSpPr>
          <p:spPr>
            <a:xfrm>
              <a:off x="8237520" y="2270160"/>
              <a:ext cx="4932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Oval 63"/>
            <p:cNvSpPr/>
            <p:nvPr/>
          </p:nvSpPr>
          <p:spPr>
            <a:xfrm>
              <a:off x="8292960" y="2268360"/>
              <a:ext cx="4932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Rectangle 64"/>
            <p:cNvSpPr/>
            <p:nvPr/>
          </p:nvSpPr>
          <p:spPr>
            <a:xfrm>
              <a:off x="8416800" y="2101680"/>
              <a:ext cx="27000" cy="2314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Group 65"/>
          <p:cNvGrpSpPr/>
          <p:nvPr/>
        </p:nvGrpSpPr>
        <p:grpSpPr>
          <a:xfrm>
            <a:off x="4655880" y="1665360"/>
            <a:ext cx="873000" cy="893520"/>
            <a:chOff x="4655880" y="1665360"/>
            <a:chExt cx="873000" cy="893520"/>
          </a:xfrm>
        </p:grpSpPr>
        <p:pic>
          <p:nvPicPr>
            <p:cNvPr id="3755" name="Picture 66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55880" y="1665360"/>
              <a:ext cx="87300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6" name="Freeform 67"/>
            <p:cNvSpPr/>
            <p:nvPr/>
          </p:nvSpPr>
          <p:spPr>
            <a:xfrm flipH="1">
              <a:off x="5027400" y="1750680"/>
              <a:ext cx="424440" cy="408960"/>
            </a:xfrm>
            <a:custGeom>
              <a:avLst/>
              <a:gdLst>
                <a:gd name="textAreaLeft" fmla="*/ -360 w 424440"/>
                <a:gd name="textAreaRight" fmla="*/ 424440 w 424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CCC6047-69AD-460B-A19A-D088AC9501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9" name="Picture 11" descr="underline_base"/>
          <p:cNvPicPr/>
          <p:nvPr/>
        </p:nvPicPr>
        <p:blipFill>
          <a:blip r:embed="rId1"/>
          <a:stretch/>
        </p:blipFill>
        <p:spPr>
          <a:xfrm>
            <a:off x="407880" y="892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336600" y="271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 commands, respons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53316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command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t as ASCII text over control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urn list of file in current direct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ieves (gets)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s (puts) file onto remote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85100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return co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us code and phrase (as in HTT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5 C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 open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0297FE-6E10-4919-B7D1-90717C7E2C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8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68E6BF-4842-47BB-86E1-C0C0A08A2C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3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4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775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6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777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5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7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788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789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790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5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796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8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9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800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1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2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4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805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7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8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809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0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1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2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823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8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829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0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1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2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833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4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5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7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838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1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842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3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4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5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856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1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862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3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4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5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866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7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8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0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871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2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3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4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875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6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7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9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890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5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906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1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922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7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9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940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2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943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5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946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8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949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950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1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2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4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955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956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7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8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961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962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3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4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6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967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968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9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0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2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973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974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5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6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979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980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1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A52F11-61B3-4E78-B0E0-E4095827DA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93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95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710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2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732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9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750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755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760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764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769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773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778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82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87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91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96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800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806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810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815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819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824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828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833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837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842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846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851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855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860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861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73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4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875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876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88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9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91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94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97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900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3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904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907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2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913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917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9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922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5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926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940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946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950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2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955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959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1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973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6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7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84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97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9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0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1008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1021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1032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1045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1048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1059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1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85104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1073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23800" y="1116000"/>
            <a:ext cx="4191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76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1077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86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95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74DA88-A3E6-46DC-A2A7-7C2D43321E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8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989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990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5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996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8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9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4000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2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4005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8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4009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1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2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4023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8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4029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1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2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4033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5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4038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1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4042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4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4056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1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4062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4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4066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0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4071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3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4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4075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7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8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9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4090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5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4106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4122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7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4140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2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4143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5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4146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8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4149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4150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1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2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4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4155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4156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7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0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4161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4162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3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4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6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4167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4168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9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0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2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4173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4174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5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6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4179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4180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1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2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E1FA65-EF0A-4D28-B264-038A3D7B3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6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,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D76EFC-5BA3-43D1-ADDB-6DA956D1E8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1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4192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4193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4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5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4198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3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204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6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7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208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0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2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213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5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217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9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231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6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237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9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0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241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3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5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246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8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9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250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2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3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7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268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3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84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285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286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1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2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313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314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5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6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05D651-84A5-4DC7-8D15-752F299B56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0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2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D9AA38C-9509-41A0-A4DA-BA23C5D717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050E0C-2FB8-4B22-AC5B-A43E2281DE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33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225BC8B-3ABF-4B8B-86AC-E672895FBF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8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5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6A0385F-1813-49E9-AE8B-669D0D46AE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8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349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4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355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7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8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359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1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3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364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6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7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368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0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382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7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388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1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392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4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6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397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9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0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401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3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4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sg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17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418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9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420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4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9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440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4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455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456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0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461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462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3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4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6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467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468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9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0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31BD12-D7DE-4208-89B1-24C227E3B2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4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7" name="Text Box 7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95A93C-E2E2-4FC5-94EB-C7BCCC7BB9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5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BEE187-F3FE-4B65-8BF7-B6A7A3894A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0B3070-59C3-4D6E-85D2-F2751FE51F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4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0F51E3-F842-4C70-9B31-2919F62800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7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CDE2107-B320-40D1-BCD2-3870ED7DDA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06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507" name="Text Box 11"/>
          <p:cNvSpPr/>
          <p:nvPr/>
        </p:nvSpPr>
        <p:spPr>
          <a:xfrm>
            <a:off x="486612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</a:t>
            </a:r>
            <a:r>
              <a:rPr b="0" i="1" lang="ja-JP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AF00EB-1417-4394-ADB0-22C6AFC00D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0" name="Group 23"/>
          <p:cNvGrpSpPr/>
          <p:nvPr/>
        </p:nvGrpSpPr>
        <p:grpSpPr>
          <a:xfrm>
            <a:off x="440280" y="1193760"/>
            <a:ext cx="8201160" cy="2445840"/>
            <a:chOff x="440280" y="1193760"/>
            <a:chExt cx="8201160" cy="2445840"/>
          </a:xfrm>
        </p:grpSpPr>
        <p:sp>
          <p:nvSpPr>
            <p:cNvPr id="4511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Text Box 14"/>
            <p:cNvSpPr/>
            <p:nvPr/>
          </p:nvSpPr>
          <p:spPr>
            <a:xfrm>
              <a:off x="44028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0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531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AC292F-FB70-425E-BCF3-2A794F1786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7" name="Rectangle 20"/>
          <p:cNvSpPr/>
          <p:nvPr/>
        </p:nvSpPr>
        <p:spPr>
          <a:xfrm>
            <a:off x="6186600" y="5022720"/>
            <a:ext cx="26812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9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540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1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552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3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4" name="Straight Arrow Connector 24"/>
          <p:cNvCxnSpPr>
            <a:stCxn id="4553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4618980-3E51-4754-A23D-131D504799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9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7BA26B-8AB6-48A7-A2E6-089DE47E2C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4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F6DC32D-B1DB-4209-9837-8C243C67B8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7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68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7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4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5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96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7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99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0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1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602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7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608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0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1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612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4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6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617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9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0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621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3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635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0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41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3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4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45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7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9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50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2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3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54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6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68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3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74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6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7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78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0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2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83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5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6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87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9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701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6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707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9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0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711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3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5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716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8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9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720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2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D68DF2-7084-4DCA-8E60-C8D4959B4B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recursive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0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751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3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9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760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2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763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4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5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766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7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8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769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4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775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7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8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779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1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3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784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6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7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788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0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1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802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7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808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0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1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812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4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6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817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9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0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821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3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4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835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0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841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3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4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845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7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9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850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2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3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854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6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7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868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3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874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6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7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878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0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2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883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5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6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887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9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809C167-88CD-48DA-99FB-5854E67D9D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2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B04844-E1EC-48E8-A22C-FABD3E8E5B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111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113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127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9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149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6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167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172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177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0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81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3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86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90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95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8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99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204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7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208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0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213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6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217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9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223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6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227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232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236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8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241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4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245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250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254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259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263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268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272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277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278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90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1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92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93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05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6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308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9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311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314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317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9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0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321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3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324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9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330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3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334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339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343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357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363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6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367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9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372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376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90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2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3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4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0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401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414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5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7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8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4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425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1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438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9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1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2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8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449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5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462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3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465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7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8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9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5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476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2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0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491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042777-A35D-44DE-B0C4-A577EBCE4B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b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0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5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EE8246-1F06-4EE8-9A95-13D6E76999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8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1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g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2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923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2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4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45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8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49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5FC56BF-FE13-40F0-8969-C79BE3E7C9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8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959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8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2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983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4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85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8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89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590467-041A-4149-BD83-D30B53FB63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4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98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Comic Sans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9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0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382927-3D44-4A99-945C-633A875C67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2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105084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932BF6-3F8C-462F-82C3-7CEA0483E3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08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688E33F-82FB-46CD-B525-F321E7A5E9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1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5012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3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5014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6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7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5028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9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30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9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5050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66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7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5068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5073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7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5078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1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5082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3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4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5087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0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5091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3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5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5096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9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5100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2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4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5105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8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5109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0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1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3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5114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7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5118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9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0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2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3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5124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7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5128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9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0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2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5133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6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5137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8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9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5142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5146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8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0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5151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4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5155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7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9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5160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3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5164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6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7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5168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1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5172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3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4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6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5177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5178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9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0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1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2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3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4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5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6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7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8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9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90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91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5192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5193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5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6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9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0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1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2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05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06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7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208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9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0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211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2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3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214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5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6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217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8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9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0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221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2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23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224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9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230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2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3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234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6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8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239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0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1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2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243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5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6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257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2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263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4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5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6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267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8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9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1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272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3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4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5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276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7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8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9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290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1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2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93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4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0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301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2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3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4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5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6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7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3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314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5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6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17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8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4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325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6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7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1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338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9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0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41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2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8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349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0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1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3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4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5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1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362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3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4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365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6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7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8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9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5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376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7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8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9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0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1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2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0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3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BAB02F-6C12-49F1-A5CB-FE5D795918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8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1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412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3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414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2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9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430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5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436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8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440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445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7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8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449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1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2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463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4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5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466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7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469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0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1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472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3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9E3063-BA89-4542-9BBF-DA2CA43AA9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N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8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2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483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2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503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8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509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1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2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513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5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7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518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0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1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522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4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5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536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7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8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539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0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542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3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4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545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6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3A39DD8-989E-47E9-BDED-CF1F742F52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1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3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554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ting max download rate) is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8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579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4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585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7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8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589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1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3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594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6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598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1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612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3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4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615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6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7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618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9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0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621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2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DFEA8D-36E7-4113-8784-9BA95404D7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97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99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1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2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513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4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5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4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535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1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2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553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7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558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0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563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6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567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9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572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5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576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8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81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4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85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7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9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90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3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94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6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99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2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603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5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609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2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613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5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618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622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4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627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0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631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5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636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9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640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2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4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645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8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649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654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7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658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0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2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663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664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76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7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678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679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91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2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3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94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5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6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97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8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9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700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1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703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4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5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6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707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8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9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710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5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716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9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720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725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7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729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1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743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8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749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1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2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753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5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7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758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1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762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4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776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8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9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0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6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87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3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9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800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1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2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3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4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811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7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824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5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6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7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4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835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1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7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848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9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851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2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3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4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5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1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862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6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5248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877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FE8FCC-6C0B-4C27-984B-A1EFD6CA47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5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7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Text Box 5"/>
          <p:cNvSpPr/>
          <p:nvPr/>
        </p:nvSpPr>
        <p:spPr>
          <a:xfrm>
            <a:off x="11880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9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1BDCCF-51A5-4CBE-A8AF-8D1EE755BA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3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8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649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1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652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3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654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7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8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659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4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665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7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8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669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1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3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674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6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7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678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0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1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692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3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4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695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6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7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698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9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0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701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2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3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704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5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6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707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8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9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710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1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2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713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4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5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716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7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5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5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1F291D-8471-499D-81E2-DD068C073D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1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2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723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5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736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737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0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741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6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747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9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0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751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3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5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756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8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9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760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2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3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774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5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6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777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8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9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780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1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2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783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4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5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786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7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8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789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0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1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792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3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4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795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6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7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798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9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437954-67A2-4BCB-814B-8A9335C575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23148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4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024E4D0-9D5E-4587-8BFC-D9D24664F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9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810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6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817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Text Box 26"/>
          <p:cNvSpPr/>
          <p:nvPr/>
        </p:nvSpPr>
        <p:spPr>
          <a:xfrm>
            <a:off x="60084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4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825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826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7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8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829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0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1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832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3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4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835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6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7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838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9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0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841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2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3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844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5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6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847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8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9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850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1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852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3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4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855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6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857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8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5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5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5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9" name="PlaceHolder 1"/>
          <p:cNvSpPr>
            <a:spLocks noGrp="1"/>
          </p:cNvSpPr>
          <p:nvPr>
            <p:ph type="title"/>
          </p:nvPr>
        </p:nvSpPr>
        <p:spPr>
          <a:xfrm>
            <a:off x="50004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stributed Hash Table (DHT)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0" name=""/>
          <p:cNvSpPr txBox="1"/>
          <p:nvPr/>
        </p:nvSpPr>
        <p:spPr>
          <a:xfrm>
            <a:off x="568440" y="1411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HT: a </a:t>
            </a:r>
            <a:r>
              <a:rPr b="0" i="1" lang="en-US" sz="3200" spc="-1" strike="noStrike">
                <a:solidFill>
                  <a:srgbClr val="c00000"/>
                </a:solidFill>
                <a:latin typeface="Gill Sans MT"/>
              </a:rPr>
              <a:t>distributed P2P data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base ha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(key, value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irs; example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: ss number; value: human 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: movie title; value: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ribute the (key, value) pairs over the (millions of pe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eer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quer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HT with k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T returns values that match the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ers can also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key, value) pa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1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FA7432F8-BE51-4601-BC9B-BFC493856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2" name="Picture 18" descr="underline_base"/>
          <p:cNvPicPr/>
          <p:nvPr/>
        </p:nvPicPr>
        <p:blipFill>
          <a:blip r:embed="rId1"/>
          <a:stretch/>
        </p:blipFill>
        <p:spPr>
          <a:xfrm>
            <a:off x="585720" y="99360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51120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Q: how to assign keys to peers?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4" name=""/>
          <p:cNvSpPr txBox="1"/>
          <p:nvPr/>
        </p:nvSpPr>
        <p:spPr>
          <a:xfrm>
            <a:off x="633240" y="1284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ntral issu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ing (key, value) pairs to pe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sic idea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 each key to an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integer to each pe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t (key,value) pair in the peer that is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clos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he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5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CBA58ECC-D9AB-4368-95CC-045806610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6" name="Picture 16" descr="underline_base"/>
          <p:cNvPicPr/>
          <p:nvPr/>
        </p:nvPicPr>
        <p:blipFill>
          <a:blip r:embed="rId1"/>
          <a:stretch/>
        </p:blipFill>
        <p:spPr>
          <a:xfrm>
            <a:off x="595440" y="90972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T identifiers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8" name=""/>
          <p:cNvSpPr txBox="1"/>
          <p:nvPr/>
        </p:nvSpPr>
        <p:spPr>
          <a:xfrm>
            <a:off x="457200" y="1455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ign integer identifier to each peer in range [0,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1] for som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dentifier represented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quire each key to be an integer in same r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get integer key, hash original k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d Zeppelin IV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why its is referred to as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istributed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ash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327B9F44-916F-419E-9F6C-577B4BC38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0" name="Picture 24" descr="underline_base"/>
          <p:cNvPicPr/>
          <p:nvPr/>
        </p:nvPicPr>
        <p:blipFill>
          <a:blip r:embed="rId1"/>
          <a:stretch/>
        </p:blipFill>
        <p:spPr>
          <a:xfrm>
            <a:off x="617400" y="104760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51120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ssign keys to peers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72" name=""/>
          <p:cNvSpPr txBox="1"/>
          <p:nvPr/>
        </p:nvSpPr>
        <p:spPr>
          <a:xfrm>
            <a:off x="633240" y="1284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: assign key to the peer that has the 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losest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vention in lecture: closest is the 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immediate successo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4; peers: 1,3,4,5,8,10,12,14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13, then successor peer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15, then successor peer =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3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B06B4446-BAEA-496C-B49A-F5615ABF77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4" name="Picture 36" descr="underline_base"/>
          <p:cNvPicPr/>
          <p:nvPr/>
        </p:nvPicPr>
        <p:blipFill>
          <a:blip r:embed="rId1"/>
          <a:stretch/>
        </p:blipFill>
        <p:spPr>
          <a:xfrm>
            <a:off x="442800" y="86508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5" name="Group 42"/>
          <p:cNvGrpSpPr/>
          <p:nvPr/>
        </p:nvGrpSpPr>
        <p:grpSpPr>
          <a:xfrm>
            <a:off x="2323080" y="1219320"/>
            <a:ext cx="3744720" cy="3660480"/>
            <a:chOff x="2323080" y="1219320"/>
            <a:chExt cx="3744720" cy="3660480"/>
          </a:xfrm>
        </p:grpSpPr>
        <p:sp>
          <p:nvSpPr>
            <p:cNvPr id="5876" name="Oval 3"/>
            <p:cNvSpPr/>
            <p:nvPr/>
          </p:nvSpPr>
          <p:spPr>
            <a:xfrm>
              <a:off x="4166280" y="4334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Oval 4"/>
            <p:cNvSpPr/>
            <p:nvPr/>
          </p:nvSpPr>
          <p:spPr>
            <a:xfrm>
              <a:off x="2807280" y="2433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Oval 5"/>
            <p:cNvSpPr/>
            <p:nvPr/>
          </p:nvSpPr>
          <p:spPr>
            <a:xfrm>
              <a:off x="2831760" y="3521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Oval 6"/>
            <p:cNvSpPr/>
            <p:nvPr/>
          </p:nvSpPr>
          <p:spPr>
            <a:xfrm>
              <a:off x="5361480" y="2128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Oval 7"/>
            <p:cNvSpPr/>
            <p:nvPr/>
          </p:nvSpPr>
          <p:spPr>
            <a:xfrm>
              <a:off x="5654880" y="3000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Oval 8"/>
            <p:cNvSpPr/>
            <p:nvPr/>
          </p:nvSpPr>
          <p:spPr>
            <a:xfrm>
              <a:off x="5376240" y="37353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Oval 9"/>
            <p:cNvSpPr/>
            <p:nvPr/>
          </p:nvSpPr>
          <p:spPr>
            <a:xfrm>
              <a:off x="3363480" y="40914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Oval 10"/>
            <p:cNvSpPr/>
            <p:nvPr/>
          </p:nvSpPr>
          <p:spPr>
            <a:xfrm>
              <a:off x="2748600" y="15933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Text Box 11"/>
            <p:cNvSpPr/>
            <p:nvPr/>
          </p:nvSpPr>
          <p:spPr>
            <a:xfrm>
              <a:off x="4270320" y="121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Rectangle 12"/>
            <p:cNvSpPr/>
            <p:nvPr/>
          </p:nvSpPr>
          <p:spPr>
            <a:xfrm>
              <a:off x="5489280" y="205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3"/>
            <p:cNvSpPr/>
            <p:nvPr/>
          </p:nvSpPr>
          <p:spPr>
            <a:xfrm>
              <a:off x="5717880" y="28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Rectangle 14"/>
            <p:cNvSpPr/>
            <p:nvPr/>
          </p:nvSpPr>
          <p:spPr>
            <a:xfrm>
              <a:off x="5489280" y="365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Rectangle 15"/>
            <p:cNvSpPr/>
            <p:nvPr/>
          </p:nvSpPr>
          <p:spPr>
            <a:xfrm>
              <a:off x="4118040" y="442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16"/>
            <p:cNvSpPr/>
            <p:nvPr/>
          </p:nvSpPr>
          <p:spPr>
            <a:xfrm>
              <a:off x="3052080" y="419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17"/>
            <p:cNvSpPr/>
            <p:nvPr/>
          </p:nvSpPr>
          <p:spPr>
            <a:xfrm>
              <a:off x="2394720" y="342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18"/>
            <p:cNvSpPr/>
            <p:nvPr/>
          </p:nvSpPr>
          <p:spPr>
            <a:xfrm>
              <a:off x="2323080" y="2210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Oval 28"/>
            <p:cNvSpPr/>
            <p:nvPr/>
          </p:nvSpPr>
          <p:spPr>
            <a:xfrm>
              <a:off x="4284720" y="1553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3" name="Straight Connector 63"/>
          <p:cNvSpPr/>
          <p:nvPr/>
        </p:nvSpPr>
        <p:spPr>
          <a:xfrm>
            <a:off x="411480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Straight Connector 65"/>
          <p:cNvSpPr/>
          <p:nvPr/>
        </p:nvSpPr>
        <p:spPr>
          <a:xfrm flipH="1">
            <a:off x="4191120" y="159948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 (1)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96" name=""/>
          <p:cNvSpPr txBox="1"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e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ware of immediate successor and predecess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lay network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7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15A51F52-6D30-4E08-95BD-8AC82B570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8" name="Picture 23" descr="underline_base"/>
          <p:cNvPicPr/>
          <p:nvPr/>
        </p:nvPicPr>
        <p:blipFill>
          <a:blip r:embed="rId1"/>
          <a:stretch/>
        </p:blipFill>
        <p:spPr>
          <a:xfrm>
            <a:off x="558720" y="8762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2128FE5-A322-4031-9CE3-6B5A4AD8F1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6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88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9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Text Box 11"/>
          <p:cNvSpPr/>
          <p:nvPr/>
        </p:nvSpPr>
        <p:spPr>
          <a:xfrm>
            <a:off x="4611600" y="16527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Rectangle 12"/>
          <p:cNvSpPr/>
          <p:nvPr/>
        </p:nvSpPr>
        <p:spPr>
          <a:xfrm>
            <a:off x="5556960" y="2514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Rectangle 13"/>
          <p:cNvSpPr/>
          <p:nvPr/>
        </p:nvSpPr>
        <p:spPr>
          <a:xfrm>
            <a:off x="6794280" y="3890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Rectangle 14"/>
          <p:cNvSpPr/>
          <p:nvPr/>
        </p:nvSpPr>
        <p:spPr>
          <a:xfrm>
            <a:off x="6500520" y="489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Rectangle 15"/>
          <p:cNvSpPr/>
          <p:nvPr/>
        </p:nvSpPr>
        <p:spPr>
          <a:xfrm>
            <a:off x="4873320" y="5850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Rectangle 16"/>
          <p:cNvSpPr/>
          <p:nvPr/>
        </p:nvSpPr>
        <p:spPr>
          <a:xfrm>
            <a:off x="3074760" y="56102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Rectangle 17"/>
          <p:cNvSpPr/>
          <p:nvPr/>
        </p:nvSpPr>
        <p:spPr>
          <a:xfrm>
            <a:off x="2243880" y="4510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Rectangle 18"/>
          <p:cNvSpPr/>
          <p:nvPr/>
        </p:nvSpPr>
        <p:spPr>
          <a:xfrm>
            <a:off x="2190600" y="29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5" name="Group 19"/>
          <p:cNvGrpSpPr/>
          <p:nvPr/>
        </p:nvGrpSpPr>
        <p:grpSpPr>
          <a:xfrm>
            <a:off x="6616800" y="1676520"/>
            <a:ext cx="2299680" cy="993240"/>
            <a:chOff x="6616800" y="1676520"/>
            <a:chExt cx="2299680" cy="993240"/>
          </a:xfrm>
        </p:grpSpPr>
        <p:sp>
          <p:nvSpPr>
            <p:cNvPr id="5916" name="AutoShape 20"/>
            <p:cNvSpPr/>
            <p:nvPr/>
          </p:nvSpPr>
          <p:spPr>
            <a:xfrm>
              <a:off x="6616800" y="1676520"/>
              <a:ext cx="2278080" cy="99324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Text Box 21"/>
            <p:cNvSpPr/>
            <p:nvPr/>
          </p:nvSpPr>
          <p:spPr>
            <a:xfrm>
              <a:off x="6652440" y="1881720"/>
              <a:ext cx="226404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Who</a:t>
              </a:r>
              <a:r>
                <a:rPr b="0" lang="ja-JP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’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s respo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for key 1110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8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5" name="Group 29"/>
          <p:cNvGrpSpPr/>
          <p:nvPr/>
        </p:nvGrpSpPr>
        <p:grpSpPr>
          <a:xfrm>
            <a:off x="2968560" y="2252520"/>
            <a:ext cx="3049560" cy="933120"/>
            <a:chOff x="2968560" y="2252520"/>
            <a:chExt cx="3049560" cy="933120"/>
          </a:xfrm>
        </p:grpSpPr>
        <p:grpSp>
          <p:nvGrpSpPr>
            <p:cNvPr id="5926" name="Group 30"/>
            <p:cNvGrpSpPr/>
            <p:nvPr/>
          </p:nvGrpSpPr>
          <p:grpSpPr>
            <a:xfrm>
              <a:off x="2968560" y="2252520"/>
              <a:ext cx="3049560" cy="933120"/>
              <a:chOff x="2968560" y="2252520"/>
              <a:chExt cx="3049560" cy="933120"/>
            </a:xfrm>
          </p:grpSpPr>
          <p:sp>
            <p:nvSpPr>
              <p:cNvPr id="5927" name="Line 31"/>
              <p:cNvSpPr/>
              <p:nvPr/>
            </p:nvSpPr>
            <p:spPr>
              <a:xfrm flipV="1">
                <a:off x="3081240" y="2877840"/>
                <a:ext cx="2936880" cy="307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AutoShape 32"/>
              <p:cNvSpPr/>
              <p:nvPr/>
            </p:nvSpPr>
            <p:spPr>
              <a:xfrm>
                <a:off x="2968560" y="2252520"/>
                <a:ext cx="1096920" cy="609840"/>
              </a:xfrm>
              <a:prstGeom prst="wedgeRoundRectCallout">
                <a:avLst>
                  <a:gd name="adj1" fmla="val 17439"/>
                  <a:gd name="adj2" fmla="val 8775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9" name="Text Box 33"/>
            <p:cNvSpPr/>
            <p:nvPr/>
          </p:nvSpPr>
          <p:spPr>
            <a:xfrm>
              <a:off x="3029040" y="22716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I 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0" name="Text Box 34"/>
          <p:cNvSpPr/>
          <p:nvPr/>
        </p:nvSpPr>
        <p:spPr>
          <a:xfrm>
            <a:off x="32040" y="1273320"/>
            <a:ext cx="346500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avgerage to re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ery, when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Text Box 36"/>
          <p:cNvSpPr/>
          <p:nvPr/>
        </p:nvSpPr>
        <p:spPr>
          <a:xfrm>
            <a:off x="5942880" y="3429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Text Box 37"/>
          <p:cNvSpPr/>
          <p:nvPr/>
        </p:nvSpPr>
        <p:spPr>
          <a:xfrm>
            <a:off x="5942880" y="4343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Text Box 38"/>
          <p:cNvSpPr/>
          <p:nvPr/>
        </p:nvSpPr>
        <p:spPr>
          <a:xfrm>
            <a:off x="5181120" y="5105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Text Box 39"/>
          <p:cNvSpPr/>
          <p:nvPr/>
        </p:nvSpPr>
        <p:spPr>
          <a:xfrm>
            <a:off x="4114080" y="5410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Text Box 40"/>
          <p:cNvSpPr/>
          <p:nvPr/>
        </p:nvSpPr>
        <p:spPr>
          <a:xfrm>
            <a:off x="3352320" y="4952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Text Box 41"/>
          <p:cNvSpPr/>
          <p:nvPr/>
        </p:nvSpPr>
        <p:spPr>
          <a:xfrm>
            <a:off x="2971080" y="396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Text Box 42"/>
          <p:cNvSpPr/>
          <p:nvPr/>
        </p:nvSpPr>
        <p:spPr>
          <a:xfrm>
            <a:off x="372240" y="5375160"/>
            <a:ext cx="17809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Defin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losest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s closest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c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312D59D7-77B7-4A18-990F-8D91E40F7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 (1)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pic>
        <p:nvPicPr>
          <p:cNvPr id="5940" name="Picture 23" descr="underline_base"/>
          <p:cNvPicPr/>
          <p:nvPr/>
        </p:nvPicPr>
        <p:blipFill>
          <a:blip r:embed="rId1"/>
          <a:stretch/>
        </p:blipFill>
        <p:spPr>
          <a:xfrm>
            <a:off x="558720" y="8762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5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lar DHT with shortcuts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942" name=""/>
          <p:cNvSpPr txBox="1"/>
          <p:nvPr/>
        </p:nvSpPr>
        <p:spPr>
          <a:xfrm>
            <a:off x="647640" y="466740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eeps track of IP addresses of predecessor, successor, short cu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uced from 6 to 2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sible to design shortcuts s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 in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43" name="Group 66"/>
          <p:cNvGrpSpPr/>
          <p:nvPr/>
        </p:nvGrpSpPr>
        <p:grpSpPr>
          <a:xfrm>
            <a:off x="2246760" y="914400"/>
            <a:ext cx="3744720" cy="3660480"/>
            <a:chOff x="2246760" y="914400"/>
            <a:chExt cx="3744720" cy="3660480"/>
          </a:xfrm>
        </p:grpSpPr>
        <p:grpSp>
          <p:nvGrpSpPr>
            <p:cNvPr id="5944" name="Group 43"/>
            <p:cNvGrpSpPr/>
            <p:nvPr/>
          </p:nvGrpSpPr>
          <p:grpSpPr>
            <a:xfrm>
              <a:off x="2246760" y="914400"/>
              <a:ext cx="3744720" cy="3660480"/>
              <a:chOff x="2246760" y="914400"/>
              <a:chExt cx="3744720" cy="3660480"/>
            </a:xfrm>
          </p:grpSpPr>
          <p:sp>
            <p:nvSpPr>
              <p:cNvPr id="5945" name="Oval 3"/>
              <p:cNvSpPr/>
              <p:nvPr/>
            </p:nvSpPr>
            <p:spPr>
              <a:xfrm>
                <a:off x="4089960" y="4029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Oval 4"/>
              <p:cNvSpPr/>
              <p:nvPr/>
            </p:nvSpPr>
            <p:spPr>
              <a:xfrm>
                <a:off x="2730960" y="2128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Oval 5"/>
              <p:cNvSpPr/>
              <p:nvPr/>
            </p:nvSpPr>
            <p:spPr>
              <a:xfrm>
                <a:off x="275544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Oval 7"/>
              <p:cNvSpPr/>
              <p:nvPr/>
            </p:nvSpPr>
            <p:spPr>
              <a:xfrm>
                <a:off x="557856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Oval 8"/>
              <p:cNvSpPr/>
              <p:nvPr/>
            </p:nvSpPr>
            <p:spPr>
              <a:xfrm>
                <a:off x="5299920" y="34304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Oval 9"/>
              <p:cNvSpPr/>
              <p:nvPr/>
            </p:nvSpPr>
            <p:spPr>
              <a:xfrm>
                <a:off x="3287160" y="37864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Oval 10"/>
              <p:cNvSpPr/>
              <p:nvPr/>
            </p:nvSpPr>
            <p:spPr>
              <a:xfrm>
                <a:off x="2672280" y="1288440"/>
                <a:ext cx="2926800" cy="2793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Text Box 11"/>
              <p:cNvSpPr/>
              <p:nvPr/>
            </p:nvSpPr>
            <p:spPr>
              <a:xfrm>
                <a:off x="4194000" y="914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Rectangle 12"/>
              <p:cNvSpPr/>
              <p:nvPr/>
            </p:nvSpPr>
            <p:spPr>
              <a:xfrm>
                <a:off x="5320440" y="1523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Rectangle 13"/>
              <p:cNvSpPr/>
              <p:nvPr/>
            </p:nvSpPr>
            <p:spPr>
              <a:xfrm>
                <a:off x="5641560" y="259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Rectangle 14"/>
              <p:cNvSpPr/>
              <p:nvPr/>
            </p:nvSpPr>
            <p:spPr>
              <a:xfrm>
                <a:off x="5412960" y="335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Rectangle 15"/>
              <p:cNvSpPr/>
              <p:nvPr/>
            </p:nvSpPr>
            <p:spPr>
              <a:xfrm>
                <a:off x="4041720" y="4115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Rectangle 16"/>
              <p:cNvSpPr/>
              <p:nvPr/>
            </p:nvSpPr>
            <p:spPr>
              <a:xfrm>
                <a:off x="2975760" y="3886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Rectangle 17"/>
              <p:cNvSpPr/>
              <p:nvPr/>
            </p:nvSpPr>
            <p:spPr>
              <a:xfrm>
                <a:off x="2282400" y="31244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Rectangle 18"/>
              <p:cNvSpPr/>
              <p:nvPr/>
            </p:nvSpPr>
            <p:spPr>
              <a:xfrm>
                <a:off x="2246760" y="1905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962" name="Straight Arrow Connector 79"/>
            <p:cNvCxnSpPr>
              <a:endCxn id="5951" idx="7"/>
            </p:cNvCxnSpPr>
            <p:nvPr/>
          </p:nvCxnSpPr>
          <p:spPr>
            <a:xfrm flipH="1">
              <a:off x="336816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3" name="Straight Arrow Connector 86"/>
            <p:cNvCxnSpPr>
              <a:stCxn id="5950" idx="1"/>
              <a:endCxn id="5947" idx="6"/>
            </p:cNvCxnSpPr>
            <p:nvPr/>
          </p:nvCxnSpPr>
          <p:spPr>
            <a:xfrm flipH="1" flipV="1">
              <a:off x="2850840" y="3265200"/>
              <a:ext cx="246312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4" name="Straight Arrow Connector 89"/>
            <p:cNvCxnSpPr>
              <a:stCxn id="5945" idx="0"/>
            </p:cNvCxnSpPr>
            <p:nvPr/>
          </p:nvCxnSpPr>
          <p:spPr>
            <a:xfrm flipH="1" flipV="1">
              <a:off x="2818800" y="2209320"/>
              <a:ext cx="1319760" cy="18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5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6" name="Straight Arrow Connector 95"/>
            <p:cNvCxnSpPr>
              <a:stCxn id="5947" idx="7"/>
            </p:cNvCxnSpPr>
            <p:nvPr/>
          </p:nvCxnSpPr>
          <p:spPr>
            <a:xfrm flipV="1">
              <a:off x="2835720" y="1904400"/>
              <a:ext cx="249804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7" name="Straight Arrow Connector 100"/>
            <p:cNvCxnSpPr>
              <a:endCxn id="5952" idx="6"/>
            </p:cNvCxnSpPr>
            <p:nvPr/>
          </p:nvCxnSpPr>
          <p:spPr>
            <a:xfrm>
              <a:off x="2819160" y="2177640"/>
              <a:ext cx="278064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8" name="Straight Arrow Connector 103"/>
            <p:cNvCxnSpPr>
              <a:stCxn id="5961" idx="5"/>
            </p:cNvCxnSpPr>
            <p:nvPr/>
          </p:nvCxnSpPr>
          <p:spPr>
            <a:xfrm>
              <a:off x="428976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9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5970" name="Straight Arrow Connector 33"/>
          <p:cNvCxnSpPr/>
          <p:nvPr/>
        </p:nvCxnSpPr>
        <p:spPr>
          <a:xfrm flipH="1">
            <a:off x="4342680" y="1980720"/>
            <a:ext cx="1143720" cy="2134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71" name="Straight Arrow Connector 35"/>
          <p:cNvCxnSpPr/>
          <p:nvPr/>
        </p:nvCxnSpPr>
        <p:spPr>
          <a:xfrm flipH="1" flipV="1">
            <a:off x="2742480" y="2285640"/>
            <a:ext cx="1220040" cy="1829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5972" name="Group 19"/>
          <p:cNvGrpSpPr/>
          <p:nvPr/>
        </p:nvGrpSpPr>
        <p:grpSpPr>
          <a:xfrm>
            <a:off x="5694480" y="1030320"/>
            <a:ext cx="2486880" cy="860400"/>
            <a:chOff x="5694480" y="1030320"/>
            <a:chExt cx="2486880" cy="860400"/>
          </a:xfrm>
        </p:grpSpPr>
        <p:sp>
          <p:nvSpPr>
            <p:cNvPr id="5973" name="AutoShape 20"/>
            <p:cNvSpPr/>
            <p:nvPr/>
          </p:nvSpPr>
          <p:spPr>
            <a:xfrm>
              <a:off x="5694480" y="1030320"/>
              <a:ext cx="23929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Text Box 21"/>
            <p:cNvSpPr/>
            <p:nvPr/>
          </p:nvSpPr>
          <p:spPr>
            <a:xfrm>
              <a:off x="5806080" y="1104840"/>
              <a:ext cx="2375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Who</a:t>
              </a:r>
              <a:r>
                <a:rPr b="0" lang="ja-JP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s responsib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or key 1110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5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EBBB169C-531E-4D86-8CC1-4609BE0B4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6" name="Picture 19" descr="underline_base"/>
          <p:cNvPicPr/>
          <p:nvPr/>
        </p:nvPicPr>
        <p:blipFill>
          <a:blip r:embed="rId1"/>
          <a:stretch/>
        </p:blipFill>
        <p:spPr>
          <a:xfrm>
            <a:off x="312840" y="8096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5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5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eer churn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978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Gill Sans MT"/>
              </a:rPr>
              <a:t>example: peer 5 abruptly leav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er 4 detects peer 5 departure; makes 8 its immediate successor; asks 8 who its immediate successor is; makes 8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immediate successor its second successor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f peer 13 wants to join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79" name="Group 42"/>
          <p:cNvGrpSpPr/>
          <p:nvPr/>
        </p:nvGrpSpPr>
        <p:grpSpPr>
          <a:xfrm>
            <a:off x="262440" y="814320"/>
            <a:ext cx="3744720" cy="3660480"/>
            <a:chOff x="262440" y="814320"/>
            <a:chExt cx="3744720" cy="3660480"/>
          </a:xfrm>
        </p:grpSpPr>
        <p:sp>
          <p:nvSpPr>
            <p:cNvPr id="5980" name="Oval 3"/>
            <p:cNvSpPr/>
            <p:nvPr/>
          </p:nvSpPr>
          <p:spPr>
            <a:xfrm>
              <a:off x="2105640" y="3929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Oval 4"/>
            <p:cNvSpPr/>
            <p:nvPr/>
          </p:nvSpPr>
          <p:spPr>
            <a:xfrm>
              <a:off x="746640" y="2028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Oval 5"/>
            <p:cNvSpPr/>
            <p:nvPr/>
          </p:nvSpPr>
          <p:spPr>
            <a:xfrm>
              <a:off x="77112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Oval 8"/>
            <p:cNvSpPr/>
            <p:nvPr/>
          </p:nvSpPr>
          <p:spPr>
            <a:xfrm>
              <a:off x="3315600" y="33303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Oval 9"/>
            <p:cNvSpPr/>
            <p:nvPr/>
          </p:nvSpPr>
          <p:spPr>
            <a:xfrm>
              <a:off x="1302840" y="36864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Oval 10"/>
            <p:cNvSpPr/>
            <p:nvPr/>
          </p:nvSpPr>
          <p:spPr>
            <a:xfrm>
              <a:off x="687960" y="11883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Text Box 11"/>
            <p:cNvSpPr/>
            <p:nvPr/>
          </p:nvSpPr>
          <p:spPr>
            <a:xfrm>
              <a:off x="2209680" y="81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Rectangle 12"/>
            <p:cNvSpPr/>
            <p:nvPr/>
          </p:nvSpPr>
          <p:spPr>
            <a:xfrm>
              <a:off x="3428640" y="165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Rectangle 13"/>
            <p:cNvSpPr/>
            <p:nvPr/>
          </p:nvSpPr>
          <p:spPr>
            <a:xfrm>
              <a:off x="3657240" y="2490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Rectangle 14"/>
            <p:cNvSpPr/>
            <p:nvPr/>
          </p:nvSpPr>
          <p:spPr>
            <a:xfrm>
              <a:off x="3428640" y="325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Rectangle 15"/>
            <p:cNvSpPr/>
            <p:nvPr/>
          </p:nvSpPr>
          <p:spPr>
            <a:xfrm>
              <a:off x="2057400" y="4015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Rectangle 16"/>
            <p:cNvSpPr/>
            <p:nvPr/>
          </p:nvSpPr>
          <p:spPr>
            <a:xfrm>
              <a:off x="991440" y="3786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Rectangle 17"/>
            <p:cNvSpPr/>
            <p:nvPr/>
          </p:nvSpPr>
          <p:spPr>
            <a:xfrm>
              <a:off x="286200" y="3024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Rectangle 18"/>
            <p:cNvSpPr/>
            <p:nvPr/>
          </p:nvSpPr>
          <p:spPr>
            <a:xfrm>
              <a:off x="262440" y="1805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7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Straight Connector 26"/>
          <p:cNvSpPr/>
          <p:nvPr/>
        </p:nvSpPr>
        <p:spPr>
          <a:xfrm flipH="1">
            <a:off x="3196800" y="3252960"/>
            <a:ext cx="4064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TextBox 28"/>
          <p:cNvSpPr/>
          <p:nvPr/>
        </p:nvSpPr>
        <p:spPr>
          <a:xfrm>
            <a:off x="4491000" y="544680"/>
            <a:ext cx="442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ndling peer chu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may come and go (ch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nows address of its two succes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periodically ping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successors to check al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mmediate successor leaves, choose next successor as new immediat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2" name="Straight Arrow Connector 30"/>
          <p:cNvCxnSpPr>
            <a:stCxn id="5990" idx="1"/>
          </p:cNvCxnSpPr>
          <p:nvPr/>
        </p:nvCxnSpPr>
        <p:spPr>
          <a:xfrm flipH="1">
            <a:off x="3206160" y="2722680"/>
            <a:ext cx="448200" cy="265680"/>
          </a:xfrm>
          <a:prstGeom prst="straightConnector1">
            <a:avLst/>
          </a:prstGeom>
          <a:ln w="0">
            <a:noFill/>
          </a:ln>
        </p:spPr>
      </p:cxnSp>
      <p:sp>
        <p:nvSpPr>
          <p:cNvPr id="6003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F10AFC64-FA35-4DBE-817A-AFA170D61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4" name="Picture 24" descr="underline_base"/>
          <p:cNvPicPr/>
          <p:nvPr/>
        </p:nvPicPr>
        <p:blipFill>
          <a:blip r:embed="rId1"/>
          <a:stretch/>
        </p:blipFill>
        <p:spPr>
          <a:xfrm>
            <a:off x="438120" y="797040"/>
            <a:ext cx="26845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CD6E6F0-28B5-4B6A-8B75-BC28181EC2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8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9" name="PlaceHolder 3"/>
          <p:cNvSpPr>
            <a:spLocks noGrp="1"/>
          </p:cNvSpPr>
          <p:nvPr>
            <p:ph/>
          </p:nvPr>
        </p:nvSpPr>
        <p:spPr>
          <a:xfrm>
            <a:off x="4673160" y="163656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10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642133-B698-4A25-AB06-524B1C7D8A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4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015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6016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5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6036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0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2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6053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7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3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6064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5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6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6067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8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9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E1BBAA-4AAB-48C4-A138-AE23A502ED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74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6075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lient reads a line of characters (data) from its keyboard and sends the data to th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server receives the data and converts characters to upper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server sends the modified data to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client receives the modified data and displays the line on its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55DE7EF-5722-49A2-B04D-0099D3B62F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8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07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80" name="PlaceHolder 2"/>
          <p:cNvSpPr>
            <a:spLocks noGrp="1"/>
          </p:cNvSpPr>
          <p:nvPr>
            <p:ph/>
          </p:nvPr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1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083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6084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6085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8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9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6090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6091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3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7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9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6100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2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6103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6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B2569B3D-6667-43E5-A615-A8C4CD57E3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7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108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27945E-C255-4F7F-AD77-3E83E00834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TextBox 1"/>
          <p:cNvSpPr/>
          <p:nvPr/>
        </p:nvSpPr>
        <p:spPr>
          <a:xfrm>
            <a:off x="2735640" y="1650960"/>
            <a:ext cx="610596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socket.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et.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,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7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6118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0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6121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3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6124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6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6127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Straight Connector 39"/>
            <p:cNvSpPr/>
            <p:nvPr/>
          </p:nvSpPr>
          <p:spPr>
            <a:xfrm>
              <a:off x="2069640" y="4444200"/>
              <a:ext cx="6656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9" name="Group 55"/>
          <p:cNvGrpSpPr/>
          <p:nvPr/>
        </p:nvGrpSpPr>
        <p:grpSpPr>
          <a:xfrm>
            <a:off x="214200" y="5472000"/>
            <a:ext cx="2511360" cy="520200"/>
            <a:chOff x="214200" y="5472000"/>
            <a:chExt cx="2511360" cy="520200"/>
          </a:xfrm>
        </p:grpSpPr>
        <p:sp>
          <p:nvSpPr>
            <p:cNvPr id="6130" name="TextBox 61"/>
            <p:cNvSpPr/>
            <p:nvPr/>
          </p:nvSpPr>
          <p:spPr>
            <a:xfrm>
              <a:off x="214200" y="547200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Straight Connector 62"/>
            <p:cNvSpPr/>
            <p:nvPr/>
          </p:nvSpPr>
          <p:spPr>
            <a:xfrm>
              <a:off x="2229840" y="565776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2" name="Group 54"/>
          <p:cNvGrpSpPr/>
          <p:nvPr/>
        </p:nvGrpSpPr>
        <p:grpSpPr>
          <a:xfrm>
            <a:off x="-157320" y="4530600"/>
            <a:ext cx="2900520" cy="676440"/>
            <a:chOff x="-157320" y="4530600"/>
            <a:chExt cx="2900520" cy="676440"/>
          </a:xfrm>
        </p:grpSpPr>
        <p:sp>
          <p:nvSpPr>
            <p:cNvPr id="6133" name="TextBox 56"/>
            <p:cNvSpPr/>
            <p:nvPr/>
          </p:nvSpPr>
          <p:spPr>
            <a:xfrm>
              <a:off x="192600" y="464256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Straight Connector 59"/>
            <p:cNvSpPr/>
            <p:nvPr/>
          </p:nvSpPr>
          <p:spPr>
            <a:xfrm flipV="1">
              <a:off x="2415960" y="483048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TextBox 53"/>
            <p:cNvSpPr/>
            <p:nvPr/>
          </p:nvSpPr>
          <p:spPr>
            <a:xfrm>
              <a:off x="-157320" y="453060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6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6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6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6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6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3D42953-7EA7-409D-8996-61F3D41517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TextBox 1"/>
          <p:cNvSpPr/>
          <p:nvPr/>
        </p:nvSpPr>
        <p:spPr>
          <a:xfrm>
            <a:off x="2757960" y="1650960"/>
            <a:ext cx="60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, 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2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6143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5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6146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8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6149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1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6152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4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6155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7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6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6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6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6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6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romain</cp:lastModifiedBy>
  <cp:lastPrinted>2011-09-19T12:20:55Z</cp:lastPrinted>
  <dcterms:modified xsi:type="dcterms:W3CDTF">2013-08-28T02:58:32Z</dcterms:modified>
  <cp:revision>307</cp:revision>
  <dc:subject/>
  <dc:title>3rd Edition: Chapter 2</dc:title>
</cp:coreProperties>
</file>